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8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9EB96-39DF-4379-9BEE-11D78A248E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DED66-A9A2-496D-A9F7-2A6FFF62CB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97DD9-A6DB-49A5-B9C8-93460AFFFF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AFF53-6566-4030-8D10-98EF220E9C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549000"/>
            <a:ext cx="8218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E9BA4-CBB3-4831-9196-58E7D5F372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AF7F8-BC0A-4412-A7AC-9A1FA4D6A7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8E2D3-11BA-430E-93B9-9A189A3666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8065E-4BC1-4CE5-AD0A-DC47067FC7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549000"/>
            <a:ext cx="8218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67D2A-01A3-4356-9F7D-62D5420AF7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5365E-74FB-464A-AD4A-030EBE68BD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A3BA3-8588-4A82-A572-89E07FC658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21E59-7C74-4C52-9C94-E9FB90995B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7920"/>
            <a:ext cx="9163080" cy="683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0079-12AC-4DED-857D-ED41E4EF1607}" type="slidenum"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971640" y="189000"/>
            <a:ext cx="576000" cy="360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395280" y="189000"/>
            <a:ext cx="50472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40" y="7920"/>
            <a:ext cx="9163080" cy="6831000"/>
          </a:xfrm>
          <a:prstGeom prst="rect">
            <a:avLst/>
          </a:prstGeom>
          <a:ln w="9360">
            <a:solidFill>
              <a:srgbClr val="eaf0ff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808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image" Target="../media/image5.wmf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50920" y="4389480"/>
            <a:ext cx="64008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MINA Final Workshop September, 28 - 30 2009, Hohenkammer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K.-J. Röhlig (TU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50920" y="1486080"/>
            <a:ext cx="6337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b4ccea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MINA</a:t>
            </a:r>
            <a:endParaRPr b="0" lang="en-US" sz="1800" spc="1" strike="noStrike">
              <a:ln w="28440">
                <a:solidFill>
                  <a:srgbClr val="b4ccea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 rot="20461200">
            <a:off x="5013360" y="907560"/>
            <a:ext cx="4211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... and beyond</a:t>
            </a:r>
            <a:endParaRPr b="0" lang="en-US" sz="2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708360" y="2781360"/>
            <a:ext cx="2016000" cy="1260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835280" y="2781360"/>
            <a:ext cx="176508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916360" y="0"/>
            <a:ext cx="63324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AEA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AM / IS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AD95B-DC1D-4FFB-81FA-9E547A9EEA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AEA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AM / IS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of Safety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147840" y="3706920"/>
            <a:ext cx="1017720" cy="139068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8" name=""/>
          <p:cNvSpPr/>
          <p:nvPr/>
        </p:nvSpPr>
        <p:spPr>
          <a:xfrm>
            <a:off x="3132000" y="4222800"/>
            <a:ext cx="1025640" cy="246240"/>
          </a:xfrm>
          <a:prstGeom prst="rect">
            <a:avLst/>
          </a:prstGeom>
          <a:solidFill>
            <a:srgbClr val="ffcc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4d4d4d"/>
                </a:solidFill>
                <a:latin typeface="Arial"/>
              </a:rPr>
              <a:t>Dispos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51080" y="4700520"/>
            <a:ext cx="97632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DS 3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68360" y="3670200"/>
            <a:ext cx="1017720" cy="1397160"/>
            <a:chOff x="468360" y="3670200"/>
            <a:chExt cx="1017720" cy="1397160"/>
          </a:xfrm>
        </p:grpSpPr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468360" y="3670200"/>
              <a:ext cx="1017720" cy="1397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</p:pic>
        <p:sp>
          <p:nvSpPr>
            <p:cNvPr id="132" name=""/>
            <p:cNvSpPr txBox="1"/>
            <p:nvPr/>
          </p:nvSpPr>
          <p:spPr>
            <a:xfrm>
              <a:off x="468360" y="3670200"/>
              <a:ext cx="1017720" cy="1397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57120" indent="-357120">
                <a:spcBef>
                  <a:spcPts val="601"/>
                </a:spcBef>
                <a:buClr>
                  <a:srgbClr val="808080"/>
                </a:buClr>
                <a:buFont typeface="Arial"/>
                <a:buChar char="•"/>
                <a:tabLst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219640" y="2205000"/>
            <a:ext cx="1022400" cy="140652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792440" y="3672000"/>
            <a:ext cx="1017360" cy="139068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35" name=""/>
          <p:cNvGrpSpPr/>
          <p:nvPr/>
        </p:nvGrpSpPr>
        <p:grpSpPr>
          <a:xfrm>
            <a:off x="4543560" y="5300640"/>
            <a:ext cx="1036440" cy="1370160"/>
            <a:chOff x="4543560" y="5300640"/>
            <a:chExt cx="1036440" cy="1370160"/>
          </a:xfrm>
        </p:grpSpPr>
        <p:grpSp>
          <p:nvGrpSpPr>
            <p:cNvPr id="136" name=""/>
            <p:cNvGrpSpPr/>
            <p:nvPr/>
          </p:nvGrpSpPr>
          <p:grpSpPr>
            <a:xfrm>
              <a:off x="4543560" y="5300640"/>
              <a:ext cx="1036440" cy="1370160"/>
              <a:chOff x="4543560" y="5300640"/>
              <a:chExt cx="1036440" cy="1370160"/>
            </a:xfrm>
          </p:grpSpPr>
          <p:pic>
            <p:nvPicPr>
              <p:cNvPr id="13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547880" y="5300640"/>
                <a:ext cx="1029600" cy="13701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</p:pic>
          <p:sp>
            <p:nvSpPr>
              <p:cNvPr id="138" name=""/>
              <p:cNvSpPr/>
              <p:nvPr/>
            </p:nvSpPr>
            <p:spPr>
              <a:xfrm>
                <a:off x="4543560" y="5826600"/>
                <a:ext cx="1036440" cy="505440"/>
              </a:xfrm>
              <a:prstGeom prst="rect">
                <a:avLst/>
              </a:prstGeom>
              <a:solidFill>
                <a:srgbClr val="ffcc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4d4d4d"/>
                    </a:solidFill>
                    <a:latin typeface="Arial"/>
                  </a:rPr>
                  <a:t>Classification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4d4d4d"/>
                    </a:solidFill>
                    <a:latin typeface="Arial"/>
                  </a:rPr>
                  <a:t>of Radioactive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4d4d4d"/>
                    </a:solidFill>
                    <a:latin typeface="Arial"/>
                  </a:rPr>
                  <a:t>Wast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4615560" y="6337440"/>
              <a:ext cx="8575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DS 39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729480" y="3765600"/>
            <a:ext cx="1036440" cy="1369800"/>
            <a:chOff x="6729480" y="3765600"/>
            <a:chExt cx="1036440" cy="1369800"/>
          </a:xfrm>
        </p:grpSpPr>
        <p:grpSp>
          <p:nvGrpSpPr>
            <p:cNvPr id="141" name=""/>
            <p:cNvGrpSpPr/>
            <p:nvPr/>
          </p:nvGrpSpPr>
          <p:grpSpPr>
            <a:xfrm>
              <a:off x="6729480" y="3765600"/>
              <a:ext cx="1036440" cy="1369800"/>
              <a:chOff x="6729480" y="3765600"/>
              <a:chExt cx="1036440" cy="1369800"/>
            </a:xfrm>
          </p:grpSpPr>
          <p:pic>
            <p:nvPicPr>
              <p:cNvPr id="14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733800" y="3765600"/>
                <a:ext cx="1029600" cy="136980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</p:pic>
          <p:sp>
            <p:nvSpPr>
              <p:cNvPr id="143" name=""/>
              <p:cNvSpPr/>
              <p:nvPr/>
            </p:nvSpPr>
            <p:spPr>
              <a:xfrm>
                <a:off x="6729480" y="4291200"/>
                <a:ext cx="1036440" cy="368280"/>
              </a:xfrm>
              <a:prstGeom prst="rect">
                <a:avLst/>
              </a:prstGeom>
              <a:solidFill>
                <a:srgbClr val="ffcc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4d4d4d"/>
                    </a:solidFill>
                    <a:latin typeface="Arial"/>
                  </a:rPr>
                  <a:t>Geological Disposa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6801480" y="4802040"/>
              <a:ext cx="8575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DS 33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622840" y="3772080"/>
            <a:ext cx="1036800" cy="1369800"/>
            <a:chOff x="5622840" y="3772080"/>
            <a:chExt cx="1036800" cy="1369800"/>
          </a:xfrm>
        </p:grpSpPr>
        <p:grpSp>
          <p:nvGrpSpPr>
            <p:cNvPr id="146" name=""/>
            <p:cNvGrpSpPr/>
            <p:nvPr/>
          </p:nvGrpSpPr>
          <p:grpSpPr>
            <a:xfrm>
              <a:off x="5622840" y="3772080"/>
              <a:ext cx="1036800" cy="1369800"/>
              <a:chOff x="5622840" y="3772080"/>
              <a:chExt cx="1036800" cy="1369800"/>
            </a:xfrm>
          </p:grpSpPr>
          <p:pic>
            <p:nvPicPr>
              <p:cNvPr id="14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627160" y="3772080"/>
                <a:ext cx="1029960" cy="136980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</p:pic>
          <p:sp>
            <p:nvSpPr>
              <p:cNvPr id="148" name=""/>
              <p:cNvSpPr/>
              <p:nvPr/>
            </p:nvSpPr>
            <p:spPr>
              <a:xfrm>
                <a:off x="5622840" y="4297680"/>
                <a:ext cx="1036800" cy="368280"/>
              </a:xfrm>
              <a:prstGeom prst="rect">
                <a:avLst/>
              </a:prstGeom>
              <a:solidFill>
                <a:srgbClr val="ffcc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4d4d4d"/>
                    </a:solidFill>
                    <a:latin typeface="Arial"/>
                  </a:rPr>
                  <a:t>Borehole Disposa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5695560" y="4808520"/>
              <a:ext cx="8575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DS 33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398840" y="3787920"/>
            <a:ext cx="1036800" cy="1369800"/>
            <a:chOff x="4398840" y="3787920"/>
            <a:chExt cx="1036800" cy="1369800"/>
          </a:xfrm>
        </p:grpSpPr>
        <p:grpSp>
          <p:nvGrpSpPr>
            <p:cNvPr id="151" name=""/>
            <p:cNvGrpSpPr/>
            <p:nvPr/>
          </p:nvGrpSpPr>
          <p:grpSpPr>
            <a:xfrm>
              <a:off x="4398840" y="3787920"/>
              <a:ext cx="1036800" cy="1369800"/>
              <a:chOff x="4398840" y="3787920"/>
              <a:chExt cx="1036800" cy="1369800"/>
            </a:xfrm>
          </p:grpSpPr>
          <p:pic>
            <p:nvPicPr>
              <p:cNvPr id="15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403160" y="3787920"/>
                <a:ext cx="1029960" cy="136980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</p:pic>
          <p:sp>
            <p:nvSpPr>
              <p:cNvPr id="153" name=""/>
              <p:cNvSpPr/>
              <p:nvPr/>
            </p:nvSpPr>
            <p:spPr>
              <a:xfrm>
                <a:off x="4398840" y="4313520"/>
                <a:ext cx="1036800" cy="368280"/>
              </a:xfrm>
              <a:prstGeom prst="rect">
                <a:avLst/>
              </a:prstGeom>
              <a:solidFill>
                <a:srgbClr val="ffcc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4d4d4d"/>
                    </a:solidFill>
                    <a:latin typeface="Arial"/>
                  </a:rPr>
                  <a:t>Near Surface Disposa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4471560" y="4824360"/>
              <a:ext cx="8575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DS 35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908000" y="5300640"/>
            <a:ext cx="1049040" cy="1370160"/>
            <a:chOff x="1908000" y="5300640"/>
            <a:chExt cx="1049040" cy="1370160"/>
          </a:xfrm>
        </p:grpSpPr>
        <p:grpSp>
          <p:nvGrpSpPr>
            <p:cNvPr id="156" name=""/>
            <p:cNvGrpSpPr/>
            <p:nvPr/>
          </p:nvGrpSpPr>
          <p:grpSpPr>
            <a:xfrm>
              <a:off x="1908000" y="5300640"/>
              <a:ext cx="1049040" cy="1370160"/>
              <a:chOff x="1908000" y="5300640"/>
              <a:chExt cx="1049040" cy="1370160"/>
            </a:xfrm>
          </p:grpSpPr>
          <p:pic>
            <p:nvPicPr>
              <p:cNvPr id="15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912320" y="5300640"/>
                <a:ext cx="1041840" cy="13701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</p:pic>
          <p:sp>
            <p:nvSpPr>
              <p:cNvPr id="158" name=""/>
              <p:cNvSpPr/>
              <p:nvPr/>
            </p:nvSpPr>
            <p:spPr>
              <a:xfrm>
                <a:off x="1908000" y="5826600"/>
                <a:ext cx="1049040" cy="368280"/>
              </a:xfrm>
              <a:prstGeom prst="rect">
                <a:avLst/>
              </a:prstGeom>
              <a:solidFill>
                <a:srgbClr val="ffcc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4d4d4d"/>
                    </a:solidFill>
                    <a:latin typeface="Arial"/>
                  </a:rPr>
                  <a:t>Monitoring and Surveillanc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981800" y="6337440"/>
              <a:ext cx="8575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DS 35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247920" y="5300640"/>
            <a:ext cx="1036800" cy="1370160"/>
            <a:chOff x="3247920" y="5300640"/>
            <a:chExt cx="1036800" cy="1370160"/>
          </a:xfrm>
        </p:grpSpPr>
        <p:grpSp>
          <p:nvGrpSpPr>
            <p:cNvPr id="161" name=""/>
            <p:cNvGrpSpPr/>
            <p:nvPr/>
          </p:nvGrpSpPr>
          <p:grpSpPr>
            <a:xfrm>
              <a:off x="3247920" y="5300640"/>
              <a:ext cx="1036800" cy="1370160"/>
              <a:chOff x="3247920" y="5300640"/>
              <a:chExt cx="1036800" cy="1370160"/>
            </a:xfrm>
          </p:grpSpPr>
          <p:pic>
            <p:nvPicPr>
              <p:cNvPr id="16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52240" y="5300640"/>
                <a:ext cx="1029960" cy="13701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</p:pic>
          <p:sp>
            <p:nvSpPr>
              <p:cNvPr id="163" name=""/>
              <p:cNvSpPr/>
              <p:nvPr/>
            </p:nvSpPr>
            <p:spPr>
              <a:xfrm>
                <a:off x="3247920" y="5826600"/>
                <a:ext cx="1036800" cy="505440"/>
              </a:xfrm>
              <a:prstGeom prst="rect">
                <a:avLst/>
              </a:prstGeom>
              <a:solidFill>
                <a:srgbClr val="ffcc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4d4d4d"/>
                    </a:solidFill>
                    <a:latin typeface="Arial"/>
                  </a:rPr>
                  <a:t>Safety Assessment Disposa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3320640" y="6337440"/>
              <a:ext cx="8575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DS 35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7999560" y="3787920"/>
            <a:ext cx="1036440" cy="1369800"/>
            <a:chOff x="7999560" y="3787920"/>
            <a:chExt cx="1036440" cy="1369800"/>
          </a:xfrm>
        </p:grpSpPr>
        <p:grpSp>
          <p:nvGrpSpPr>
            <p:cNvPr id="166" name=""/>
            <p:cNvGrpSpPr/>
            <p:nvPr/>
          </p:nvGrpSpPr>
          <p:grpSpPr>
            <a:xfrm>
              <a:off x="7999560" y="3787920"/>
              <a:ext cx="1036440" cy="1369800"/>
              <a:chOff x="7999560" y="3787920"/>
              <a:chExt cx="1036440" cy="1369800"/>
            </a:xfrm>
          </p:grpSpPr>
          <p:pic>
            <p:nvPicPr>
              <p:cNvPr id="167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003880" y="3787920"/>
                <a:ext cx="1029600" cy="136980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</p:pic>
          <p:sp>
            <p:nvSpPr>
              <p:cNvPr id="168" name=""/>
              <p:cNvSpPr/>
              <p:nvPr/>
            </p:nvSpPr>
            <p:spPr>
              <a:xfrm>
                <a:off x="7999560" y="4313520"/>
                <a:ext cx="1036440" cy="368280"/>
              </a:xfrm>
              <a:prstGeom prst="rect">
                <a:avLst/>
              </a:prstGeom>
              <a:solidFill>
                <a:srgbClr val="ffcc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4d4d4d"/>
                    </a:solidFill>
                    <a:latin typeface="Arial"/>
                  </a:rPr>
                  <a:t>Management of Norm Residu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8071560" y="4824360"/>
              <a:ext cx="8575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DS 35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826920" y="5291280"/>
            <a:ext cx="1036800" cy="1369800"/>
            <a:chOff x="826920" y="5291280"/>
            <a:chExt cx="1036800" cy="1369800"/>
          </a:xfrm>
        </p:grpSpPr>
        <p:grpSp>
          <p:nvGrpSpPr>
            <p:cNvPr id="171" name=""/>
            <p:cNvGrpSpPr/>
            <p:nvPr/>
          </p:nvGrpSpPr>
          <p:grpSpPr>
            <a:xfrm>
              <a:off x="826920" y="5291280"/>
              <a:ext cx="1036800" cy="1369800"/>
              <a:chOff x="826920" y="5291280"/>
              <a:chExt cx="1036800" cy="1369800"/>
            </a:xfrm>
          </p:grpSpPr>
          <p:pic>
            <p:nvPicPr>
              <p:cNvPr id="17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831240" y="5291280"/>
                <a:ext cx="1029960" cy="136980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</p:pic>
          <p:sp>
            <p:nvSpPr>
              <p:cNvPr id="173" name=""/>
              <p:cNvSpPr/>
              <p:nvPr/>
            </p:nvSpPr>
            <p:spPr>
              <a:xfrm>
                <a:off x="826920" y="5816880"/>
                <a:ext cx="1036800" cy="505440"/>
              </a:xfrm>
              <a:prstGeom prst="rect">
                <a:avLst/>
              </a:prstGeom>
              <a:solidFill>
                <a:srgbClr val="ffcc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4d4d4d"/>
                    </a:solidFill>
                    <a:latin typeface="Arial"/>
                  </a:rPr>
                  <a:t>Management System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4d4d4d"/>
                    </a:solidFill>
                    <a:latin typeface="Arial"/>
                  </a:rPr>
                  <a:t>Disposa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899640" y="6327720"/>
              <a:ext cx="8575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DS 3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1473120" y="3429000"/>
            <a:ext cx="1656000" cy="19447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65320" y="3502080"/>
            <a:ext cx="1656000" cy="19447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16360" y="4941720"/>
            <a:ext cx="1655640" cy="19447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4D585-AE1D-4105-85C8-912E665693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AEA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AM / IS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of Safety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s WS-R-4 (Geological Disposal of Radioactive Waste, co-sponsored by NEA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S 354 (Disposal of Radioactive Was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Guide DS 355 (The safety case and Safety Assessment for Radioactive Waste Dispos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work on a number of issues, notably on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SA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European Pilot Study (EPS) (questionnaire &amp; seminars, d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EPS methodology to test case(s) (plann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DS 355 (ongo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A72B4-9FC9-488B-B635-8173EC2738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o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ublications focussed on radiation protection issues but some also directly addressing disposal (ICRP 46, 77, 8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cent developments (e.g. ICRP 1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velopments not always fully consistent with views in „our“ commun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8080"/>
              </a:buClr>
              <a:buFont typeface="Arial Black"/>
              <a:buChar char="?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s (e.g. „planned exposure“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8080"/>
              </a:buClr>
              <a:buFont typeface="Arial Black"/>
              <a:buChar char="?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rminology (e.g. optimis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N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fety reference levels for waste and spent fuel storage and decommissio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osal? Linkage to EP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B238E-F7B3-4041-A370-D57BA0CC4A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ECD/NEA: Integration Group for the Safety Case (IGSC)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three Working Parties of the Radioactive Waste Management Committee (RWM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ed in 2000 as successor of PAAG (Performance Assessment) and SEDE (Site Evaluation)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 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integration of all aspects of the safety case …  mandate to take the initiative … in the area of confidence in repository technical safety cases and their underlying methodological and scientific bases …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vises the RWMC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otes the exchange of information,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ives for shared approaches methods and tool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…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ior technical specialists … waste management agencies, regulatory authorities, and research and development institutions …”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quotations from IGSC Foundation Document and Mand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on long-term safety, but operational safety and organisational aspects becoming issues as programmes near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F451D-8771-4160-B200-F3472AD181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ECD/NEA: Integration Group for the Safety Case (IGSC)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ety of working appro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Projects orientated on pillars of Safety C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scienc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I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sphere Sta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y Club”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PCAT, CLAYTRAC, Issues related to Fault Zones, Self-Sealing Proper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rption Project, Thermochemical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cutting issues (geosphere &amp; EBS): cementitious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integration: INTESC, SC symposium, Timescales initi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of Methodologies for Safety Assessment (Me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564B8-52B9-4D30-A596-C7BCB3B3EF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500" fill="hold"/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indefinite"/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3" dur="indefinite"/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4" dur="indefinite"/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093080" y="5861160"/>
            <a:ext cx="2087280" cy="10238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69336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SC: Review of Methods for Safety Assessment (Me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Activity in new IGSC PoW (approved 2008).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verall goa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ritical review of 1991 PAAG broch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oint IGSC view on SA methodology – updated / revised brochu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wo phases –  „stepwise approach“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view work until autumn 2009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proposal to IGSC about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veloping joint IGSC view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hop 2010? Updated brochure 2011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group membershi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20  individuals / 15 organisations + secretariat / 11 countries + secretari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ers, researchers, 1 regulator, regulatory T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host rock types, all stages of programme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programmes with recently submitted safety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ety of regulatory backgr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 linkage to PA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5413E-55B8-4169-8678-046A0B7197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5861160"/>
            <a:ext cx="2087280" cy="102384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000" y="69336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SC: Review of Methods for Safety Assessment (Me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work finalised, resulting in 7 issue papers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e of assessment in the safety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ssment strate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description, FEPs, safety functions, scen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ling strate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certainty hand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ulatory iss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ly related to PAMINA in terms of individuals involved, material used, and structure defined (in particular, but not exclusively RDTC 1 / European handboo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al for phase 2 to be developed today and tomorrow, possible el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int IGSC view to be develop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is, additional work on issues such as SA / SA flowchart, scenario development methods, indicators will be necessary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83DE2-CAF3-43AE-95AB-BA7CFDAEDE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development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nt and planned Safety Cas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elgium, Finland, France, Sweden, Switzerland, U.S.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ous approaches to review (regulatory and otherwise). International peer reviews contributing to factual state-of-the-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and impact of international activ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and views ex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 and tools 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ir best: derivation of joint views (harmonisation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ledge transfer to other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also binding resourc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they are meant to, and should, serve the members / national programm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9DDBA-C2AA-4725-A880-2F6AC80C18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MINA (= you all!) did a great job w.r.t. the before mentioned possible roles of international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hieved important results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d issues and developed material which inspires future work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 – in the immediate future –  in Me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4005360"/>
            <a:ext cx="6085080" cy="2357640"/>
          </a:xfrm>
          <a:prstGeom prst="rect">
            <a:avLst/>
          </a:prstGeom>
          <a:solidFill>
            <a:srgbClr val="ffcc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modelling &amp; 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ling strategy / 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sitivity analy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 related to uncertainties in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ledge transfer (within and beyond commun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 vie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44C77-DD14-4286-B6CB-BA2EC0BD0D9D}" type="slidenum">
              <a:t>19</a:t>
            </a:fld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“beyond”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92360" y="5445000"/>
            <a:ext cx="6192720" cy="0"/>
          </a:xfrm>
          <a:prstGeom prst="line">
            <a:avLst/>
          </a:prstGeom>
          <a:ln w="31680">
            <a:solidFill>
              <a:srgbClr val="33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692360" y="3716280"/>
            <a:ext cx="3311280" cy="1728720"/>
          </a:xfrm>
          <a:prstGeom prst="line">
            <a:avLst/>
          </a:prstGeom>
          <a:ln w="31680">
            <a:solidFill>
              <a:srgbClr val="33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92360" y="1557000"/>
            <a:ext cx="0" cy="3887640"/>
          </a:xfrm>
          <a:prstGeom prst="line">
            <a:avLst/>
          </a:prstGeom>
          <a:ln w="31680">
            <a:solidFill>
              <a:srgbClr val="33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500720" y="5436720"/>
            <a:ext cx="0" cy="576360"/>
          </a:xfrm>
          <a:prstGeom prst="line">
            <a:avLst/>
          </a:prstGeom>
          <a:ln w="31680">
            <a:solidFill>
              <a:srgbClr val="33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21800" y="6040440"/>
            <a:ext cx="23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 (and Safety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1720" y="544500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eld of expert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9873800">
            <a:off x="3868200" y="2636640"/>
            <a:ext cx="42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ernational (and national) organis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87640" y="4365720"/>
            <a:ext cx="720720" cy="0"/>
          </a:xfrm>
          <a:prstGeom prst="line">
            <a:avLst/>
          </a:prstGeom>
          <a:ln w="31680">
            <a:solidFill>
              <a:srgbClr val="33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9860000">
            <a:off x="2485800" y="40762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80000" y="4365720"/>
            <a:ext cx="2736720" cy="0"/>
          </a:xfrm>
          <a:prstGeom prst="line">
            <a:avLst/>
          </a:prstGeom>
          <a:ln w="2232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94240" y="4437000"/>
            <a:ext cx="1949400" cy="936720"/>
          </a:xfrm>
          <a:prstGeom prst="line">
            <a:avLst/>
          </a:prstGeom>
          <a:ln w="2232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 rot="20461200">
            <a:off x="6767640" y="3860640"/>
            <a:ext cx="23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PAMINA</a:t>
            </a:r>
            <a:endParaRPr b="0" lang="en-US" sz="2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6229440" y="4221000"/>
            <a:ext cx="503280" cy="36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rot="10800000">
            <a:off x="1232280" y="1628640"/>
            <a:ext cx="729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rot="16200000">
            <a:off x="1045800" y="4627800"/>
            <a:ext cx="45468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6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35640" y="1268280"/>
            <a:ext cx="2160720" cy="936720"/>
          </a:xfrm>
          <a:prstGeom prst="ellipse">
            <a:avLst/>
          </a:prstGeom>
          <a:noFill/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5435640" y="1844640"/>
            <a:ext cx="936720" cy="244800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516720" y="1844640"/>
            <a:ext cx="1079640" cy="266400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DC2D7-84ED-4DC3-A423-5B492DECCD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50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MINA (= you all!) did a great job w.r.t. the before mentioned possible roles of international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hieved important results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d issues and developed material which inspires future work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 – in the immediate future –  in Me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a privilege and a pleasu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e part of tha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567400" y="4457880"/>
            <a:ext cx="3600360" cy="240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54484-AD56-4C78-86FB-A0AD193059CF}" type="slidenum">
              <a:t>20</a:t>
            </a:fld>
          </a:p>
        </p:txBody>
      </p:sp>
    </p:spTree>
  </p:cSld>
  <p:transition spd="med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ongoing &amp; future (sometimes even past) R&amp;D activities on PA and the Safety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 for “adjacent” activities important for the Safety Ca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for 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ification of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imitation to EU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personal (unavoidable?) bias (sorry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3CD03-4ACF-434F-8013-FCD2DBC213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 FP 6 / 7 activitie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9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MINA grown out of a number of predecessor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AGIS – PACOMA – EVEREST – SPA) directly concerned with PA (others such as SPIN still very close to this subject), all having in comm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” PA’s and tool / method developments as major building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ety of regulatory backgrounds, host rocks, concepts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ers, researchers, regulator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me heterogeneity within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 of information, experience and views seen as a major bene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e a common understanding for PA techniques and methods despite of notable dif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ovation / improvement w.r.t. tools / methodolog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el elements of PA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work (RDTC-1) , European handbook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scussion, exchange, sometimes even harmonis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chmarking (modelling approaches, sensitivity analy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&amp; coverage of projec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antity turned into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E808D-E406-4DBC-9DEA-BD4BCC016B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 FP 6 / 7 activitie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acent” projects dealing with other components / aspects of repository development and the safety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-field (NF-PRO) and far-field (MICADO, FUNMIG) processes: understanding and (often coupled) modelling (THERESA), sometimes very specific (TIMODAZ on temperature effects on EDZ in clay and related THMC considerations, RECOSY on Redox phenomen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nide science (ACTIN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ineering, feasibility, design demonstration (ESD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ucation &amp; training (PETRUS 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ere are more, but I gave up surfing on the CORD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site ;-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EB9A7-2A62-44B1-9ABB-2F13F4CC32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 FP 6 / 7 activities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ies on the near field … and the far-field … together with work to develop robust methodologies for overall performance and safety assessment 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disciplinary approach effectively integrates the work of experimentalists, modellers and engineering designers and the results are also fed into governance and societal debates 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on engineering studies and design demonstration  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fe on-site transport, feasibility of construction and proof of long-term integrity of seals 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 operational feasibility of disposal reversibility 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rom CORDIS websi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FC062-7C3F-4446-B614-FB8E6538F0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 FP 6 / 7 activities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“PAMINA successor” foreseen for the immediate futu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ros and cons), but a number of issues identified in th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modelling &amp; understanding (e.g. for near-field processes in salt; gas-related issues, THMC coupl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ling strategy / uncertaint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rocess level and integrated level /sophisticated &amp; “simple” models. Probabilistics and conservatism – “system test” vs. complianc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sitivity analy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sues related to uncertainties in ge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ledge transfer (within and beyond communit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int view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erspectives provided by planned Technology Platfor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Implementing Geological Disposal of Radioactive Waste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ways of decision-making on projects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etter balance with interests at home (in terms of themes and resources)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funding sche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7B616-F14C-481D-9508-0CB2145EF5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uropean Pilot Study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Regulatory Review of the Safety Cas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Geological Disposal of Radioactive W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n out of a joint Franco-Belgian undertaking involving implementers and regulator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sition Paper “Elements of a Safety Approach”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I (2004-2006): regulators and TSOs from Belgium (FANC, AVN), UK(EA), France (ASN, IRSN), Finland (STUK), Germany (GRS), Spain (CSN), Sweden (SSI), Switzerland (HSK), IAEA, 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st report: regulatory review of a safety case for geological disposal of radioactive waste: Main steps in repository development; framework to systematically address safety issues for each identified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nd report: Uncertainty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II (ongoing): more countries, continuation of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BA02E-C946-4957-8219-564D1C3B2E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1720" y="69336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uropean Pilot Study: juxtaposing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333399"/>
                </a:solidFill>
                <a:uFillTx/>
                <a:latin typeface="Arial"/>
              </a:rPr>
              <a:t>Integration of SC elements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essment and demonstration of the site and engineering suitabili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diological impact assessme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monstrating the adequacy of managemen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441320" y="1600200"/>
            <a:ext cx="4496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333399"/>
                </a:solidFill>
                <a:uFillTx/>
                <a:latin typeface="Arial"/>
              </a:rPr>
              <a:t>Key stages of repository develop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ceptua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cavation/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5013360"/>
            <a:ext cx="821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compiling regulatory expectations for each element in each stag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tarted in phase I, currently continued – with slightly other stages, in phase I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74DF1-F19F-4616-A927-55B9D4AD84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08:40:43Z</dcterms:created>
  <dc:creator>Klaus-Jürgen Röhlig</dc:creator>
  <dc:description/>
  <dc:language>en-US</dc:language>
  <cp:lastModifiedBy>Klaus-Jürgen Röhlig</cp:lastModifiedBy>
  <dcterms:modified xsi:type="dcterms:W3CDTF">2009-09-30T10:11:47Z</dcterms:modified>
  <cp:revision>121</cp:revision>
  <dc:subject/>
  <dc:title>Folie 1</dc:title>
</cp:coreProperties>
</file>