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12E-2321-4FB5-B4E3-8C0C5143C1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0F79-1D31-4FCA-9EDE-6DBB72B9273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AAC0-E229-43C9-BD56-1514CFB39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13E0-2452-40FE-A61A-8FB22E4E8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6C6C-5B68-460E-A9D8-52C0BBF92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F3CC-96BE-4198-982E-69D60317F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D707-9E48-4E38-BC0F-014E57AEB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289C4-677A-40FB-88FB-32F8C55159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F2133-79FC-4E52-B52A-9C402E283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79A32-4336-4A85-A56C-691CE4368A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02BFF-1DEC-4EF2-A346-37FC02E28E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1AB20-A962-4770-B40D-55E706644E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5812-9D16-43D5-80E5-5164787004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89C82-28DE-46AF-9317-F049E3DC9F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270A2-ECA2-475F-AA22-BCC43C63BD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DCFFC-025B-4090-99A3-50182A0EE4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EF915-9E70-4A1D-A8BC-4FEA2243DF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45700-6BFF-4C03-B7C8-2DB2F45E36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56C29-623A-4C77-812D-5910815830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26071-CE7A-4359-997B-2EF9A0546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A6B1-82A3-48BF-844A-85C19FEAE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5D20-F096-4548-A3F2-7D89596AB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2622-8083-47F1-94F9-2D4966105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23C0-D229-466B-B9FD-103EE0CBE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2144-5265-464C-BFBC-92C7A09E0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5977-2C43-4B29-B231-0CAFB9E3C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3ED7-275E-43BF-B301-D4AC839D06D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Picture 8" descr="flagge_eu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AMINA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-36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693864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E58-6746-4495-AA23-ED5D4C8571F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6400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PAMINA Project -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örg Mön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MINA Final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oss Hohenkammer, 30.09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a common understanding of the techniques and methods for performance assessments and the development of a safety case within the Europea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to the state of the scientific and technic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in a couple of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Did we succ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463C-D453-43F6-957B-B434A9E24D0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provement of Common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defini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ly driven by the reports for the topical reviews in RTD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roach to conduct review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od coverage of topic (at least conc. Eur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lanced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tional reports are a treasure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asure is even more worthy due to other review work throughout 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sitivity analy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pscal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166C-A9F4-43BF-BACA-137DCB8C521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ble Fish“ rather than Harm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fferences are acknowledged and much better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y areas with fairly coherent views (even if different terminology is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e of the safet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ypes of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safety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fety / performa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types o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certainty analysis / sensitivi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eas with diverging views/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osphere 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atment of human intrusion in 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gnment of scenario prob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FFDA-7BF3-47BB-895D-65314C7C5BD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ervative vs. Best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fferent pro‘s and con‘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ervative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owing overall safety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lues are often easier to defend in a licensing procedure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t proving conservatism may be difficult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ining system understanding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unication with the public (~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roach must fit the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A093-3BFD-4D63-9D9F-3A7246B0EAD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terministic vs. Probabilisti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ven in the various countries by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w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the past more antagonistic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day seen to complement each other, providing different ins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w approaches to probabilist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GRA example: allows to monitor effect of 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munication of PA results may b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the regulatory framework if not prescri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lay audiences other concerns mor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9851-AD3F-436E-8F78-EED86C989C4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mprovement of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itations of usual methods expl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w methods tested (need to explore in more det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ponse surfac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ood and flexible calculational tools are available but are constantly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me interesting protocols have been suggested, but not yet t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ivation of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atment of model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ould be tested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sa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experiences shared with other instituions could provide valuable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05E0-FEC0-4862-AF1C-6CD933DC40F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MINA is a useful reference,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concise information concerning different national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lps to understand the terminolog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 useful for countries with advanced waste management programmes, but also for less advanced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guidance on many issue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 but must be taken cauti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MINA has identified areas for further methodological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rrent methodological approaches have lim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ow to gain more insights, improve robustness of safet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MINA has helped to establish/strengthen the network of experts working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6673-02F2-4CA0-B025-95D2D99975C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09:11Z</dcterms:created>
  <dc:creator>André  Rübel</dc:creator>
  <dc:description/>
  <dc:language>en-US</dc:language>
  <cp:lastModifiedBy>GRS</cp:lastModifiedBy>
  <dcterms:modified xsi:type="dcterms:W3CDTF">2009-09-30T12:53:21Z</dcterms:modified>
  <cp:revision>78</cp:revision>
  <dc:subject/>
  <dc:title>Folie 1</dc:title>
</cp:coreProperties>
</file>