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EBDE0-EBDD-49C1-93D0-E43E2F6DD0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0D7CA-674E-43C7-B144-8DCA9945B3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CB7B2-02B6-44A1-8203-4A72FA516E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B81F2-7921-40B7-8430-30EE538EBA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000" y="549000"/>
            <a:ext cx="82184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CC55D-7153-49B4-9A6F-E53E9B2300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0C89F-5AF9-4E51-95C5-87E07A2D38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90A39-4597-4A66-BCB1-A808F44685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11C19-1620-4A5F-B566-0A6BBA3003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000" y="549000"/>
            <a:ext cx="82184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B8B7A-BFC4-4607-A734-F0C077A7F4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4C2AF-A734-4ED2-88D0-D1C95E9AC4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5189B-31F3-438E-BB40-41D6B8F5A0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D5C43-6ACE-4B57-AD0B-D70CD6C04B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7920"/>
            <a:ext cx="9163080" cy="6831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468000" y="6244920"/>
            <a:ext cx="555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A8788-8B17-4056-AEF5-F4EF6CABE264}" type="slidenum">
              <a:rPr b="0" lang="de-DE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971640" y="189000"/>
            <a:ext cx="576000" cy="360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395280" y="189000"/>
            <a:ext cx="504720" cy="36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440" y="7920"/>
            <a:ext cx="9163080" cy="6831000"/>
          </a:xfrm>
          <a:prstGeom prst="rect">
            <a:avLst/>
          </a:prstGeom>
          <a:ln w="9360">
            <a:solidFill>
              <a:srgbClr val="eaf0ff"/>
            </a:solidFill>
            <a:miter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708360" y="2781360"/>
            <a:ext cx="2016000" cy="1260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1835280" y="2781360"/>
            <a:ext cx="1765080" cy="1260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250920" y="1486080"/>
            <a:ext cx="633708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b4ccea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AMINA</a:t>
            </a:r>
            <a:endParaRPr b="0" lang="en-US" sz="1800" spc="1" strike="noStrike">
              <a:ln w="28440">
                <a:solidFill>
                  <a:srgbClr val="b4ccea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808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250920" y="4605120"/>
            <a:ext cx="835344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verview of the State of the Art Revi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72200" y="5445000"/>
            <a:ext cx="308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guel Cuñado (Enresa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1000" y="533520"/>
            <a:ext cx="85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al Workshop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unich, September 200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sk Coordin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42920" y="1341360"/>
            <a:ext cx="8893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roup 1 of top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4200" indent="-301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.  Safety functions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(J. Marivoet-SC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4200" indent="-301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.  Definition and assessment of scenarios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(T. Beuth-GRS-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4200" indent="-301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3.  Uncertainty management and uncertainty analysis      (J. Alonso/M. Cuñado-ENRES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4200" indent="-301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4.  Safety indicators and performance/function indicators  (D. Becker-GRS-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4200" indent="-301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roup 2 of top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4200" indent="-301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afety Strategy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M. Capouet-NIR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4200" indent="-301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6.  Analysis of the evolution of the repository system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L. Griffault-ANDR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4200" indent="-301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7.  Modelling strategy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J. Cormenzana-ENRES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4200" indent="-301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8.  Sensitivity analysi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D. Becker-GRS-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4200" indent="-30168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roup 3 of topic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4200" indent="-301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9.   Biospher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C. Serres/G. Mathieu-IRS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4200" indent="-301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0. Human intrusion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T. Beuth-GRS-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4200" indent="-301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1. Criteria for input and data selection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J. Cormenzana-ENRES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D4988-9B18-4D10-BA48-78B621CDA3C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000" y="105228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fety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560" y="1915920"/>
            <a:ext cx="8785080" cy="34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A safety case is the synthesis of evidence, analyses and arguments that quantify and substantiate a claim that the repository will be safe after closure and beyond the time when active control of the facility can be relied upon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” (NEA, 2004).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3C729-001E-4322-954B-2F574B09860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000" y="105228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fety Case: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ey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0560" y="2131560"/>
            <a:ext cx="8785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Statement of 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Safety strate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sessment bas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idence, analyses and arguments for safe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F8B1B-BFB0-4F8F-B6CF-D7C6556167C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000" y="765000"/>
            <a:ext cx="8218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MINA and the Safety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785080" cy="29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ss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tate of the a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methodologies and approaches needed for the safety assessment of geological reposit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distil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essons learn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rom the rich experience accumulated in their development and application for disposal concepts in the different geological media considered in the EU Member Sta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4508640"/>
            <a:ext cx="822960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WP 1.1 Comprehensive Review of Methodologies and Approaches in the Safety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WP 1.2 Review of uncertainty methods and development of initial guid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10D82-F19E-4067-A44D-40B32A171A7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1 topics identified which are considered essential issues always present in a Safety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8360" y="2276640"/>
            <a:ext cx="867564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Safety Strategy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  includes safety assessment strategy, sitting, design, and management strate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Safety function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 properties of the engineered and natural barriers that provide safe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Safety indicators and performance/function indicator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 the means by which to demonstrate whether the safety of the repository system can be achie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4.  </a:t>
            </a: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Analysis of the evolution of the repository system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 description of our knowledge and understanding of the future repository system evol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5.  </a:t>
            </a: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Definition and assessment of scenario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 choice of all possible “evolution historie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6.  </a:t>
            </a: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Human intrusion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 addresses the disturbance of the waste containers or any other component of the repository system by human activ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1FB94-541A-4436-B648-5329C43C0A3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1 topics identified which are considered essential issues always present in a Safety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8360" y="2276640"/>
            <a:ext cx="867564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7.  </a:t>
            </a: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Biosphere: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the environment generally accessible to humans where the impact of the repository system is usually assess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8.  Modelling strategy: the necessary step previous to undertaking any 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9.  Criteria for input and data selection: the basis on which data are used in a safety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0.  Uncertainty management and uncertainty analysis: the heart of any long-term safety case. Key aspect on the building confidence purp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1.  Sensitivity analysis: the final tool for the uncertainty management, identifies the parameters with higher impact on the safety indicators having accounted for the inherent variability of the system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08956-88B6-4284-BEE5-26EAEAC2969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000" y="90936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rking Structu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08000" y="2490840"/>
            <a:ext cx="1942920" cy="302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 algn="ctr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ksh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rget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 Top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2413080" y="2490840"/>
            <a:ext cx="1942920" cy="3025440"/>
            <a:chOff x="2413080" y="2490840"/>
            <a:chExt cx="1942920" cy="3025440"/>
          </a:xfrm>
        </p:grpSpPr>
        <p:sp>
          <p:nvSpPr>
            <p:cNvPr id="104" name=""/>
            <p:cNvSpPr/>
            <p:nvPr/>
          </p:nvSpPr>
          <p:spPr>
            <a:xfrm>
              <a:off x="2413080" y="2490840"/>
              <a:ext cx="1942920" cy="3025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marL="343080" indent="-343080" algn="ctr">
                <a:lnSpc>
                  <a:spcPct val="1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ach Participant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ntribut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o th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4 Topic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2629080" y="2492280"/>
              <a:ext cx="1584000" cy="1438200"/>
              <a:chOff x="2629080" y="2492280"/>
              <a:chExt cx="1584000" cy="143820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3349800" y="2492280"/>
                <a:ext cx="792000" cy="647640"/>
                <a:chOff x="3349800" y="2492280"/>
                <a:chExt cx="792000" cy="64764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3349800" y="2492280"/>
                  <a:ext cx="220680" cy="22716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3463920" y="2576160"/>
                  <a:ext cx="220680" cy="22752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3578400" y="2660040"/>
                  <a:ext cx="220680" cy="22752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3692520" y="2744280"/>
                  <a:ext cx="220680" cy="22752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3806640" y="2828520"/>
                  <a:ext cx="220680" cy="22716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3921120" y="2912400"/>
                  <a:ext cx="220680" cy="22752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3421080" y="2923920"/>
                <a:ext cx="792000" cy="648000"/>
                <a:chOff x="3421080" y="2923920"/>
                <a:chExt cx="792000" cy="64800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3421080" y="2923920"/>
                  <a:ext cx="221040" cy="22752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535200" y="3007800"/>
                  <a:ext cx="221040" cy="22752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649680" y="3092040"/>
                  <a:ext cx="220680" cy="22752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763800" y="3175920"/>
                  <a:ext cx="221040" cy="22752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3878280" y="3260160"/>
                  <a:ext cx="221040" cy="22752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3992400" y="3344400"/>
                  <a:ext cx="220680" cy="22752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2629080" y="2708280"/>
                <a:ext cx="792000" cy="647640"/>
                <a:chOff x="2629080" y="2708280"/>
                <a:chExt cx="792000" cy="64764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2629080" y="2708280"/>
                  <a:ext cx="220680" cy="22716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2743200" y="2792160"/>
                  <a:ext cx="220680" cy="22752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2857680" y="2876040"/>
                  <a:ext cx="220680" cy="22752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2971800" y="2960280"/>
                  <a:ext cx="220680" cy="22752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3085920" y="3044520"/>
                  <a:ext cx="220680" cy="22716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3200400" y="3128400"/>
                  <a:ext cx="220680" cy="22752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2773440" y="3282840"/>
                <a:ext cx="792000" cy="647640"/>
                <a:chOff x="2773440" y="3282840"/>
                <a:chExt cx="792000" cy="64764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2773440" y="3282840"/>
                  <a:ext cx="220680" cy="22716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2887560" y="3366720"/>
                  <a:ext cx="220680" cy="22752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3002040" y="3450600"/>
                  <a:ext cx="220680" cy="22752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3116160" y="3534840"/>
                  <a:ext cx="220680" cy="22752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3230280" y="3619080"/>
                  <a:ext cx="220680" cy="22716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3344760" y="3702960"/>
                  <a:ext cx="220680" cy="22752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4" name=""/>
          <p:cNvSpPr/>
          <p:nvPr/>
        </p:nvSpPr>
        <p:spPr>
          <a:xfrm>
            <a:off x="4789440" y="2490840"/>
            <a:ext cx="1943280" cy="302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 algn="ctr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ksh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rget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xt 4 Top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7093080" y="2490840"/>
            <a:ext cx="1942920" cy="3025440"/>
            <a:chOff x="7093080" y="2490840"/>
            <a:chExt cx="1942920" cy="3025440"/>
          </a:xfrm>
        </p:grpSpPr>
        <p:sp>
          <p:nvSpPr>
            <p:cNvPr id="136" name=""/>
            <p:cNvSpPr/>
            <p:nvPr/>
          </p:nvSpPr>
          <p:spPr>
            <a:xfrm>
              <a:off x="7093080" y="2490840"/>
              <a:ext cx="1942920" cy="3025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marL="343080" indent="-343080" algn="ctr">
                <a:lnSpc>
                  <a:spcPct val="3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4 Task Repor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(One per Topic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028000" y="3282840"/>
              <a:ext cx="366120" cy="549360"/>
            </a:xfrm>
            <a:prstGeom prst="foldedCorner">
              <a:avLst>
                <a:gd name="adj" fmla="val 125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459640" y="2635200"/>
              <a:ext cx="366480" cy="549360"/>
            </a:xfrm>
            <a:prstGeom prst="foldedCorner">
              <a:avLst>
                <a:gd name="adj" fmla="val 125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596000" y="2635200"/>
              <a:ext cx="366480" cy="549360"/>
            </a:xfrm>
            <a:prstGeom prst="foldedCorner">
              <a:avLst>
                <a:gd name="adj" fmla="val 125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235640" y="3282840"/>
              <a:ext cx="366480" cy="549360"/>
            </a:xfrm>
            <a:prstGeom prst="foldedCorner">
              <a:avLst>
                <a:gd name="adj" fmla="val 125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2111400" y="371628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29080" y="371628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792840" y="374976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4000" y="5805360"/>
            <a:ext cx="867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lvl="1" marL="704160" indent="-3016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3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BE25B-2472-4C04-A610-4A04C7D424E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rticipant Organiz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4360" y="1773360"/>
            <a:ext cx="467964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lvl="1" marL="792000" indent="-33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ND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RS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ANC-Bel 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G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RS-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RS-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CK-NI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OSIVA-SRO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NRESA (Coordinat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A891C-F1FA-4CB8-9CB7-489AAAC794D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000" y="765000"/>
            <a:ext cx="8218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utcom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252360" y="1773360"/>
            <a:ext cx="4175280" cy="4849560"/>
            <a:chOff x="252360" y="1773360"/>
            <a:chExt cx="4175280" cy="4849560"/>
          </a:xfrm>
        </p:grpSpPr>
        <p:sp>
          <p:nvSpPr>
            <p:cNvPr id="149" name=""/>
            <p:cNvSpPr/>
            <p:nvPr/>
          </p:nvSpPr>
          <p:spPr>
            <a:xfrm>
              <a:off x="2197080" y="3816360"/>
              <a:ext cx="1008000" cy="1150920"/>
            </a:xfrm>
            <a:prstGeom prst="rect">
              <a:avLst/>
            </a:prstGeom>
            <a:solidFill>
              <a:srgbClr val="ffcc00">
                <a:alpha val="33000"/>
              </a:srgbClr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197080" y="5398920"/>
              <a:ext cx="1008000" cy="935280"/>
            </a:xfrm>
            <a:prstGeom prst="rect">
              <a:avLst/>
            </a:prstGeom>
            <a:solidFill>
              <a:srgbClr val="ffcc00">
                <a:alpha val="33000"/>
              </a:srgbClr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197080" y="2290680"/>
              <a:ext cx="1008000" cy="1150920"/>
            </a:xfrm>
            <a:prstGeom prst="rect">
              <a:avLst/>
            </a:prstGeom>
            <a:solidFill>
              <a:srgbClr val="ffcc00">
                <a:alpha val="33000"/>
              </a:srgbClr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52360" y="2014560"/>
              <a:ext cx="4175280" cy="446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marL="343080" indent="-343080"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Group 1 of topics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1.  Safety functions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 Task Repor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2.  Definition and assess .....Task Repor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3.  Uncertainty managem.....Task Repor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4.  Safety indicators and ....  Task Repor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62120" indent="-304920">
                <a:lnSpc>
                  <a:spcPct val="15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Group 2 of topics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5.  Safety Strategy 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 Task Repor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6.  Analysis of the evol....     Task Repor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7.  Modelling strategy           Task Repor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8.  Sensitivity analysis</a:t>
              </a:r>
              <a:r>
                <a:rPr b="0" lang="en-GB" sz="1200" spc="-1" strike="noStrike">
                  <a:solidFill>
                    <a:srgbClr val="0000ff"/>
                  </a:solidFill>
                  <a:latin typeface="Arial"/>
                </a:rPr>
                <a:t>          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Task Repor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4" marL="2171880" indent="-343080">
                <a:lnSpc>
                  <a:spcPct val="110000"/>
                </a:lnSpc>
                <a:spcBef>
                  <a:spcPts val="349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4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Group 3 of topics: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9.   Biosphere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 Task Report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10. Human intrusion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 Task Repor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11. Criteria for input and.....</a:t>
              </a:r>
              <a:r>
                <a:rPr b="0" lang="en-GB" sz="12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Task Repor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133800" y="1773360"/>
              <a:ext cx="43812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t" anchorCtr="1">
              <a:noAutofit/>
            </a:bodyPr>
            <a:p>
              <a:pPr marL="343080" indent="-343080">
                <a:lnSpc>
                  <a:spcPct val="15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2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33800" y="3403440"/>
              <a:ext cx="43812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t" anchorCtr="1">
              <a:noAutofit/>
            </a:bodyPr>
            <a:p>
              <a:pPr marL="343080" indent="-343080">
                <a:lnSpc>
                  <a:spcPct val="15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2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098880" y="5038560"/>
              <a:ext cx="43812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t" anchorCtr="1">
              <a:noAutofit/>
            </a:bodyPr>
            <a:p>
              <a:pPr marL="343080" indent="-343080">
                <a:lnSpc>
                  <a:spcPct val="15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3492360" y="2735280"/>
            <a:ext cx="2519640" cy="216000"/>
          </a:xfrm>
          <a:prstGeom prst="rightArrow">
            <a:avLst>
              <a:gd name="adj1" fmla="val 50000"/>
              <a:gd name="adj2" fmla="val 291625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156360" y="1871640"/>
            <a:ext cx="2736720" cy="4556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343080" indent="-343080" algn="ct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uropean Hand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te-of-the-ar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saf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ss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logical reposit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11 Task Reports + additional materi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92360" y="5830920"/>
            <a:ext cx="2519640" cy="216000"/>
          </a:xfrm>
          <a:prstGeom prst="rightArrow">
            <a:avLst>
              <a:gd name="adj1" fmla="val 50000"/>
              <a:gd name="adj2" fmla="val 291625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92360" y="4390920"/>
            <a:ext cx="2519640" cy="216000"/>
          </a:xfrm>
          <a:prstGeom prst="rightArrow">
            <a:avLst>
              <a:gd name="adj1" fmla="val 50000"/>
              <a:gd name="adj2" fmla="val 291625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B3915-015A-44D5-81AF-56186B5FB5B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0T11:56:47Z</dcterms:created>
  <dc:creator>Jörg Mönig</dc:creator>
  <dc:description/>
  <dc:language>en-US</dc:language>
  <cp:lastModifiedBy> M</cp:lastModifiedBy>
  <dcterms:modified xsi:type="dcterms:W3CDTF">2009-09-28T06:47:59Z</dcterms:modified>
  <cp:revision>131</cp:revision>
  <dc:subject/>
  <dc:title>Folie 1</dc:title>
</cp:coreProperties>
</file>