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7684-E211-483E-AFC0-5F972860B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840B-A76B-4CE9-B913-22703C2F5B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1946-5928-4AB8-994D-AB6B3C3AC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978B9-2A60-4724-A5C8-36D659E49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418D3-8CB7-454C-BABC-7907026F4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5365-6934-4CB1-9910-96D964076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1B8E3-F8A7-4EBB-8B3D-7EB81EE58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4F68-E219-4E60-BF22-461212A8EA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4A88-875D-464B-B426-3B656D5F4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1F4A-DE55-4661-A834-AD88C963CB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90B0-3741-42E7-9CF5-FBD96F7D5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3CC6-57EF-4970-89C3-808B3CEC4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9D5C-1D11-4DBA-B82E-91C1E8202660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50920" y="4389480"/>
            <a:ext cx="64008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P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opic 9. Biosphere -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ght programmes at different stages of develop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 from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generic stud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a preliminary phase to site selection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 highly sophisticated site-specific landscape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evolving surface environment at particular sit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guidance and direct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CRP, Euratom, IAEA, NE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 of those guidance and directives provides the basis for regulation at the national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regulatory frame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st countries, guidance is unde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ountries, regulation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pecify parameters for 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biosphere modelling and require tha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rgan do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evaluated, as well as whole body effective dose equivalents.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98F3-9DEC-4E1A-8661-E9A2B30C1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approaches and t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operators conside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dose limi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or constraint, specified in most countries to ensure that radiological protection criteria are met (from 0.1 to 0.3 mSv/year, risk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ong timeframes, calculated dose is more suitable fo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alitative evalu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results and sensitivity analyses to some paramet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sideration for climate evolution in addition to the definition of a today reference biosphere by a set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ssible biospheres in the future and sensitivity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inition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ultiple exposure path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inition of food consumption and diet consistent with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oday habits and data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dentification of radionuclides to be modeled with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pecific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dentification of a need for further consideration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otential impacts on non-human bi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a focus on assessment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ealth eff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3428-1727-4E33-9991-69EBFBA80A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ighting some comm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se constraints and timescale/situation dependency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point of safety assessment calculations is a numerical value that can be compared to the regulatory requirement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0.3 mSv/year)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dose is th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umulative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ultiple exposure rou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ng-term, dose should be interpreted as a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llustrative measure of system perform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mpleted with other safety indicator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individual dose may be used as a performance measure, but considering the likelihood of the initiating event occurring (high-consequence/low-probability scenarios)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Risk appro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D7B6D-CD91-47A5-A285-56AB2D719F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ighting some comm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 of present-day conditions and consideration of climate-change scenarios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Present-day bi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dered as the basis for the description of the biosphere (including predictable changes in the environme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of the past and current environments to develop representative biosphere states from analogue sites and consideration of the future impact of greenhouse effects and other human activ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 of th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uman hab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milar to those of the present-day popul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zations us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verage food consumption 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assume that all food consumed comes from the most contaminated parts of the environment –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elf-sustaining farm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climate states based on analogue conditions take their exposed groups and food consumption rates from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nalogue 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BDBEA-ECE2-4C95-88B4-790AB14028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lighting some common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xposure mechanisms conside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Multiple exposure path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generally studied but those selected depend on the exact nature of the hydrogeological and climatic environment on the disposal as well as on human habits (ICRP 10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dose via these pathways is facilitated by a set of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se Coeffici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cumented by ICRP 6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one organisation,</a:t>
            </a: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 release from the geosphere is input directly to the biosphere mode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nd the resulting time-history of dose contains the dynamics of the release from the geosphere and the biosp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greement with ICRP 101, some approaches consist of exploring the different transfer pathway of the site and region and not exclu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 transfer pathway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5AC6-A214-4E7B-BD71-79CFD55D3E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ed groups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 range in the level of prescription and advice provided in regulation with regard to biosphere modelling and the consideration of exposed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 groups considered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st organisations,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dul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 age group considered in the assessment, and it is implicit that the adult dose can be used as a measure of lifetime exp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s calculated to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ifferent age group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infants, adults). ICRP 81 recommends 6 age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58169-7CBD-4FAF-AF0A-B9EC0A453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going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radionuclide-specific biosphere models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ingle generic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mework is used for all the radionucl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ountries,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 (but also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,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), are treated with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adionuclide-specific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untries suggest that modeling could consider th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fluence of transitory climate condi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geosphere-biospher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human biota: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 projects FASSET, ERICA and PROTECT are cited as the basis for this aspect of the biosp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 effects: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radiological health eff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so far mainly been considered in safety assessment calculations. Some organisations are starting to consider potential health effects associated with chemical tox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739B-CC02-4BFB-8B2A-5FA6FAB925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ge reached in the disposal programme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 staged approach, organisations are progressing towards more detailed models, as more information becomes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mments from implemen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terative approach and a good working relationship between regulators and the developer are essential to facilitate development of the safety case in a manner acceptable to regulato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could be benefit in an improved glossary of ter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tter just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groups and exposed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w are low-probability scenarios dealt with by countries using risk approach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monization of the approach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ate the comprehension of the stakehol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when discussing with pub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013FE-D755-41CA-9B7D-825F9BFC5F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1:56:47Z</dcterms:created>
  <dc:creator>Jörg Mönig</dc:creator>
  <dc:description/>
  <dc:language>en-US</dc:language>
  <cp:lastModifiedBy>mathieu-gre</cp:lastModifiedBy>
  <dcterms:modified xsi:type="dcterms:W3CDTF">2009-09-23T16:51:04Z</dcterms:modified>
  <cp:revision>99</cp:revision>
  <dc:subject/>
  <dc:title>Folie 1</dc:title>
</cp:coreProperties>
</file>