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44CF-6658-4003-A2A5-AE3B9E32E28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7842-6AFA-4A70-B243-F98A42E23D8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oliennummernplatzhalter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7469-C8C6-4594-A55D-33A85E5A8C8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liennummernplatzhalter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A37D-D8F5-4750-ABFA-E93B843FAC6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oliennummernplatzhalter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A460-B4FC-4F5C-B36C-B385CDB539B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oliennummernplatzhalter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4E93-3CCF-480E-8E6E-1FDCD6A5F90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liennummernplatzhalter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E162-F800-47F2-B3D2-62651F87F69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A052-7F03-48B7-B686-13275816F76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liennummernplatzhalter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C3F1-1FD5-4D3B-A380-9D587D8B7C2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liennummernplatzhalter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6E25-4254-46EE-BC15-2C3CA5E9CD9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liennummernplatzhalter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7E03-3613-48CA-ACA8-623CF3C2D8F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liennummernplatzhalter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E092-36F3-46FE-BDE9-6CBAA717141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liennummernplatzhalter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137E-E16B-4942-82A5-73855C911A4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liennummernplatzhalter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DC0BD-AE2F-48BA-B05E-3B2AD8F99D3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liennummernplatzhalter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32C7-E016-4413-BECF-F832DDDBAAB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1367F-814F-4658-A595-69937039C7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AC461-5C5E-4855-BEC4-4EEA787682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D5674-62B6-48FB-B731-98BF135D8C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4C21D-3A67-48E1-A3E6-A9C360A0A3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000" y="549000"/>
            <a:ext cx="82184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EF5B0-B623-475B-8908-814052B686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7D5B7-B0E1-4D10-81B4-2447B5A85D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9D6AC-143B-4778-A77E-196608FB31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AE646-1CE2-47EE-AD9B-80FE875D0D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000" y="549000"/>
            <a:ext cx="82184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86963-EF82-4CA0-BD93-2E12CB42D3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F9B43-F134-4F1D-A80C-2D27454685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807C1-CB1A-4A75-B9A3-D5348BF91F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7EC35-F908-4A5F-A27E-489963185F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folien"/>
          <p:cNvPicPr/>
          <p:nvPr/>
        </p:nvPicPr>
        <p:blipFill>
          <a:blip r:embed="rId2"/>
          <a:stretch/>
        </p:blipFill>
        <p:spPr>
          <a:xfrm>
            <a:off x="1440" y="7920"/>
            <a:ext cx="9163080" cy="6831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000" y="6244920"/>
            <a:ext cx="555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E602-D2C2-4BF7-8A4B-2B5A0901BB95}" type="slidenum">
              <a:rPr b="0" lang="de-DE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flagge_eu"/>
          <p:cNvPicPr/>
          <p:nvPr/>
        </p:nvPicPr>
        <p:blipFill>
          <a:blip r:embed="rId3"/>
          <a:stretch/>
        </p:blipFill>
        <p:spPr>
          <a:xfrm>
            <a:off x="971640" y="189000"/>
            <a:ext cx="576000" cy="3603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PAMINA"/>
          <p:cNvPicPr/>
          <p:nvPr/>
        </p:nvPicPr>
        <p:blipFill>
          <a:blip r:embed="rId4"/>
          <a:stretch/>
        </p:blipFill>
        <p:spPr>
          <a:xfrm>
            <a:off x="395280" y="189000"/>
            <a:ext cx="50472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folien"/>
          <p:cNvPicPr/>
          <p:nvPr/>
        </p:nvPicPr>
        <p:blipFill>
          <a:blip r:embed="rId2"/>
          <a:stretch/>
        </p:blipFill>
        <p:spPr>
          <a:xfrm>
            <a:off x="1440" y="7920"/>
            <a:ext cx="9163080" cy="6831000"/>
          </a:xfrm>
          <a:prstGeom prst="rect">
            <a:avLst/>
          </a:prstGeom>
          <a:ln w="9360">
            <a:solidFill>
              <a:srgbClr val="eaf0ff"/>
            </a:solidFill>
            <a:miter/>
          </a:ln>
        </p:spPr>
      </p:pic>
      <p:pic>
        <p:nvPicPr>
          <p:cNvPr id="44" name="Picture 8" descr="flagge_eu"/>
          <p:cNvPicPr/>
          <p:nvPr/>
        </p:nvPicPr>
        <p:blipFill>
          <a:blip r:embed="rId3"/>
          <a:stretch/>
        </p:blipFill>
        <p:spPr>
          <a:xfrm>
            <a:off x="3708360" y="2781360"/>
            <a:ext cx="2016000" cy="1260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PAMINA"/>
          <p:cNvPicPr/>
          <p:nvPr/>
        </p:nvPicPr>
        <p:blipFill>
          <a:blip r:embed="rId4"/>
          <a:stretch/>
        </p:blipFill>
        <p:spPr>
          <a:xfrm>
            <a:off x="1835280" y="2781360"/>
            <a:ext cx="1765080" cy="1260360"/>
          </a:xfrm>
          <a:prstGeom prst="rect">
            <a:avLst/>
          </a:prstGeom>
          <a:ln w="0">
            <a:noFill/>
          </a:ln>
        </p:spPr>
      </p:pic>
      <p:sp>
        <p:nvSpPr>
          <p:cNvPr id="46" name="WordArt 12"/>
          <p:cNvSpPr txBox="1"/>
          <p:nvPr/>
        </p:nvSpPr>
        <p:spPr>
          <a:xfrm>
            <a:off x="250920" y="1486080"/>
            <a:ext cx="63370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b4ccea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MINA</a:t>
            </a:r>
            <a:endParaRPr b="0" lang="en-US" sz="1800" spc="1" strike="noStrike">
              <a:ln w="28440">
                <a:solidFill>
                  <a:srgbClr val="b4ccea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285840" y="4357440"/>
            <a:ext cx="775008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nal Worksh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orkshop in Hohenkammer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ptember, 28. - 30.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ssion II: Evolution of the disposal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ubject : Definition and assessment of scenarios – Review and new develop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mas Beu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cation and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16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D has been addressed in international and national projects for a long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rticipating organis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ook part in several former international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s, e.g. EVEREST, SPA, and BENI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ibuted to international databases or catalogues such as OECD/NEA FEP database and FEPC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ended in international studies and working groups like the former PAAG and current IGSC, as well as worksh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ssons lear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of more realistic data in future work concerning the evaluation of the normal evolution scenario is envisa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on of altered scenarios in consideration of safety functions as a new o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rong influence of expert judgement concerning the results of scenario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ing of comprehensive FEP lists is very time consuming, large lists are difficult to man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liennummernplatzhalt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BE15-180A-4575-8F26-ABEB11B5834A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cation and Experience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71680" y="1266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clusions/ results from the discu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olvement of regulators at an early stage of the SA seems desir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between implementers and regulators regarding the scenarios that need to be developed and evalu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learn a lot from each other and should participate from the developments of our partners abroad, both in a positive and negative se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 is important to document successes and failures with respect to the evolution of a reposi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generations will be involved in the entire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rehensive, suitable, and transparent documentation of successful or unsuccessful developments are vi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F174-CCAA-4832-A93C-81E71B9B33A3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28760" y="1071720"/>
            <a:ext cx="822960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s are mostly the result of gained experience from previous work and projects, reviews or changed conditions and frame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in statements/ facts from the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ment  of QSA (Qualitative Safety Analysis) was recommended, prior to scenario development for identification of calculation cases (Fr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fication of variant scenarios connected with climate change is a basis for future work (U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Arial"/>
              </a:rPr>
              <a:t>PROSA procedure for identifying scenarios will be extended by the application of SF for future safety studies (Netherlan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Arial"/>
              </a:rPr>
              <a:t>Top down system devoted to safety functions is currently being developed (Czech Republi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fety Case is being performed whereas the definition of scenarios is part of the progress report (Finlan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Arial"/>
              </a:rPr>
              <a:t>A new method based on SF is being developed. Altered evolution scenarios shall be derived on the availability or non-availability of the safety functions instead of the intactness or failure of the main barriers of the repository system (Belgiu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ment and revision of  safety requirements and guidelines are under way (Belgium, </a:t>
            </a: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France, German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lusions from the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 developments focus more or less on the consideration of safety functions either in existing methodologies by modifications or by developing new approac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ments related to regulations comprise the elaboration of new or the revision of existing regulatory criteria and provi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liennummernplatzhalt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DD0D-E6DC-44C0-8273-E84A62C628C2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w Develop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8760" y="1294920"/>
            <a:ext cx="8229600" cy="51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TDC 3 (Milestone Reports M3.1.10; M3.1.18 or deliverable D3.1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3.1.10 Final report on identification of altered evolution scenarios based on safety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3.1.18 Safety functions and scenarios in carbon steel/ bentonite/ granite conc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TDC 2: (Milestone Reports M2.2.C.1, M2.2.E.5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2.2.C.1 “Review of scenario development methods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 is based on the identification of all FEPs that might affect the disposa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ert judgement plays an important role for the identification of FEPs and development of scenar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rmal evolution scenario is the basis of the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addition some altered scenarios have to be consid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2.2.E.5 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iew of existing fully probabilistic assessments: The regulator’s perspective on the PSA approach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 considered scenarios in the presented different probabilistic assess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553D-6C81-445C-8D02-1A49FDC7695A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00040" y="114300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enario development plays a key role in 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fferent states regarding regulations (existing, revised, n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ide range of definitions and terms ex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e and meaning differ significant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entral scenario is used as a common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 need to harmonize the terminology but common understa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ide range of methods and approa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ECD/ NEA FEP database serves as a general ba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raceability of decisions by expert judgement is of great impor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prehensiveness of FEPs is achievable but cannot be pr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reat experience ex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ubjective influence of expert jud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sideration of SF plays a great r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liennummernplatzhalt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1398-3AD3-4ECE-B2D9-49371BCB5126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liennummernplatzhalt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F65E-D70C-419A-B2C4-8BB329515597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83628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680" y="157176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ral Information and Asp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gulations and Guide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cation and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s (review, new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ral Information and Asp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28760" y="1114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in goal was to summarise the essential facts, aspects, and views and to identify common opinions and understanding, different views, gaps etc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st of participating organisations which provide a con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oliennummernplatzhalt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1552-2B3F-4B96-91A5-8D7A1923BB93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hteck 5"/>
          <p:cNvSpPr/>
          <p:nvPr/>
        </p:nvSpPr>
        <p:spPr>
          <a:xfrm>
            <a:off x="714240" y="5977080"/>
            <a:ext cx="7572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Working Group (DWG) and the Evaluating Working Group (EW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VN and the subsidiary BEL V of the FANC have signed an agreement for the transfer of the regulatory activities of AVN to BEL V, as from 14/04/200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uppieren 7"/>
          <p:cNvGrpSpPr/>
          <p:nvPr/>
        </p:nvGrpSpPr>
        <p:grpSpPr>
          <a:xfrm>
            <a:off x="571680" y="1986120"/>
            <a:ext cx="8086680" cy="4038480"/>
            <a:chOff x="571680" y="1986120"/>
            <a:chExt cx="8086680" cy="4038480"/>
          </a:xfrm>
        </p:grpSpPr>
        <p:pic>
          <p:nvPicPr>
            <p:cNvPr id="101" name="Picture 2" descr=""/>
            <p:cNvPicPr/>
            <p:nvPr/>
          </p:nvPicPr>
          <p:blipFill>
            <a:blip r:embed="rId1"/>
            <a:stretch/>
          </p:blipFill>
          <p:spPr>
            <a:xfrm>
              <a:off x="571680" y="1986120"/>
              <a:ext cx="8086680" cy="40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feld 6"/>
            <p:cNvSpPr/>
            <p:nvPr/>
          </p:nvSpPr>
          <p:spPr>
            <a:xfrm>
              <a:off x="1321200" y="267192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ral Information and Aspects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28760" y="128592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eneral step is the identification of all relevant factors and their combinations to develop scen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ystematic and transparent way is vital (compliance, confide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cenario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sents the overall framework for the discussion of the evolution of the 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s a key topic in the frame of safety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s used for the identification of  the set of scenarios that will be representative of the different states of the 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ims at choosing a limited number of different scenarios that illustrate the behaviour of the RS and i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fe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mon 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ey role of SD in 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 presents the fundamental basis for  the CA inclusive UA and sensitivity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 has to demonstrate that all relevant FEPs are taken into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 has to show the compliance with corresponding reg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liennummernplatzhalt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F048-2AD5-4387-9815-89B627EC2CB4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gulations and Guide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28760" y="107136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gulations and guidelines can be a worthwhile basis for both the developers and the evalu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ulations and guidelines should take into account that uncertainties are unavoidable along the significant time frame for dispos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uidance is needed in such subjects where great uncertainty exists about future evolutions (e.g. biosphere, human activi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re are different states of regulations and guide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 fact only Finland and France have established specific regulations or guidelines regarding the handling of scen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l regulations, where scenarios are more addressed  implicitly, were formulated by the Czech Republic and 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me are currently develop general and/ or specific reg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s in turn have neither general nor specific regulatory requirements and provisions regarding S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lusion from the discu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consequence of the different regulatory states, no common opinion exists, whether regulations for SD are needed or n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some participants, guidance in general and regulations in terms of human intrusion and the biosphere are seen as help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s in turn, consider guidance and regulations as a necessary ba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fferent opinions exist also regarding the question if the regulator should provide a set of scenarios which have to be investigated by the implem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liennummernplatzhalt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BAFC-2BAA-46DB-A9A4-716163FDD0FD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terms and terminologies, meaning vary significa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ussion and communication among the different organisations and countries is rather diffic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national organisations aim for a common harmonised terminology and they issue glossaries and definitions e.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enario development is defined as "the identification, broad description, and selection of potential futures relevant to safety assessments of radioactive waste repositories.“ (OECD/NE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cenario is defined as "a postulated or assumed set of conditions and/or events. Most commonly used in analysis or assessment to represent possible future conditions and/or events to be modelled, such as possible accidents at a nuclear facility, or the possible future evolution of a repository and its surroundings. A scenario may represent the conditions at a single point in time or a single event, or a time history of conditions and/or events (including processes).“ (IAE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oliennummernplatzhalt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700E-1C0A-4B1F-A472-4E3A19A70744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rminology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in observations from the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ded definitions of terms and concepts differ wide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ly a few contributions contain a definition for "scenario development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me deliver no definitions, neither for "scenario development" nor for "scenario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ome refer to definitions from international organisations (IAEA, NE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additional terms and synonyms in connection with scenarios are in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mon approach/ 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l classification of scenarios into two groups: a "central scenario" and "other scenarios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ll organisations consider a base case which serves as a starting point for scenario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ment . This base case is named as “central scenario”. Synonyms are normal evolution scenario, base scenario, reference scenario, expected evolution scen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aining scenarios like altered evolution scenarios, variant scenarios and disturbance scenarios were assigned to the group “other scenarios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initions provided by IAEA and OECD/NEA constitute a valuable initial basis which can be modified / adapted according to the respective national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armonisation of  the terminology is not needed, but a common understanding is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liennummernplatzhalt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0261-E91A-40C7-ABAE-D65A61E661C5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2876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thodology provides the procedur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description, definition,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rivation and identification of scenarios which are relevant to analyse th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f the 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ral methodologies and techniques were applied (directed diagrams, event and fault trees, matrix diagrams, bottom up approaches, top down approaches, and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udgemental approaches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in observations from the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de range of methods and approaches in terms of scenario development are in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me of them are currently revised or will be replaced by new methods and approac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underlying basic approach is nearly the same in all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on approach comprises the description of a reference case (central scenario), and the definition of so called alternative evolutions of the RS (other scenar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ps in the procedures  are more or less similar (FEP collection, FEP screening, combination of FEPs to scenarios,  grouping of scenarios to representative scenar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volvement of expert judgement along the steps is also a comm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of the international NEA FEP database mainly as a basis for the collection of FEPs or as a check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liennummernplatzhalt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4F74-F714-4E9A-AC17-033843F35C20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thodology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2876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clusions/ results from the discu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 practise the process of developing scenarios is iter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ey topic of SD is to provid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complete, comprehensive or sufficient set of relevant scen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atic methodologies might help to identify gaps and shortfalls and therefore provide more confidence of reasonable or sufficient complete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formalised approach for the clear, transparent and accurate documentation of screened FEPs or grouped scenarios might also support the ultimate goal of complete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atic approaches should be used whenever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pert judgement  is vital but implies some subjective influences which final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not be avoi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ceability of decisions by expert judgement is of paramount impor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rehensiveness can be achieved but it cannot be 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liennummernplatzhalt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A901-567C-44E8-B76F-557A183855A2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13:25:28Z</dcterms:created>
  <dc:creator/>
  <dc:description/>
  <dc:language>en-US</dc:language>
  <cp:lastModifiedBy/>
  <dcterms:modified xsi:type="dcterms:W3CDTF">2009-09-27T15:45:04Z</dcterms:modified>
  <cp:revision>1</cp:revision>
  <dc:subject/>
  <dc:title/>
</cp:coreProperties>
</file>