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13.wmf" ContentType="image/x-wmf"/>
  <Override PartName="/ppt/media/image5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dt" idx="1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ftr" idx="1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 type="sldNum" idx="1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6605-F41E-477E-835D-276F2E79314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51E6-F526-4550-9847-F0BB0C6AB95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94BD3-DD2D-4906-BD69-2B86AB6B8D2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D9969-C807-47ED-8D31-93E4960FFF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444BE-253B-4ECF-ADA4-779CBEED712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63658-7C3E-4A0A-AB6E-26632C2236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5D703-77DB-4B8A-9E53-BDDF938E060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19602-D8C1-4469-BBA8-B6417A00A28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25A85-C04D-4098-B7B5-E8DD16BDD6A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1DA4C-C7CB-4F87-B793-3117F39EC00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4EFDE-3086-433B-8AC3-F824A7C7C4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9504-19FC-4DD2-A1AB-644B73BA1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A633-DFD5-4894-8E59-55C1A55A3D3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CFAB6-2B9D-4139-B9C1-B8BAE4A3B80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4E0E-A280-41BA-B1BC-58F1F95C8B3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803D-EC9C-4D40-A80F-479B1850A0C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DE48-376E-44EC-967F-AC615802B63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CF0C-6299-46FF-A793-C3AA60AD16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5837-E729-4F76-883E-0CCB89F6582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E829-8506-4B1C-B158-562D29E516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F5115-378D-49F1-8EB8-E1C61EA0A0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62DB-98FD-47EC-A44B-B186A21F5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407E-4773-47BD-86F6-5F746C227B7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3131B-A339-43B2-AEAF-1A24D4059D8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DE697-E3EB-483A-A22D-85D0FDF7B42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7058EB-CB5D-4DB2-BBD8-88F4EF2094B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2E2E7-7978-4459-8636-3B251FA7CC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6CE02-DD12-4CA8-88CB-8D0C00CDC4B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8577F1-BDCD-48C2-B949-DE1EB0C636B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154C6-3905-4172-A31C-3D7CD87445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728C6-6552-4CD3-800A-FA9B46618F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0FF5A-17B7-40AC-BFC6-903019CF3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97ED-2E67-4261-9591-1A970474A10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C0A89-25D4-4A0D-B65A-62DD9842F1D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B53CF-2792-408A-904E-71E2925236A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AC2DF-D86A-433E-B95F-32221B46DF0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094A5-8709-4653-BE97-8F67F8F5F80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A7B7C-98D4-461C-9263-25DFCA4FEE9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C5C88-913F-47C7-9791-2C83D7A662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B2B55-1544-4056-AAA2-6962DF8366D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4C362-E55E-46F1-841F-01178D997BE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4328B-BA15-4DEB-8417-A138C7B91F1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083A3-91EB-4BA1-931F-F7E925E9E6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F292-C869-487C-960F-95ED1613DBB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3280B-832E-4581-AD0D-FADA67C867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DB32F-684E-485F-9668-B9E0E81360C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44B48-26B7-43A6-BA54-56A2F7286C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6E027-D453-4FBC-BFDB-0C5EB9C7239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13D686-1611-41D9-A2EB-E3D4A1E7461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FB0E-78E1-4042-B892-13C4ED8C556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4569-40F0-4C56-AE78-BCF2212D2DE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C693-1410-44B3-9055-CA3115602BA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C94D0-8175-437D-9A84-FB4E65D5D72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793E-4626-424A-9E52-B22AC1254E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1647-E1D6-4D86-B030-DB170982CAE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6BEC-D704-49B5-966A-19DB124CC11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2CBB-4B31-4665-9142-71ED8C3E8FA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FB33D-A9D1-4ABE-87F9-BEB8569A386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36268-2E47-4635-A860-F743D75BCDD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70B61-DA01-43CF-8C78-8761FF6BFC9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571A3-AF13-4A87-9706-5F66A6FE07F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2F6C-9988-4C26-9428-8B329523934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CBA4B9-8B56-41F6-AB44-21BF01EDB0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303FE3-5DDC-4400-A414-B35CB58F4F5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724386-9021-4690-B633-F1978BEE07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5F5A-D50E-44D2-81A1-806C27208E4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849850-B7C7-4765-8CEE-6E56BE7DF23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86DC54-DF63-4829-AB3B-38D6E75C08B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64F69C-7961-41BD-B933-64809597237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BBE3E-F55A-4837-B013-BBFCDBB9E1E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B5FE29-98B7-419D-9D31-C73CE3D6961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1AB01B-D262-4754-89AC-B187BD4D09B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0B2DE-F9F0-4D52-8308-6DAAAD6478D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FAD174-5879-4865-B4CD-83B582A35EC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3FC488-E71B-470C-869F-8223A00A6DA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02AB4-C113-434E-9852-89B4439F05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6B0D-309C-4FB4-B495-B1CF21035CA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1FD6E-92DE-4DF2-A842-B18603A2350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D9D3F-07CD-4EF2-A0AD-D510514E529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335DA-0034-4E2E-BE83-0ECBF4AE7B4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564C7-0B03-429F-9D4E-A7E54BA2E9E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8638E-2DAA-4B91-9C13-86DA473243A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E36845-D30F-4BF4-976A-7C5188D4B62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249FE-0123-4110-953D-DCC6F8E3DD6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3D23B-AA22-42C4-9B9C-E877333445A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7666B-9921-401E-8DDD-43F35A65E09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BF2F4-A28B-460A-BEF8-59421455F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28F7-764C-4715-9660-608A9667974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C0E06-25A9-4BCF-8438-84CDC40A12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8F58-05C0-47BD-B8C0-1EB86EDAD9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1A68-9E8A-481B-89AC-DB938537BA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42B7-4B29-48DB-90EA-DFA7E7C532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8F726-A758-4BE8-8A43-9035C5F983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AA690-578F-40D7-BE3C-5249C91703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89BD5-17FA-4D6D-9084-90BAE06B3C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DEFA-023F-45BD-9CEC-CEA351A012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B6A2-1F2E-43E6-98A7-A304675E0B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48DD1-D852-4296-A54F-9F62758AF2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8AC5-1B88-4E56-B8F2-F81C59ECF9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2136-3BA9-4083-B833-6761486968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3EC2-62BE-4CF8-838E-E31361DF56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494D-3B03-404E-A638-FFB575871A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7921-5818-48E7-9373-F6D95B5C8A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71DE-9811-43C8-A1CE-69A050CBCB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C0A4-A8C0-4B25-AF38-7D65EA27CD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61A7-D045-41B7-8AD1-C03652B94A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AE80-0ED5-478A-944D-1B285AE52B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059-5ACB-4EB3-8BAF-DB75C45541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06F-4A2B-475B-A266-3ACDCF80F2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E22-C77F-40E0-A1AC-BA9D2158D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2BA-DA41-4694-B415-473D598342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AFF-9FEC-4122-BE39-1C5B2265E9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639-D358-47AC-8071-7C9C1FF13A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D07-7D2D-4620-B4C1-0794152C3B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B1A-1710-49AA-85F7-A72935B9B9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F31-356E-4B2F-B95F-FEB520845B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7F8-A484-44A8-93FC-2ABCA828B8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3DA-D611-4C33-A4AF-90581773D6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0D4-D16F-47E8-A8AC-1626955887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9DF19-2CF1-4AC9-9952-744C68576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6A0CF-C18B-4584-A96A-EF0E775003A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263FE-2B0B-4D40-849A-60F7DEBD85A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09F07-200F-4351-862A-68B88F7631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F356A-294E-4B30-ABA6-C8733C135EE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0839A-1B65-4C27-A897-9049E3EB39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73E06-3F7F-45B0-B7C3-DECF1EE8C4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70952-77FB-4D53-B264-EB693E9D02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FB326-F59F-454B-9253-8C2C6FBE90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CC9CC-EE41-49D5-ACE6-27B89369A7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0B05D-2702-4605-8617-CF7374C48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67ADD-54B5-4956-800A-8E7AD5E854A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23E95-2710-423E-9657-76DBD24031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68211-AA3D-4477-9126-5E9EC8391C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15379-7B3E-4F11-ADE2-A7015F560D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0747F-A64F-4B0E-8322-0E2CC04B5C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D6AB7-5C34-4036-B9EE-085DF7CB6C0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66908-32DF-4EBB-9122-7F46AB831C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F3347-1779-4AE8-887D-0A3C607FD6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1C397-9242-4E2A-8022-38A686EAC7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DC8ED-95D0-4F7B-BDD5-A11C8F90B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B5983-6DF1-462D-9A9E-3D21BD34BB7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D1160-9713-42F0-971D-6DD838CE78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11B3E-0870-45EE-9AB4-06B6A7CE38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FB03-5D07-4429-9045-E01BE865B40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3FBE-67E8-404F-9E2C-B748A5F991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8FD1-8E7F-4238-BBF2-E16F47056A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7E0D-332A-410B-9B06-5D62CE4407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0E71-0AF0-4F5E-B1FF-B0EF310403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69E9-8E10-4E84-9E77-DEA4E3781A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B8D9-42BC-4202-9606-885455D3D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23B9-4E36-436B-B93E-2A62889AF9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687-DE7A-4308-9F6B-BCF5D242386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CE4F-74D0-42C4-A57F-777DFBB0A57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CD5A-324C-4E83-9292-859267A049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6442-C001-4B3A-ACDA-FBE5A1ABDF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09F434-FCC7-4C17-8719-D599A19906B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39438E-2235-48D0-80AE-53932336E8D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7D8CE8-C1D9-4ECD-97F3-929CEFB9B90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FAE99-1A7C-4B87-9FE4-36E99D49D09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C7359-33C4-4652-AF93-F449B517B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A618D1-0411-4BF7-8080-3ACFB6921E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E85457-6BB0-4CE1-AD89-4772BF5BAC2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B1424-604F-4E38-A23B-292C47D2BE7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663736-4343-4AC5-9E48-362D93AC235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31E79-968E-47E2-8AF1-7144A1621A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7E8BC-BA8B-41E0-A570-2945EEA2CB1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DC7EE-62EA-403C-8E97-5B887FEE323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4EB4A-C57A-4D57-BDAE-6C4EC56657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E81D5-2BC7-4F1D-9556-513531D065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8C677-498B-4ED0-8AF1-0A1437439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14A1-FF54-4A1B-9707-E3FFD2DE81BC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149-07EA-4C59-9FD0-C9415F597B84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3C04-4FB5-4436-8ADA-FB766AE6C59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625B-D0EF-47E4-9ADF-1EB83EC209D0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B323-BD77-4C37-AD94-C423F658AD4D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F701-3170-4F14-8EA8-ED69EF6A2EC9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CFDD-93E8-4B63-A42A-F0F84610144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2CB2-D40D-4BF3-8B51-4F94F14B9983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0FBB-ABC8-4C0C-99DB-76D449452B31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93CA-6CEF-4761-B12C-B92F22809132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0B38-7F67-4243-9BC8-C7416F64DD32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0732-A71B-4E7E-93DD-9E9390B9719A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4AA3-1380-4EA4-8C6C-C992686ADB33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sp>
        <p:nvSpPr>
          <p:cNvPr id="43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5E20-31F9-424E-8A08-18599126471F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r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 /10</a:t>
            </a:r>
            <a:r>
              <a:rPr b="1" i="1" lang="en-GB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128556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2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DAF7-D67D-423E-B2B7-5264B46CA472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E1FD-2232-4715-87AF-CDFD93526F03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96F2-A12F-40A5-9257-E280FB376279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79E-26BD-4C37-8A79-77A8DBFD064F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599-0BE6-4747-B8FB-C409B925B85C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D6FE-F0AA-4CEC-B64F-7FA8A6B5B63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8FC-E78C-42E7-94EE-B4973D0C2A7F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DF82-9CC8-444B-A58A-F802A7346CA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C010-0D37-4645-86EE-F7230A6C1C22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DF13-6B94-4E8F-8D52-D9BAEB45B6E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844-3157-421A-8151-16A46C0BED03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1092-50C5-4403-B86B-AD440B20EBA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51"/>
          <p:cNvSpPr/>
          <p:nvPr/>
        </p:nvSpPr>
        <p:spPr>
          <a:xfrm>
            <a:off x="4537080" y="6769080"/>
            <a:ext cx="464328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4E50-50AF-406C-AECF-3718E8D3942F}" type="slidenum">
              <a:rPr b="1" i="1" lang="en-GB" sz="1000" spc="-1" strike="noStrike">
                <a:solidFill>
                  <a:srgbClr val="000066"/>
                </a:solidFill>
                <a:latin typeface="Arial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1285920" y="6357960"/>
            <a:ext cx="727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PAMINA – Final Workshop – Septembre, 28. – 30. 2009 – Hohenkammer,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Image 9" descr="Pamina_Logo.jpg"/>
          <p:cNvPicPr/>
          <p:nvPr/>
        </p:nvPicPr>
        <p:blipFill>
          <a:blip r:embed="rId3"/>
          <a:stretch/>
        </p:blipFill>
        <p:spPr>
          <a:xfrm>
            <a:off x="0" y="6224760"/>
            <a:ext cx="1255680" cy="6332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D3A7-2C2E-4E78-AACF-C3EE02DB8891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dc.es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142560" y="785880"/>
            <a:ext cx="8893080" cy="24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sting the K</a:t>
            </a:r>
            <a:r>
              <a:rPr b="1" lang="en-US" sz="3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-approach with a multicomponent geochemical reactive transport model for a HLW repository in granite for Cs and Ni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900000" y="3429000"/>
            <a:ext cx="7848720" cy="27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66"/>
                </a:solidFill>
                <a:uFillTx/>
                <a:latin typeface="Arial"/>
              </a:rPr>
              <a:t>J. Samper</a:t>
            </a:r>
            <a:r>
              <a:rPr b="0" lang="es-ES_tradnl" sz="26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s-ES_tradnl" sz="2600" spc="-1" strike="noStrike">
                <a:solidFill>
                  <a:srgbClr val="000066"/>
                </a:solidFill>
                <a:latin typeface="Arial"/>
              </a:rPr>
              <a:t>, C. Lu</a:t>
            </a:r>
            <a:r>
              <a:rPr b="0" lang="es-ES_tradnl" sz="26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s-ES_tradnl" sz="2600" spc="-1" strike="noStrike">
                <a:solidFill>
                  <a:srgbClr val="000066"/>
                </a:solidFill>
                <a:latin typeface="Arial"/>
              </a:rPr>
              <a:t>, H. Ma</a:t>
            </a:r>
            <a:r>
              <a:rPr b="0" lang="es-ES_tradnl" sz="26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s-ES_tradnl" sz="2600" spc="-1" strike="noStrike">
                <a:solidFill>
                  <a:srgbClr val="000066"/>
                </a:solidFill>
                <a:latin typeface="Arial"/>
              </a:rPr>
              <a:t>, J.L. Cormenzana</a:t>
            </a:r>
            <a:r>
              <a:rPr b="0" lang="es-ES_tradnl" sz="26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_tradnl" sz="2600" spc="-1" strike="noStrike">
                <a:solidFill>
                  <a:srgbClr val="000066"/>
                </a:solidFill>
                <a:latin typeface="Arial"/>
              </a:rPr>
              <a:t>, M.A. Cuñado</a:t>
            </a:r>
            <a:r>
              <a:rPr b="0" lang="es-ES_tradnl" sz="26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 University of La Coruña, 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66"/>
                </a:solidFill>
                <a:latin typeface="Arial"/>
              </a:rPr>
              <a:t> ENRESA 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5" descr="escudo_udc">
            <a:hlinkClick r:id="rId1"/>
          </p:cNvPr>
          <p:cNvPicPr/>
          <p:nvPr/>
        </p:nvPicPr>
        <p:blipFill>
          <a:blip r:embed="rId2"/>
          <a:srcRect l="0" t="68241" r="0" b="0"/>
          <a:stretch/>
        </p:blipFill>
        <p:spPr>
          <a:xfrm>
            <a:off x="3419640" y="5630760"/>
            <a:ext cx="1446120" cy="2206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rcRect l="62772" t="21766" r="23495" b="74923"/>
          <a:stretch/>
        </p:blipFill>
        <p:spPr>
          <a:xfrm>
            <a:off x="5364000" y="5805360"/>
            <a:ext cx="1538280" cy="301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8" descr="00"/>
          <p:cNvPicPr/>
          <p:nvPr/>
        </p:nvPicPr>
        <p:blipFill>
          <a:blip r:embed="rId4"/>
          <a:stretch/>
        </p:blipFill>
        <p:spPr>
          <a:xfrm>
            <a:off x="3635280" y="5950080"/>
            <a:ext cx="9288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3"/>
          <p:cNvSpPr/>
          <p:nvPr/>
        </p:nvSpPr>
        <p:spPr>
          <a:xfrm>
            <a:off x="395280" y="765000"/>
            <a:ext cx="856944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rrogates of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rk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 a function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s a function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ition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effect of Cs on Ni is not 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rrosion products affect Ni sorption through the effect on 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Conclusions for 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"/>
          <p:cNvSpPr/>
          <p:nvPr/>
        </p:nvSpPr>
        <p:spPr>
          <a:xfrm>
            <a:off x="395280" y="3429000"/>
            <a:ext cx="8497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nsitivity analyses indicate that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nsitivity to diffusion coefficient of bento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nsitive to the concentration of sorption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ve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nsitivity to water flux and Ni solu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4479840" y="226548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Benchmark Test Case: reference concep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4643280" y="833400"/>
            <a:ext cx="45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Spain reference concept for a HLW repository in grani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pent fu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arbon steel can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ntonite barri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eological barrier: gran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febex_concept"/>
          <p:cNvPicPr/>
          <p:nvPr/>
        </p:nvPicPr>
        <p:blipFill>
          <a:blip r:embed="rId1"/>
          <a:stretch/>
        </p:blipFill>
        <p:spPr>
          <a:xfrm>
            <a:off x="3286080" y="3184560"/>
            <a:ext cx="4896000" cy="354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agp"/>
          <p:cNvPicPr/>
          <p:nvPr/>
        </p:nvPicPr>
        <p:blipFill>
          <a:blip r:embed="rId2"/>
          <a:stretch/>
        </p:blipFill>
        <p:spPr>
          <a:xfrm>
            <a:off x="250920" y="981000"/>
            <a:ext cx="4037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877160" cy="37576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"/>
          <p:cNvPicPr/>
          <p:nvPr/>
        </p:nvPicPr>
        <p:blipFill>
          <a:blip r:embed="rId2">
            <a:alphaModFix amt="21000"/>
          </a:blip>
          <a:stretch/>
        </p:blipFill>
        <p:spPr>
          <a:xfrm>
            <a:off x="900000" y="4869000"/>
            <a:ext cx="7344000" cy="164628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7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Benchmark Test Case: numerical mode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7056360" y="126828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Finite 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ells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s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2411280" y="4581360"/>
            <a:ext cx="244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Finite element grid of COR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324000" y="836640"/>
            <a:ext cx="8569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othermal reactive transport model of near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ng-term (1 Ma) hydrochemical evo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el starts after bentonite reaches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nister corr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regarded first in the base r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ter the effects of corrosion products are accounte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tion exchange and surface complexation model of Bradbury &amp; Baey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port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ffusion in bentonite &amp; advection at the bentonite-granit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nister filled with 500 L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s is added at a prescribed 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i is assumed to be controlled by solubility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Benchmark Test Case: numerical mode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3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769080" cy="427824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2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Model results for Nic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395280" y="765000"/>
            <a:ext cx="8569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of Ni is not constant. It depends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olved Ni concentration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and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rbs at strong sites first. Later at weak site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807320" cy="476244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2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Model results for Nic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8000" y="6933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TSM and constant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di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Model results for Nic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000" y="6933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rrog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755640" y="1628640"/>
            <a:ext cx="6481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a function  F[c, pH(t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rrogate 1: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(c) for a fixed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0" descr=""/>
          <p:cNvPicPr/>
          <p:nvPr/>
        </p:nvPicPr>
        <p:blipFill>
          <a:blip r:embed="rId1"/>
          <a:stretch/>
        </p:blipFill>
        <p:spPr>
          <a:xfrm>
            <a:off x="2611440" y="2852640"/>
            <a:ext cx="5103720" cy="321804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11"/>
          <p:cNvSpPr/>
          <p:nvPr/>
        </p:nvSpPr>
        <p:spPr>
          <a:xfrm>
            <a:off x="-1620720" y="3573360"/>
            <a:ext cx="244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2"/>
          <p:cNvSpPr/>
          <p:nvPr/>
        </p:nvSpPr>
        <p:spPr>
          <a:xfrm rot="3847200">
            <a:off x="5683680" y="4280400"/>
            <a:ext cx="2665440" cy="8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3330720" y="3716280"/>
            <a:ext cx="15490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2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Model results for Nic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000" y="6933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rroga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755640" y="1628640"/>
            <a:ext cx="6481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rrogate 2: K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F[c, pH(t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C) as 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clude Kd[pH(t)]  from RT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-1620720" y="3573360"/>
            <a:ext cx="244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 rot="3768600">
            <a:off x="179280" y="4005000"/>
            <a:ext cx="26654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17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4464000" cy="28098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11"/>
          <p:cNvSpPr/>
          <p:nvPr/>
        </p:nvSpPr>
        <p:spPr>
          <a:xfrm rot="17491200">
            <a:off x="827640" y="4108680"/>
            <a:ext cx="23036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"/>
          <p:cNvSpPr/>
          <p:nvPr/>
        </p:nvSpPr>
        <p:spPr>
          <a:xfrm>
            <a:off x="1260360" y="3429000"/>
            <a:ext cx="1908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(p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12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4067280" cy="222912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2"/>
          <p:cNvSpPr/>
          <p:nvPr/>
        </p:nvSpPr>
        <p:spPr>
          <a:xfrm>
            <a:off x="6443640" y="3143160"/>
            <a:ext cx="190836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H(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3" descr=""/>
          <p:cNvPicPr/>
          <p:nvPr/>
        </p:nvPicPr>
        <p:blipFill>
          <a:blip r:embed="rId1"/>
          <a:stretch/>
        </p:blipFill>
        <p:spPr>
          <a:xfrm>
            <a:off x="900000" y="1612800"/>
            <a:ext cx="7345440" cy="448020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2"/>
          <p:cNvSpPr/>
          <p:nvPr/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Model results for Nic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0" y="765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mparing TSM (UDC) &amp;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(ENRESA)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leas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1"/>
          <p:cNvSpPr/>
          <p:nvPr/>
        </p:nvSpPr>
        <p:spPr>
          <a:xfrm>
            <a:off x="4356000" y="2423160"/>
            <a:ext cx="863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T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1"/>
          <p:cNvSpPr/>
          <p:nvPr/>
        </p:nvSpPr>
        <p:spPr>
          <a:xfrm>
            <a:off x="8028000" y="1846800"/>
            <a:ext cx="863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Kd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1"/>
          <p:cNvSpPr/>
          <p:nvPr/>
        </p:nvSpPr>
        <p:spPr>
          <a:xfrm>
            <a:off x="7308720" y="2710440"/>
            <a:ext cx="16560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Kd[c, pH(t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7:47:16Z</dcterms:created>
  <dc:creator> </dc:creator>
  <dc:description/>
  <dc:language>en-US</dc:language>
  <cp:lastModifiedBy>munier-i</cp:lastModifiedBy>
  <cp:lastPrinted>2008-09-23T22:11:01Z</cp:lastPrinted>
  <dcterms:modified xsi:type="dcterms:W3CDTF">2009-09-25T11:51:37Z</dcterms:modified>
  <cp:revision>137</cp:revision>
  <dc:subject/>
  <dc:title>Diapositiva 1</dc:title>
</cp:coreProperties>
</file>