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5422-5D14-48EB-9FF0-5FB5922C895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0A64-C5FD-4CA2-AF2D-E6091F130F4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1F33-B295-46AB-89F9-4854368FD11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4E1C-D68A-430F-811B-84C422698A9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B664-C3A5-4C57-9203-FC5EC536A96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877F-C30C-4527-9F45-E9DD5CABAE7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C6AD-5A35-489C-9F87-EFBBC4F5B6B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6B18-0273-43AA-A6E7-15D2273A768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D03F-CF55-4D69-8074-2D978500233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B237-37A6-47BC-9585-C305F8738FC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D599-62FF-47E9-93E6-97327EFD378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F683-15A1-4072-95A0-776560B5DDA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208D-47BD-44BB-A007-B90EEBC7B65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D06A-A2E7-4A09-B8AB-09FF037B2E7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654F-A6BA-484D-B171-F7196401CE4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48C6-FBD6-4259-ADB8-93244F25D03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0850-AEE0-4DBF-921F-9C9554DB41A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72FDD-A4E0-4EAD-8BA6-7E701BEFD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A54B5-9E8B-4324-8C88-CEE58ABF2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90490-6059-4D01-B358-2602776A9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B2869-7FC1-4697-95C2-797D802CE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E82D3-096C-4FAC-9506-E96C53234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3DA6-68C0-422C-8BC0-45F7A4E22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78A4D-9621-4D85-B890-D323C338A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D7642-8E2E-44D5-8A88-974BFD8E2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97D1D-41A9-4471-96D7-276FD2342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9DB36-E4DF-4091-BECA-A569FE3F4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037A0-D413-4D38-8E61-A145CF1AC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A882B-27D9-4230-BB06-8B8EB5886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8F7C-70B0-4C9D-B52F-500C70344026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flagge_eu"/>
          <p:cNvPicPr/>
          <p:nvPr/>
        </p:nvPicPr>
        <p:blipFill>
          <a:blip r:embed="rId3"/>
          <a:stretch/>
        </p:blipFill>
        <p:spPr>
          <a:xfrm>
            <a:off x="971640" y="189000"/>
            <a:ext cx="576000" cy="3603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PAMINA"/>
          <p:cNvPicPr/>
          <p:nvPr/>
        </p:nvPicPr>
        <p:blipFill>
          <a:blip r:embed="rId4"/>
          <a:stretch/>
        </p:blipFill>
        <p:spPr>
          <a:xfrm>
            <a:off x="395280" y="189000"/>
            <a:ext cx="50472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9360">
            <a:solidFill>
              <a:srgbClr val="eaf0ff"/>
            </a:solidFill>
            <a:miter/>
          </a:ln>
        </p:spPr>
      </p:pic>
      <p:pic>
        <p:nvPicPr>
          <p:cNvPr id="44" name="Picture 8" descr="flagge_eu"/>
          <p:cNvPicPr/>
          <p:nvPr/>
        </p:nvPicPr>
        <p:blipFill>
          <a:blip r:embed="rId3"/>
          <a:stretch/>
        </p:blipFill>
        <p:spPr>
          <a:xfrm>
            <a:off x="3708360" y="2781360"/>
            <a:ext cx="2016000" cy="1260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AMINA"/>
          <p:cNvPicPr/>
          <p:nvPr/>
        </p:nvPicPr>
        <p:blipFill>
          <a:blip r:embed="rId4"/>
          <a:stretch/>
        </p:blipFill>
        <p:spPr>
          <a:xfrm>
            <a:off x="1835280" y="2781360"/>
            <a:ext cx="1765080" cy="1260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12"/>
          <p:cNvSpPr txBox="1"/>
          <p:nvPr/>
        </p:nvSpPr>
        <p:spPr>
          <a:xfrm>
            <a:off x="250920" y="1486080"/>
            <a:ext cx="633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b4cce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MINA</a:t>
            </a:r>
            <a:endParaRPr b="0" lang="en-US" sz="2400" spc="1" strike="noStrike">
              <a:ln w="28440">
                <a:solidFill>
                  <a:srgbClr val="b4cce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863640" y="333360"/>
            <a:ext cx="69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MINA Final Workshop – Hohenkammer– Sept 28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30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46479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upscaling methods and application to gran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3386160" y="5716440"/>
            <a:ext cx="44449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ier Rodrigo-Ilar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aulic and Environmental Engineering 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dad Politécnica de Valencia (Spa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logo_upv.jpg"/>
          <p:cNvPicPr/>
          <p:nvPr/>
        </p:nvPicPr>
        <p:blipFill>
          <a:blip r:embed="rId1"/>
          <a:stretch/>
        </p:blipFill>
        <p:spPr>
          <a:xfrm>
            <a:off x="573120" y="5715000"/>
            <a:ext cx="23223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6709-9321-43FE-A847-A13C7512E6FE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468360" y="981000"/>
            <a:ext cx="8218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liverable 2.2.D.1 -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aluation and Testing of Approa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 treat Spatial Variability in P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Deliverable 2.2.D.1.png"/>
          <p:cNvPicPr/>
          <p:nvPr/>
        </p:nvPicPr>
        <p:blipFill>
          <a:blip r:embed="rId1"/>
          <a:stretch/>
        </p:blipFill>
        <p:spPr>
          <a:xfrm>
            <a:off x="533520" y="1905120"/>
            <a:ext cx="387972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3"/>
          <p:cNvSpPr/>
          <p:nvPr/>
        </p:nvSpPr>
        <p:spPr>
          <a:xfrm>
            <a:off x="4876920" y="1981080"/>
            <a:ext cx="35812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7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on PAMINA web site for down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4"/>
          <p:cNvSpPr/>
          <p:nvPr/>
        </p:nvSpPr>
        <p:spPr>
          <a:xfrm>
            <a:off x="4952880" y="3124080"/>
            <a:ext cx="350532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- State of the Art on upscaling tech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- Treatment of spatially dependent input variables in sensitivity analysis of model output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- Review of spatial variability in Performance Assess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- Plan for PA exercises to test techniques for upsca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952880" y="3505320"/>
            <a:ext cx="3353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4724280" y="3429000"/>
            <a:ext cx="3276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5029200" y="4038480"/>
            <a:ext cx="3505320" cy="6858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2C19-57E8-4395-B511-4EE11D756EC6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68360" y="981000"/>
            <a:ext cx="8218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- Treatment of spatially dependent input variables in sensitivity analysis of model outpu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Captura de pantalla 2009-09-27 a las 21.09.19.png"/>
          <p:cNvPicPr/>
          <p:nvPr/>
        </p:nvPicPr>
        <p:blipFill>
          <a:blip r:embed="rId1"/>
          <a:stretch/>
        </p:blipFill>
        <p:spPr>
          <a:xfrm>
            <a:off x="609480" y="2057400"/>
            <a:ext cx="6838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EF1D-FB47-430C-BDC3-6E18DD0B8B4D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68360" y="981000"/>
            <a:ext cx="8218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- Treatment of spatially dependent input variables in sensitivity analysis of model outpu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Captura de pantalla 2009-09-27 a las 21.09.30.png"/>
          <p:cNvPicPr/>
          <p:nvPr/>
        </p:nvPicPr>
        <p:blipFill>
          <a:blip r:embed="rId1"/>
          <a:stretch/>
        </p:blipFill>
        <p:spPr>
          <a:xfrm>
            <a:off x="380880" y="1981080"/>
            <a:ext cx="6567480" cy="3124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Captura de pantalla 2009-09-27 a las 21.09.40.png"/>
          <p:cNvPicPr/>
          <p:nvPr/>
        </p:nvPicPr>
        <p:blipFill>
          <a:blip r:embed="rId2"/>
          <a:stretch/>
        </p:blipFill>
        <p:spPr>
          <a:xfrm>
            <a:off x="3429000" y="3886200"/>
            <a:ext cx="5745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D187-6C7D-44E5-B7A5-7EFCE38FC3CF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468360" y="981000"/>
            <a:ext cx="8218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liverable 2.2.D.1 -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aluation and Testing of Approa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 treat Spatial Variability in P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Deliverable 2.2.D.1.png"/>
          <p:cNvPicPr/>
          <p:nvPr/>
        </p:nvPicPr>
        <p:blipFill>
          <a:blip r:embed="rId1"/>
          <a:stretch/>
        </p:blipFill>
        <p:spPr>
          <a:xfrm>
            <a:off x="533520" y="1905120"/>
            <a:ext cx="3879720" cy="49528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3"/>
          <p:cNvSpPr/>
          <p:nvPr/>
        </p:nvSpPr>
        <p:spPr>
          <a:xfrm>
            <a:off x="4876920" y="1981080"/>
            <a:ext cx="35812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7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on PAMINA web site for down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4"/>
          <p:cNvSpPr/>
          <p:nvPr/>
        </p:nvSpPr>
        <p:spPr>
          <a:xfrm>
            <a:off x="4952880" y="3124080"/>
            <a:ext cx="350532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- State of the Art on upscaling tech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- Treatment of spatially dependent input variables in sensitivity analysis of model output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- Review of spatial variability in Performance Assess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- Plan for PA exercises to test techniques for upsca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4952880" y="3505320"/>
            <a:ext cx="3353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4724280" y="3429000"/>
            <a:ext cx="3276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5029200" y="4724280"/>
            <a:ext cx="3505320" cy="5335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DB4C-87ED-4322-BECA-8D179C538370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68360" y="981000"/>
            <a:ext cx="8218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- Review of spatial variability in Performance 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Captura de pantalla 2009-09-27 a las 21.13.30.png"/>
          <p:cNvPicPr/>
          <p:nvPr/>
        </p:nvPicPr>
        <p:blipFill>
          <a:blip r:embed="rId1"/>
          <a:stretch/>
        </p:blipFill>
        <p:spPr>
          <a:xfrm>
            <a:off x="1295280" y="1905120"/>
            <a:ext cx="5257800" cy="2576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Captura de pantalla 2009-09-27 a las 21.13.39.png"/>
          <p:cNvPicPr/>
          <p:nvPr/>
        </p:nvPicPr>
        <p:blipFill>
          <a:blip r:embed="rId2"/>
          <a:stretch/>
        </p:blipFill>
        <p:spPr>
          <a:xfrm>
            <a:off x="1255680" y="4419720"/>
            <a:ext cx="6821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23C3-24EB-4E89-B20A-2C3E49D044D2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68360" y="981000"/>
            <a:ext cx="8218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liverable 2.2.D.1 -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aluation and Testing of Approa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 treat Spatial Variability in P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Deliverable 2.2.D.1.png"/>
          <p:cNvPicPr/>
          <p:nvPr/>
        </p:nvPicPr>
        <p:blipFill>
          <a:blip r:embed="rId1"/>
          <a:stretch/>
        </p:blipFill>
        <p:spPr>
          <a:xfrm>
            <a:off x="533520" y="1905120"/>
            <a:ext cx="3879720" cy="49528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3"/>
          <p:cNvSpPr/>
          <p:nvPr/>
        </p:nvSpPr>
        <p:spPr>
          <a:xfrm>
            <a:off x="4876920" y="1981080"/>
            <a:ext cx="35812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7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on PAMINA web site for down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4"/>
          <p:cNvSpPr/>
          <p:nvPr/>
        </p:nvSpPr>
        <p:spPr>
          <a:xfrm>
            <a:off x="4952880" y="3124080"/>
            <a:ext cx="350532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- State of the Art on upscaling tech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- Treatment of spatially dependent input variables in sensitivity analysis of model output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- Review of spatial variability in Performance Assess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- Plan for PA exercises to test techniques for upsca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4952880" y="3505320"/>
            <a:ext cx="3353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4724280" y="3429000"/>
            <a:ext cx="3276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5029200" y="5257800"/>
            <a:ext cx="3505320" cy="5335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9B6F-7E0C-4BCD-B4FE-DD484A141E8B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468360" y="981000"/>
            <a:ext cx="8218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- Plan for PA exercises to test techniques for up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685800" y="2209680"/>
            <a:ext cx="662940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1.- General treatment of upscaling on the PA Exerc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2.- Upscaling of flow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3.- Upscaling of transport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807120" y="4572000"/>
            <a:ext cx="2757960" cy="313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of work on WP2.2.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0"/>
          <p:cNvSpPr/>
          <p:nvPr/>
        </p:nvSpPr>
        <p:spPr>
          <a:xfrm>
            <a:off x="4904640" y="4572000"/>
            <a:ext cx="3490920" cy="313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to granites on WP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Elbow Connector 12"/>
          <p:cNvCxnSpPr>
            <a:stCxn id="177" idx="3"/>
            <a:endCxn id="178" idx="1"/>
          </p:cNvCxnSpPr>
          <p:nvPr/>
        </p:nvCxnSpPr>
        <p:spPr>
          <a:xfrm>
            <a:off x="3609720" y="4734000"/>
            <a:ext cx="12675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F9E7-E18D-41B3-AA66-B778E55DD49A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2144520"/>
            <a:ext cx="8229600" cy="22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 codes model the transport of radionuclides in the geosphere often using a fairly simple 1D approa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 this WP transport has been evaluated using a more complex modelling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68360" y="981000"/>
            <a:ext cx="8218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P 4.2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PA Approaches Based on Different Geometry Complexity of Mod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2484360" y="4437000"/>
            <a:ext cx="1368360" cy="4348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4719960" y="4908600"/>
            <a:ext cx="2171160" cy="313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anite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"/>
          <p:cNvPicPr/>
          <p:nvPr/>
        </p:nvPicPr>
        <p:blipFill>
          <a:blip r:embed="rId2"/>
          <a:stretch/>
        </p:blipFill>
        <p:spPr>
          <a:xfrm>
            <a:off x="2411280" y="5229360"/>
            <a:ext cx="15112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17E6-C421-48F3-A305-E092BBBF9665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68360" y="981000"/>
            <a:ext cx="8218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P 4.2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Granite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rcRect l="0" t="0" r="11163" b="0"/>
          <a:stretch/>
        </p:blipFill>
        <p:spPr>
          <a:xfrm>
            <a:off x="1409760" y="2743200"/>
            <a:ext cx="4603680" cy="39020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6588000" y="3500280"/>
            <a:ext cx="21639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Arial"/>
              </a:rPr>
              <a:t>Available data provided by EN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029200" y="5257800"/>
            <a:ext cx="38862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The benchmark case specificatio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was prepared jointly with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RESA (Milestone 4.2.2 and Milestone 4.2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533520" y="1828800"/>
            <a:ext cx="8153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series of exercises of radionuclide transport in the granite host rock have been perform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CA14-F2F9-4D51-B68B-600FB8D9D885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468360" y="981000"/>
            <a:ext cx="8218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P 4.2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Granite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8" descr=""/>
          <p:cNvPicPr/>
          <p:nvPr/>
        </p:nvPicPr>
        <p:blipFill>
          <a:blip r:embed="rId1"/>
          <a:stretch/>
        </p:blipFill>
        <p:spPr>
          <a:xfrm>
            <a:off x="228600" y="3301920"/>
            <a:ext cx="2706840" cy="3403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"/>
          <p:cNvPicPr/>
          <p:nvPr/>
        </p:nvPicPr>
        <p:blipFill>
          <a:blip r:embed="rId2"/>
          <a:stretch/>
        </p:blipFill>
        <p:spPr>
          <a:xfrm>
            <a:off x="3035160" y="3343320"/>
            <a:ext cx="2679840" cy="333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5715000" y="3301920"/>
            <a:ext cx="2693880" cy="33908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2"/>
          <p:cNvSpPr/>
          <p:nvPr/>
        </p:nvSpPr>
        <p:spPr>
          <a:xfrm>
            <a:off x="444600" y="1947960"/>
            <a:ext cx="41814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IM: 3 families of stochastic fra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deterministic fra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IM: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0 * 640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3" descr=""/>
          <p:cNvPicPr/>
          <p:nvPr/>
        </p:nvPicPr>
        <p:blipFill>
          <a:blip r:embed="rId4"/>
          <a:stretch/>
        </p:blipFill>
        <p:spPr>
          <a:xfrm>
            <a:off x="4648320" y="1828800"/>
            <a:ext cx="415908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CC5D-9360-48FB-8C0B-E71F3DB4EDC8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7" descr=""/>
          <p:cNvPicPr/>
          <p:nvPr/>
        </p:nvPicPr>
        <p:blipFill>
          <a:blip r:embed="rId1"/>
          <a:srcRect l="0" t="12751" r="-2811" b="17911"/>
          <a:stretch/>
        </p:blipFill>
        <p:spPr>
          <a:xfrm>
            <a:off x="380880" y="1523880"/>
            <a:ext cx="8763120" cy="47246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468360" y="981000"/>
            <a:ext cx="8218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upscal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3307-EA03-4575-A547-85161B4123D2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468360" y="981000"/>
            <a:ext cx="8218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P 4.2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Granite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4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3058920" cy="3816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5" descr=""/>
          <p:cNvPicPr/>
          <p:nvPr/>
        </p:nvPicPr>
        <p:blipFill>
          <a:blip r:embed="rId2"/>
          <a:srcRect l="0" t="0" r="30655" b="0"/>
          <a:stretch/>
        </p:blipFill>
        <p:spPr>
          <a:xfrm>
            <a:off x="3733920" y="2082960"/>
            <a:ext cx="3504960" cy="4292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" descr=""/>
          <p:cNvPicPr/>
          <p:nvPr/>
        </p:nvPicPr>
        <p:blipFill>
          <a:blip r:embed="rId3"/>
          <a:srcRect l="74575" t="8887" r="2157" b="10405"/>
          <a:stretch/>
        </p:blipFill>
        <p:spPr>
          <a:xfrm>
            <a:off x="6858000" y="2286000"/>
            <a:ext cx="1371600" cy="40384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7"/>
          <p:cNvSpPr/>
          <p:nvPr/>
        </p:nvSpPr>
        <p:spPr>
          <a:xfrm>
            <a:off x="1400400" y="2114640"/>
            <a:ext cx="1637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eometric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2C60-BF0F-4E5A-9FBC-10F9403233E5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Slide1.jpg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323A-0A9C-4155-A125-5910999C2B4A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468360" y="981000"/>
            <a:ext cx="8218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P4.2 Granite Simulations - FLOW UP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609480" y="1981080"/>
            <a:ext cx="807732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Laplacian approach with skin (Gómez-Hernández, 1991) is used to upscale the 440x640 fine scale conductivity field to a 44x64 coarse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ell size of the coarse field is 100x100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ll conductivity tensor is obtained with this 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fur deterministic fractures play an important role in the K field even in a coarse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upscaling flow the objective is to preserve the total flow crossing the sides of the coarse model bl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1"/>
          <a:srcRect l="0" t="0" r="0" b="5438"/>
          <a:stretch/>
        </p:blipFill>
        <p:spPr>
          <a:xfrm>
            <a:off x="2743200" y="4254480"/>
            <a:ext cx="2835360" cy="2209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"/>
          <p:cNvPicPr/>
          <p:nvPr/>
        </p:nvPicPr>
        <p:blipFill>
          <a:blip r:embed="rId2"/>
          <a:srcRect l="0" t="0" r="0" b="5757"/>
          <a:stretch/>
        </p:blipFill>
        <p:spPr>
          <a:xfrm>
            <a:off x="4419720" y="4178160"/>
            <a:ext cx="2950920" cy="2286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"/>
          <p:cNvPicPr/>
          <p:nvPr/>
        </p:nvPicPr>
        <p:blipFill>
          <a:blip r:embed="rId3"/>
          <a:stretch/>
        </p:blipFill>
        <p:spPr>
          <a:xfrm>
            <a:off x="6076800" y="4178160"/>
            <a:ext cx="3067200" cy="22989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1"/>
          <p:cNvSpPr/>
          <p:nvPr/>
        </p:nvSpPr>
        <p:spPr>
          <a:xfrm>
            <a:off x="304920" y="4406760"/>
            <a:ext cx="243828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odel 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placian approach with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 * 64 b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osity=0.0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istic Fracture Logk=-8.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chastic Fracture LogK=-9.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 LogK=-1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echar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3964680" y="6477120"/>
            <a:ext cx="3036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ductivity Tensor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4FDC-2278-4C3A-81DE-F5F7C6618B2D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68360" y="981000"/>
            <a:ext cx="8218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P4.2 Granite Simulations - FLOW UP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Captura de pantalla 2009-09-27 a las 21.40.00.png"/>
          <p:cNvPicPr/>
          <p:nvPr/>
        </p:nvPicPr>
        <p:blipFill>
          <a:blip r:embed="rId1"/>
          <a:srcRect l="0" t="61633" r="31669" b="0"/>
          <a:stretch/>
        </p:blipFill>
        <p:spPr>
          <a:xfrm>
            <a:off x="0" y="3429000"/>
            <a:ext cx="8888400" cy="236232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/>
          <p:cNvSpPr/>
          <p:nvPr/>
        </p:nvSpPr>
        <p:spPr>
          <a:xfrm>
            <a:off x="609480" y="1905120"/>
            <a:ext cx="8077320" cy="11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t upscaling techniques are compar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metric averaging of the permeability values within the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lacian with skin, considering diagonal permeability t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lacian with skin, considering full permeability t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609480" y="5715000"/>
            <a:ext cx="7696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arse scale (x-axis) vs. fine scale (y-axis) fluxes through block interfaces for the different upscaling approach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223640" y="3505320"/>
            <a:ext cx="88488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4134240" y="3505320"/>
            <a:ext cx="130248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onal T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7025760" y="3505320"/>
            <a:ext cx="94428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T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85F5-91E8-4D82-A64F-8FDE90A23522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468360" y="981000"/>
            <a:ext cx="8218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P 4.2 Granite Simulations - TRANSPORT UP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609480" y="2362320"/>
            <a:ext cx="807732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irst simulation of transport at the coarse scale was aimed to analyz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hether purely advective transport at the fine scale could be reproduced by purely advective transport at the coarse sca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fter performing flow upscaling with a full tens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production of the fine scale results is acceptable although we have observed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overestimation of the early arrival times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underestimation of the late arrival ti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iscrepancy between the two curves is due to the unresolved within block dispersion that is not transferred to the coars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mprove the results, Fernàndez-Garcia et al. (2007) propose to model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ss transfer process in each blo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hich mimics the dispersion/retardation induced in the fine scale by the heterogeneity within the blo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this approach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results improv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though there is still some overestimation of the early arrival tim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0648-062B-4FA9-BEB0-F597C462E427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468360" y="981000"/>
            <a:ext cx="8218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P 4.2 Granite Simulations - TRANSPORT UP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Captura de pantalla 2009-09-27 a las 21.40.12.png"/>
          <p:cNvPicPr/>
          <p:nvPr/>
        </p:nvPicPr>
        <p:blipFill>
          <a:blip r:embed="rId1"/>
          <a:srcRect l="2383" t="42097" r="61670" b="13506"/>
          <a:stretch/>
        </p:blipFill>
        <p:spPr>
          <a:xfrm>
            <a:off x="3200400" y="1955880"/>
            <a:ext cx="5715000" cy="3759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Captura de pantalla 2009-09-27 a las 21.43.48.png"/>
          <p:cNvPicPr/>
          <p:nvPr/>
        </p:nvPicPr>
        <p:blipFill>
          <a:blip r:embed="rId2"/>
          <a:srcRect l="0" t="0" r="0" b="18482"/>
          <a:stretch/>
        </p:blipFill>
        <p:spPr>
          <a:xfrm>
            <a:off x="380880" y="1981080"/>
            <a:ext cx="2819520" cy="3810240"/>
          </a:xfrm>
          <a:prstGeom prst="rect">
            <a:avLst/>
          </a:prstGeom>
          <a:ln w="0">
            <a:noFill/>
          </a:ln>
        </p:spPr>
      </p:pic>
      <p:sp>
        <p:nvSpPr>
          <p:cNvPr id="230" name="TextBox 6"/>
          <p:cNvSpPr/>
          <p:nvPr/>
        </p:nvSpPr>
        <p:spPr>
          <a:xfrm>
            <a:off x="926640" y="5715000"/>
            <a:ext cx="14896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up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3741120" y="5715000"/>
            <a:ext cx="1547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low up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995760" y="6305400"/>
            <a:ext cx="1148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e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9"/>
          <p:cNvSpPr/>
          <p:nvPr/>
        </p:nvSpPr>
        <p:spPr>
          <a:xfrm>
            <a:off x="4511520" y="6324480"/>
            <a:ext cx="2795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arse scal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0"/>
          <p:cNvSpPr/>
          <p:nvPr/>
        </p:nvSpPr>
        <p:spPr>
          <a:xfrm>
            <a:off x="6019920" y="5715000"/>
            <a:ext cx="2895480" cy="5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and transport upscaling using mass transfer with a double-rat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E851-A6E1-405A-82F5-8B1E28080691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468360" y="981000"/>
            <a:ext cx="8218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P 4.2 Granite Simulations - TRANSPORT UP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Captura de pantalla 2009-09-27 a las 21.40.12.png"/>
          <p:cNvPicPr/>
          <p:nvPr/>
        </p:nvPicPr>
        <p:blipFill>
          <a:blip r:embed="rId1"/>
          <a:srcRect l="39168" t="40529" r="0" b="18088"/>
          <a:stretch/>
        </p:blipFill>
        <p:spPr>
          <a:xfrm>
            <a:off x="0" y="2057400"/>
            <a:ext cx="9144000" cy="33116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4"/>
          <p:cNvSpPr/>
          <p:nvPr/>
        </p:nvSpPr>
        <p:spPr>
          <a:xfrm>
            <a:off x="4880520" y="3429000"/>
            <a:ext cx="921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Fine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6176880" y="3657600"/>
            <a:ext cx="1125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arse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5187240" y="4800600"/>
            <a:ext cx="1174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ass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2444040" y="3962520"/>
            <a:ext cx="1174320" cy="60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Fine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arse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ass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6781680" y="3962520"/>
            <a:ext cx="12193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1337400" y="5257800"/>
            <a:ext cx="6051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breakthrough curve at the north bound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0"/>
          <p:cNvSpPr/>
          <p:nvPr/>
        </p:nvSpPr>
        <p:spPr>
          <a:xfrm>
            <a:off x="533520" y="5605560"/>
            <a:ext cx="815328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 scales for the time axis and for the normalized ma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ison between the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results on the 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Arial"/>
              </a:rPr>
              <a:t>fine sca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on th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arse scale without transport upscal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n the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coarse scale with transport upscaling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using the mass transfer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1"/>
          <p:cNvSpPr/>
          <p:nvPr/>
        </p:nvSpPr>
        <p:spPr>
          <a:xfrm>
            <a:off x="6098040" y="2133720"/>
            <a:ext cx="1041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 (Ti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2"/>
          <p:cNvSpPr/>
          <p:nvPr/>
        </p:nvSpPr>
        <p:spPr>
          <a:xfrm>
            <a:off x="1938600" y="2133720"/>
            <a:ext cx="575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3"/>
          <p:cNvSpPr/>
          <p:nvPr/>
        </p:nvSpPr>
        <p:spPr>
          <a:xfrm rot="16200000">
            <a:off x="-214200" y="3527280"/>
            <a:ext cx="6073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 rot="16200000">
            <a:off x="3386880" y="3701520"/>
            <a:ext cx="2024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 (Normalized Ma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Donut 16"/>
          <p:cNvSpPr/>
          <p:nvPr/>
        </p:nvSpPr>
        <p:spPr>
          <a:xfrm>
            <a:off x="6324480" y="4114800"/>
            <a:ext cx="9144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CF68-BCDD-49FA-A7FE-47A2624A84AF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468360" y="981000"/>
            <a:ext cx="8218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P 4.2 Granite Simulations - TRANSPORT UP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Captura de pantalla 2009-09-27 a las 21.40.12.png"/>
          <p:cNvPicPr/>
          <p:nvPr/>
        </p:nvPicPr>
        <p:blipFill>
          <a:blip r:embed="rId1"/>
          <a:srcRect l="39168" t="40529" r="0" b="18088"/>
          <a:stretch/>
        </p:blipFill>
        <p:spPr>
          <a:xfrm>
            <a:off x="0" y="2057400"/>
            <a:ext cx="9144000" cy="33116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4"/>
          <p:cNvSpPr/>
          <p:nvPr/>
        </p:nvSpPr>
        <p:spPr>
          <a:xfrm>
            <a:off x="4880520" y="3429000"/>
            <a:ext cx="921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Fine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6176880" y="3657600"/>
            <a:ext cx="1125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arse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5187240" y="4800600"/>
            <a:ext cx="1174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ass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7"/>
          <p:cNvSpPr/>
          <p:nvPr/>
        </p:nvSpPr>
        <p:spPr>
          <a:xfrm>
            <a:off x="2444040" y="3962520"/>
            <a:ext cx="1174320" cy="60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Fine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arse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ass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6781680" y="3962520"/>
            <a:ext cx="12193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9"/>
          <p:cNvSpPr/>
          <p:nvPr/>
        </p:nvSpPr>
        <p:spPr>
          <a:xfrm>
            <a:off x="1337400" y="5257800"/>
            <a:ext cx="6051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breakthrough curve at the north bound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0"/>
          <p:cNvSpPr/>
          <p:nvPr/>
        </p:nvSpPr>
        <p:spPr>
          <a:xfrm>
            <a:off x="533520" y="5605560"/>
            <a:ext cx="815328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 scales for the time axis and for the normalized ma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ison between the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results on the 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Arial"/>
              </a:rPr>
              <a:t>fine sca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on th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arse scale without transport upscal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n the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coarse scale with transport upscaling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using the mass transfer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1"/>
          <p:cNvSpPr/>
          <p:nvPr/>
        </p:nvSpPr>
        <p:spPr>
          <a:xfrm>
            <a:off x="6098040" y="2133720"/>
            <a:ext cx="1041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 (Ti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2"/>
          <p:cNvSpPr/>
          <p:nvPr/>
        </p:nvSpPr>
        <p:spPr>
          <a:xfrm>
            <a:off x="1938600" y="2133720"/>
            <a:ext cx="575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3"/>
          <p:cNvSpPr/>
          <p:nvPr/>
        </p:nvSpPr>
        <p:spPr>
          <a:xfrm rot="16200000">
            <a:off x="-214200" y="3527280"/>
            <a:ext cx="6073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4"/>
          <p:cNvSpPr/>
          <p:nvPr/>
        </p:nvSpPr>
        <p:spPr>
          <a:xfrm rot="16200000">
            <a:off x="3386880" y="3701520"/>
            <a:ext cx="2024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 (Normalized Ma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5"/>
          <p:cNvSpPr/>
          <p:nvPr/>
        </p:nvSpPr>
        <p:spPr>
          <a:xfrm>
            <a:off x="6324480" y="4114800"/>
            <a:ext cx="1676520" cy="60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verestimation of early arrival ti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Donut 16"/>
          <p:cNvSpPr/>
          <p:nvPr/>
        </p:nvSpPr>
        <p:spPr>
          <a:xfrm>
            <a:off x="6324480" y="4114800"/>
            <a:ext cx="9144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Donut 17"/>
          <p:cNvSpPr/>
          <p:nvPr/>
        </p:nvSpPr>
        <p:spPr>
          <a:xfrm>
            <a:off x="5257800" y="4114800"/>
            <a:ext cx="1066680" cy="6858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014E-98D8-4DCA-9913-42602B1F5C7F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468360" y="981000"/>
            <a:ext cx="8218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me 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838080" y="2286000"/>
            <a:ext cx="784872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s of the transport simulations on the coarse scale considering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wo orders of magnitude reduction in the numerical model siz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remark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has been demonstrated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portance of properly choosing an upscaling meth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imulate flow and transport at coarser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ase of flow in fractured media it is very important to account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nsorial nature of hydraulic con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ase of transport it is important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se upcaling techniques that can preserve the residence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solutes within the block when moving from the fine scale to the coarse sc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arios considering matrix diffusion and sorption processes have also been developed. Results will be available on the Final Repor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AF43-638C-481A-AAD9-35C861CD4CC6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468360" y="981000"/>
            <a:ext cx="8218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MINA 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608040" y="1905120"/>
            <a:ext cx="80676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ur work on WP 2.2 &amp; WP 4.2 are related to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Task 2.2.D (jointly with TUC &amp; C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M 2.2.D.1 - Review of Spatial Variability in P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M 2.2.D.2 - The State of the Art on upscaling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M 2.2.D.3 - Plan for PA exercises to evaluate up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D 2.2.D.1 - Evaluation and Testing of Approaches to treat Spatial Variability in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WP 4.2 (jointly with ENRE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M 4.2.2 and M.4.2.5 – Benchmark of the granit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Different Progress Reports have been deli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Final Report will be ready in a matter of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C03C-BC22-485D-8021-77AB3CCD16F1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68360" y="609480"/>
            <a:ext cx="82184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sk 2.2.D - Spatial Var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P 4.2 - PA Approaches Based on Different Geometry Complexity of Model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116000" y="2565360"/>
            <a:ext cx="7416720" cy="1608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 research the issue of “upscaling”, and its impact on the uncertainties of radionuclide transport in the ge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 undertake a series of exercises to evaluate the advantages and disadvantages of different methods in the treatment of upscaling in the flow and transport of radioactive species through a host 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52960" y="2089080"/>
            <a:ext cx="58165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ur duti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ollowing PAMINA Project objectives w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09760" y="4416480"/>
            <a:ext cx="39844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ur work has been focus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971640" y="4941720"/>
            <a:ext cx="7704000" cy="1608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Arial"/>
              </a:rPr>
              <a:t>Review the available method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 treat the issue of upscaling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“State of the Art on Upscal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form a series of </a:t>
            </a:r>
            <a:r>
              <a:rPr b="1" lang="es-ES" sz="1800" spc="-1" strike="noStrike">
                <a:solidFill>
                  <a:srgbClr val="0066ff"/>
                </a:solidFill>
                <a:latin typeface="Arial"/>
              </a:rPr>
              <a:t>exercises to evaluate the impact of upscaling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on the uncertainty in performance assessments for repositories in granite r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4"/>
          <p:cNvSpPr/>
          <p:nvPr/>
        </p:nvSpPr>
        <p:spPr>
          <a:xfrm>
            <a:off x="863640" y="333360"/>
            <a:ext cx="69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MINA Final Workshop – Hohenkammer– Sept 28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30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380520" y="46479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upscaling methods and application to gran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3386160" y="5716440"/>
            <a:ext cx="44449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ier Rodrigo-Ilar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aulic and Environmental Engineering 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dad Politécnica de Valencia (Spa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logo_upv.jpg"/>
          <p:cNvPicPr/>
          <p:nvPr/>
        </p:nvPicPr>
        <p:blipFill>
          <a:blip r:embed="rId1"/>
          <a:stretch/>
        </p:blipFill>
        <p:spPr>
          <a:xfrm>
            <a:off x="573120" y="5715000"/>
            <a:ext cx="23223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906C-F04E-4326-974F-5C95C91DDC40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468360" y="981000"/>
            <a:ext cx="8218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sk 2.2.D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patial Vari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3200400"/>
            <a:ext cx="7417080" cy="1202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cument: “State of the Art on Upscaling Techniqu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low parame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port parame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217880" y="4495680"/>
            <a:ext cx="2244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ilestone 2.2.D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065240" y="4925880"/>
            <a:ext cx="475128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 for PA exercises to evaluate up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229760" y="2819520"/>
            <a:ext cx="2244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ilestone 2.2.D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187640" y="5594400"/>
            <a:ext cx="2428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liverable 2.2.D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066680" y="6024600"/>
            <a:ext cx="7239240" cy="313200"/>
          </a:xfrm>
          <a:prstGeom prst="rect">
            <a:avLst/>
          </a:prstGeom>
          <a:solidFill>
            <a:srgbClr val="ff3300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aluation and Testing of Approaches to treat Spatial Variability in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2373480"/>
            <a:ext cx="741708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cument: “Review of Spatial Variability in P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1229760" y="1992240"/>
            <a:ext cx="2244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ilestone 2.2.D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AE73-1D46-49A8-BF61-EA509F62B980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468360" y="981000"/>
            <a:ext cx="8218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sk 2.2.D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patial Vari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1179720" y="2362320"/>
            <a:ext cx="4829040" cy="39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knowledgment to the auth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UC – Technical University of Clausth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mar Plisch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laus-Jürgen Röh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EA –Commissariat à l’Énergie Atomiqu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ertrand Io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PV – Technical University of Val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.Jaime Gómez-H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avier Rodrigo-Ilar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92EB-6B21-413C-8510-A656789D513D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468360" y="981000"/>
            <a:ext cx="8218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liverable 2.2.D.1 -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aluation and Testing of Approa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 treat Spatial Variability in P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Deliverable 2.2.D.1.png"/>
          <p:cNvPicPr/>
          <p:nvPr/>
        </p:nvPicPr>
        <p:blipFill>
          <a:blip r:embed="rId1"/>
          <a:stretch/>
        </p:blipFill>
        <p:spPr>
          <a:xfrm>
            <a:off x="533520" y="1905120"/>
            <a:ext cx="3879720" cy="49528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3"/>
          <p:cNvSpPr/>
          <p:nvPr/>
        </p:nvSpPr>
        <p:spPr>
          <a:xfrm>
            <a:off x="4876920" y="1981080"/>
            <a:ext cx="35812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7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on PAMINA web site for down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4952880" y="3124080"/>
            <a:ext cx="350532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- State of the Art on upscaling tech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- Treatment of spatially dependent input variables in sensitivity analysis of model output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- Review of spatial variability in Performance Assess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- Plan for PA exercises to test techniques for upsca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0F81-9214-4DF9-8A84-C537728AF21D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468360" y="981000"/>
            <a:ext cx="8218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liverable 2.2.D.1 -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aluation and Testing of Approa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 treat Spatial Variability in P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Deliverable 2.2.D.1.png"/>
          <p:cNvPicPr/>
          <p:nvPr/>
        </p:nvPicPr>
        <p:blipFill>
          <a:blip r:embed="rId1"/>
          <a:stretch/>
        </p:blipFill>
        <p:spPr>
          <a:xfrm>
            <a:off x="533520" y="1905120"/>
            <a:ext cx="3879720" cy="49528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3"/>
          <p:cNvSpPr/>
          <p:nvPr/>
        </p:nvSpPr>
        <p:spPr>
          <a:xfrm>
            <a:off x="4876920" y="1981080"/>
            <a:ext cx="358128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7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on PAMINA web site for down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4952880" y="3124080"/>
            <a:ext cx="350532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- State of the Art on upscaling tech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- Treatment of spatially dependent input variables in sensitivity analysis of model output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- Review of spatial variability in Performance Assess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- Plan for PA exercises to test techniques for upsca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4952880" y="3505320"/>
            <a:ext cx="3353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4724280" y="3429000"/>
            <a:ext cx="3276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029200" y="3429000"/>
            <a:ext cx="3505320" cy="60948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520D-4448-413F-B1C5-BF46B23DFCAF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68360" y="981000"/>
            <a:ext cx="8218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- State of the Art on upscaling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2" descr="Captura de pantalla 2009-09-27 a las 20.56.47.png"/>
          <p:cNvPicPr/>
          <p:nvPr/>
        </p:nvPicPr>
        <p:blipFill>
          <a:blip r:embed="rId1"/>
          <a:srcRect l="5025" t="36586" r="41384" b="0"/>
          <a:stretch/>
        </p:blipFill>
        <p:spPr>
          <a:xfrm>
            <a:off x="1752480" y="1981080"/>
            <a:ext cx="4876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E7AD-F1BB-4186-B56B-7AF699D9CCE9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468360" y="981000"/>
            <a:ext cx="8218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- State of the Art on upscaling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Captura de pantalla 2009-09-27 a las 21.04.35.png"/>
          <p:cNvPicPr/>
          <p:nvPr/>
        </p:nvPicPr>
        <p:blipFill>
          <a:blip r:embed="rId1"/>
          <a:srcRect l="0" t="10348" r="0" b="0"/>
          <a:stretch/>
        </p:blipFill>
        <p:spPr>
          <a:xfrm>
            <a:off x="76320" y="2286000"/>
            <a:ext cx="4457520" cy="3962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aptura de pantalla 2009-09-27 a las 21.05.52.png"/>
          <p:cNvPicPr/>
          <p:nvPr/>
        </p:nvPicPr>
        <p:blipFill>
          <a:blip r:embed="rId2"/>
          <a:stretch/>
        </p:blipFill>
        <p:spPr>
          <a:xfrm>
            <a:off x="4492800" y="2362320"/>
            <a:ext cx="4539960" cy="4343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aptura de pantalla 2009-09-27 a las 21.04.35.png"/>
          <p:cNvPicPr/>
          <p:nvPr/>
        </p:nvPicPr>
        <p:blipFill>
          <a:blip r:embed="rId3"/>
          <a:srcRect l="0" t="0" r="24796" b="93110"/>
          <a:stretch/>
        </p:blipFill>
        <p:spPr>
          <a:xfrm>
            <a:off x="2438280" y="1828800"/>
            <a:ext cx="41911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1:44:21Z</dcterms:created>
  <dc:creator> </dc:creator>
  <dc:description/>
  <dc:language>en-US</dc:language>
  <cp:lastModifiedBy>JAVIER RODRIGO-ILARRI</cp:lastModifiedBy>
  <cp:lastPrinted>2008-10-01T08:48:50Z</cp:lastPrinted>
  <dcterms:modified xsi:type="dcterms:W3CDTF">2009-09-28T13:16:16Z</dcterms:modified>
  <cp:revision>72</cp:revision>
  <dc:subject/>
  <dc:title>Diapositiva 1</dc:title>
</cp:coreProperties>
</file>