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44CA9-AB77-4C07-8CCF-5D3CDB103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21458-B36C-479D-8B2C-135C96FC5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AE772-63C0-4121-9B40-E8472C696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F3259-A50F-4B8F-A758-9BB8C0B83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61803-4F0E-49B5-85D9-F9C266A19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9EED4-45CD-47C5-A08C-4E478D88C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E3E2F-22E7-4592-9B0B-F23152475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AC118-AD5B-4DEB-A18E-43CB684FB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DEB14-8ADE-477F-BB3F-7E6481F0D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0CC4B-C3BA-4433-A6D5-5F45FE238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73C1E-FD74-4112-83BA-F9DE9FE04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41CEE-823A-4D43-A0B0-CC39CCBC6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BAD7-5856-4159-B97E-F2140D975516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971640" y="189000"/>
            <a:ext cx="576000" cy="360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95280" y="189000"/>
            <a:ext cx="50472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9360">
            <a:solidFill>
              <a:srgbClr val="eaf0ff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708360" y="2781360"/>
            <a:ext cx="2016000" cy="126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835280" y="2781360"/>
            <a:ext cx="1765080" cy="126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50920" y="1486080"/>
            <a:ext cx="633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b4cce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MINA</a:t>
            </a:r>
            <a:endParaRPr b="0" lang="en-US" sz="1800" spc="1" strike="noStrike">
              <a:ln w="28440">
                <a:solidFill>
                  <a:srgbClr val="b4cce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50920" y="4389480"/>
            <a:ext cx="8353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P1.1 – Review of methodologies for the Safety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ling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78120" y="5727600"/>
            <a:ext cx="56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sé Luis Cormenzana (Enresa)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8760" y="533520"/>
            <a:ext cx="86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Workshop              Hohenkammer (Germany) 28-30 Septembe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4470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ifications in the Safety Assessm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39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mplifications are always necessary when modelling a complex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mplifications must be jus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ad to the overestimation of the negative effects on the repository or do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mplifications leading to gross overestimation of the effects should be avoi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 stated by IRSN: An approach that balances simplicity, conservatism and realism is likely to be the best starting point for PA modell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assertion is valid not only for early iterations of the Safety Case, but even for the last 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can be expected that conservatism should be reduced and realism should increase in successive it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mplifications are even more necessary in the models for probabilistic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K uses a set of conservative calculation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show complian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ith th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intention of being more realis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ternative cases with more realistic calculations are done t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y simplified models (such as analytical solutions) can be included in the Safety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 demonstrate understanding of a complex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communication purpo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1B537-06A0-4CF2-A56E-CB1D491C6A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4470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lity Assurance (QA) in mode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247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A and consequent documentation of the models and codes are critical due to the long duration of repository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nowledge can get lost when experts leave before finalisation of the proje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well established QA programme is considered fundamental by all the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whole process of model generation must be documented, inclu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cisions taken during the model generation and the reasons behind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implifications done and their justif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ability to run old codes must be mainta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317AC-0340-4A47-8F83-439190F2D6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mportance of mod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e to the long time and space scales involved, repository long-term safety can not be proven through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afety Assessment requires the development of models to stu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volution of the dispos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lease and transport of radionuc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 obtained with these models, 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ural analogu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rguments available Model validation/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be used to create de Safety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is fundamental to justify the long term safety of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F80F2-C3F2-400F-96E4-5F72863E44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per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leven organisations provided written contributions presenting their approaches and experiences on “modelling strategy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different methodologies/points of view were discussed in a workshop in order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dentify similarities and differenc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dentify gaps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h a common position, when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analysis of the written contributions plus the discussions of the workshop have been used to create the chapter of the handbook on “modelling strategy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5013360" cy="29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A3783-ABEB-4BD3-A07B-51982C54BB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 topics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ssification of th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 validation/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chastic/deterministic 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ation of the evaluation/time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lexity of the Safety Assessment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ification in the Safety Assessment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A in model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9757C-CA58-4271-9FF2-5A86861225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ification of th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2508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though the terms used change, the models used in the Safety Assessment by the different partners can be classifi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 the basis of their objectiv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sitory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port of radionuc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 the basis of the part of the repository involv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iled models to study the evolution of sub-systems, or specific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models to perform consequence analysis for selected scen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003640" y="3068640"/>
          <a:ext cx="3810240" cy="329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3068640"/>
                    <a:ext cx="381024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95280" y="3213000"/>
            <a:ext cx="4495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y detailed process level models usually are not included in the SA, b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y provide the basic knowledge and data to generate SA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y can be used to support the additional arguments included in the Safety C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4518000"/>
            <a:ext cx="4495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hierarchy of models presented by NDA is applicable to most orga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ish exce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top level “system model” is usually for consequence analysis, b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some scenarios in salt it is n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69110-4BC7-4725-8CD2-40FC66ECA0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 validation/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Verification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the process of determining whether a computational model correctly implements the intended conceptual model or mathematical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ification is the easy 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ification is usually done through comparison with analytical solutions and inter-comparison between differen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Validation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the process of showing that the model is a good representation of the real system (proof that it is “valid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lidation is usually done comparing model results with experimental observa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HLW repositories the long time periods involved make this “validation” unfeasi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an agreement that strict validation is not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K-NIRAS introduces the concept of “model qualification”: verify that the model is consistent with the scientific understanding within the assessment basis and that it adequately represents the considered phenomena and inter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DA considers that validation is equivalent to “build confidence” in the model, using all the means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idation/qualification of the “phenomenological” process level models for very long term predictions can be a complex tas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lidation of “simplified PA” models can be done by comparison with the phenomenological complex process level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48221-CE2E-4BEB-AED5-6DA29BA617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chastic / deterministic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terministic and probabilistic calculations are seen as complementary by most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terministic calculations are better for system understanding and communication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th classes of calculations should be included when making the Safety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chastic calculations are specially appropriate to deal with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ameter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chastic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rovides much information on the key parameters controlling repository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re information is obtained than in the deterministic sensitivity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5F7D4-6D2A-4814-B77F-3B8ACFEF79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ation of the evaluation / time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is an agreement that numerical calculations can be done for 1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gulator (GRS-K) establishes a period of proof of 1 million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RA establishes 1 million years as the period of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va model repository evolution up to 100,000 years and performs dose calculations over 1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DA performs risk calculations over 1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 organisations perform calculations for 1 million years: SCK-NIRAS, Enresa and N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A8EFE-F6E0-4A70-B5F8-2A13D2A987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4470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lexity of the Safety Assessment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42472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each iteration of the step by step process to develop a safe repository, data and models should improve compared with the previous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els will be better but not necessarily more compl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fact, a better understanding of the system can allow simplifying the mod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ample from the Belgian repository in cl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vious models represent the formation above and below repository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lculations showed that transport was diffusion controlled and that relevance of advection was ver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the next safety case the model has been simplified to represent only the formation above repository le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514600" y="4724280"/>
            <a:ext cx="4952880" cy="1546200"/>
            <a:chOff x="2514600" y="4724280"/>
            <a:chExt cx="4952880" cy="1546200"/>
          </a:xfrm>
        </p:grpSpPr>
        <p:graphicFrame>
          <p:nvGraphicFramePr>
            <p:cNvPr id="110" name=""/>
            <p:cNvGraphicFramePr/>
            <p:nvPr/>
          </p:nvGraphicFramePr>
          <p:xfrm>
            <a:off x="2514600" y="4724280"/>
            <a:ext cx="4952880" cy="154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4724280"/>
                      <a:ext cx="4952880" cy="154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3303000" y="5420160"/>
              <a:ext cx="478800" cy="6570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375200" y="5257800"/>
            <a:ext cx="14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eviou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4864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60680" y="5410080"/>
            <a:ext cx="11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ew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71640" y="5445000"/>
            <a:ext cx="144720" cy="648000"/>
          </a:xfrm>
          <a:prstGeom prst="downArrow">
            <a:avLst>
              <a:gd name="adj1" fmla="val 50000"/>
              <a:gd name="adj2" fmla="val 11194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80000" y="5445000"/>
            <a:ext cx="502920" cy="289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720" y="5734080"/>
            <a:ext cx="954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ater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3090A-1FCA-4122-A315-B7A3C70E00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1:56:47Z</dcterms:created>
  <dc:creator>Jörg Mönig</dc:creator>
  <dc:description/>
  <dc:language>en-US</dc:language>
  <cp:lastModifiedBy>Adrián Robles</cp:lastModifiedBy>
  <dcterms:modified xsi:type="dcterms:W3CDTF">2009-09-28T09:26:51Z</dcterms:modified>
  <cp:revision>87</cp:revision>
  <dc:subject/>
  <dc:title>Folie 1</dc:title>
</cp:coreProperties>
</file>