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22.jpeg" ContentType="image/jpeg"/>
  <Override PartName="/ppt/media/image15.wmf" ContentType="image/x-wmf"/>
  <Override PartName="/ppt/media/image1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3A8E-0397-47B2-BE4A-A20ABBE0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80592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25B-8666-4525-9442-E2F93C6C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752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D4E-2A91-436C-A987-33947DE3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492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00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492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00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605-37D2-48EF-B933-51EE4C45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60D47-0E2E-425B-91A4-938150F2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44EEC-CAEB-461E-8828-DBFE7D0C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D3DBB-8A06-4004-B479-35B88D12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8FC15-4A5C-4F95-9F57-0B3070B9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86B7D-473E-4BE0-9DAA-0F48374F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714680" y="70920"/>
            <a:ext cx="70768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5A232-8D35-4CCF-BFEB-0EF580F3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F60F1-DF9B-4F9A-9C75-6446EAC3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79B-A53D-4FE2-A990-E5FEA26D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752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8C9B4-E9B2-4FA4-89E0-76EDE3A5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EA2C5-BF5C-4330-B2EA-1B478CC2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0592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B7417-57BC-41A4-A89C-F0DAA98F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752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3084A-8196-4A8F-84E9-C6151FC4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492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300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492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300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D408A-055D-43B1-BCF9-533C48E8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95F-27C5-4ED8-8DDD-BDDDF041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714680" y="70920"/>
            <a:ext cx="70768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2752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6840" y="380592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2752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492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300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684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492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9300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AE2E-0F1E-4DFB-A677-48C6A034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714680" y="70920"/>
            <a:ext cx="70768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2752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840" y="380592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2752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7492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9300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684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7492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9300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84CBBD-FAC0-46B2-8860-104D410A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6B55-13F1-4A8D-96D8-E7DE6865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8B7158-2F9C-4405-B8FF-7AE9D0CD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D1D837-16F0-4479-B141-66461AD0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D451E0-981C-4BA1-8695-2BF5F10C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9CE467-107E-4412-9F0C-B3A44B7C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714680" y="70920"/>
            <a:ext cx="70768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B52BB5-2174-43FA-B936-D4E5B9A8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5E9B1D-BA5D-493D-B202-97AF144B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2752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719EC0-F2F3-4D0E-A3F6-BB454E34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4BD12B-45AA-4B07-A396-BEEBA5C3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6840" y="380592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23064F-2C48-435B-837A-EF2B33F0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2752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3E4D61-2EBD-4349-B704-6B8BED35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14680" y="70920"/>
            <a:ext cx="70768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983-52B0-4D3B-8A0C-A02251C6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492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300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684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492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9300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DF2ABD-21DF-43E3-BB86-F030D674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5166FA-6CEA-4C0A-83F1-B61F3310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562907-CBFA-44C2-A3E4-357D9F6C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219588-B7C6-4688-B20C-1D7EEE71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8A437E-9594-4F44-9639-72012DC5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FA2B65-402A-446C-93D1-87DD9B85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714680" y="70920"/>
            <a:ext cx="70768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D16A47-A43D-4C67-94AE-4A04F001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90201A-4239-4FDC-8620-055BC9C8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2752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44368C-1525-4D42-BF7A-75E669A3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27A411-395E-4787-8DD6-4DBE7F71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09A-2E00-4A05-9813-CC9DAEAA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380592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BD3332-721A-4276-B555-6934E4B1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2752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0578B7-6C91-412D-9C2C-A799A2F2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7492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300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7492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9300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08FC4C-F85A-402C-9EC9-574AFD28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714680" y="70920"/>
            <a:ext cx="70768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752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2E5-9DB9-42F3-9864-DD4F43EC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72752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6840" y="380592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72752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7492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9300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684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7492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9300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CECEE-0BF4-43C0-B615-A27B4794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7D5A6B-8B5B-4D45-BF49-DD9DC2A4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588155-0B07-48C3-B2C7-907025A2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589A93-6F16-4EFF-B283-2C713F23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1C675B-512B-4501-88FF-20317813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099-AB0A-460C-B73A-48E0E4C8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714680" y="70920"/>
            <a:ext cx="707688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483F65-D969-4335-8815-957BD4DC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92A51F-84D4-4522-9544-7DBA7906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72752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75F410-A676-47DE-B437-B15641B5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56846D-6977-4D28-ABEF-01A3FF7C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6840" y="3805920"/>
            <a:ext cx="83343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22EF43-94CB-4BAF-9939-32354E83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27520" y="126828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727520" y="3805920"/>
            <a:ext cx="40669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0E59F-76D8-4BA0-B880-C250EFF4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7492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3000" y="126828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684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7492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93000" y="3805920"/>
            <a:ext cx="268344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1A9F9-6ECD-43C2-A1AA-D8EF2262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12" descr="tetiere_bleu_texte v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Click to edit the outline text format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1" marL="343080" indent="-34308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econd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2" marL="343080" indent="-34308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Third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3" marL="343080" indent="-34308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Four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Fif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ix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even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857160" y="6454800"/>
            <a:ext cx="157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600" spc="-1" strike="noStrike">
                <a:solidFill>
                  <a:srgbClr val="003b8e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C.TR.AEAP.09.006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Espace réservé de la date 3"/>
          <p:cNvSpPr/>
          <p:nvPr/>
        </p:nvSpPr>
        <p:spPr>
          <a:xfrm>
            <a:off x="2571840" y="6454800"/>
            <a:ext cx="400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AGENCE NATIONALE POUR LA GESTION DES DÉCHETS RADIOACTIF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ZoneTexte 11"/>
          <p:cNvSpPr/>
          <p:nvPr/>
        </p:nvSpPr>
        <p:spPr>
          <a:xfrm>
            <a:off x="2500200" y="651204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3b8e"/>
                </a:solidFill>
                <a:latin typeface="Lucida Sans"/>
              </a:rPr>
              <a:t>© And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786720" y="6492960"/>
            <a:ext cx="1714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600" spc="-1" strike="noStrike">
                <a:solidFill>
                  <a:srgbClr val="003b8e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Final Workshop - Hohenkammer, Germany  - Septembre, 28.-30. 200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Image 9" descr="Pamina_Logo.jpg"/>
          <p:cNvPicPr/>
          <p:nvPr/>
        </p:nvPicPr>
        <p:blipFill>
          <a:blip r:embed="rId6"/>
          <a:stretch/>
        </p:blipFill>
        <p:spPr>
          <a:xfrm>
            <a:off x="0" y="6224760"/>
            <a:ext cx="1255680" cy="6332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581680" y="649296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62D6-0661-48FE-B82B-C242D573FFDC}" type="slidenum">
              <a:rPr b="0" lang="fr-FR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r>
              <a:rPr b="0" lang="fr-FR" sz="800" spc="-1" strike="noStrike">
                <a:solidFill>
                  <a:srgbClr val="898989"/>
                </a:solidFill>
                <a:latin typeface="Times New Roman"/>
              </a:rPr>
              <a:t>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10" descr="tetiere_marron_texte v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4680" y="71280"/>
            <a:ext cx="7076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Click to edit the outline text format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1" marL="343080" indent="-34308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econd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2" marL="343080" indent="-34308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Third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3" marL="343080" indent="-34308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Four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Fif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ix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even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143840" y="6454800"/>
            <a:ext cx="1714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600" spc="-1" strike="noStrike">
                <a:solidFill>
                  <a:srgbClr val="003b8e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Final Workshop - Hohenkammer, Germany  - Septembre, 28.-30. 200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266760" y="6454800"/>
            <a:ext cx="519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003b8e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4AAC-702E-438F-94D5-A5E3165840B9}" type="slidenum">
              <a:rPr b="1" lang="fr-FR" sz="700" spc="-1" strike="noStrike">
                <a:solidFill>
                  <a:srgbClr val="003b8e"/>
                </a:solidFill>
                <a:latin typeface="Lucida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Espace réservé de la date 3"/>
          <p:cNvSpPr/>
          <p:nvPr/>
        </p:nvSpPr>
        <p:spPr>
          <a:xfrm>
            <a:off x="2571840" y="6454800"/>
            <a:ext cx="400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AGENCE NATIONALE POUR LA GESTION DES DÉCHETS RADIOACTIF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857160" y="6454800"/>
            <a:ext cx="157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600" spc="-1" strike="noStrike">
                <a:solidFill>
                  <a:srgbClr val="003b8e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C.TR.AEAP.09.006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ZoneTexte 8"/>
          <p:cNvSpPr/>
          <p:nvPr/>
        </p:nvSpPr>
        <p:spPr>
          <a:xfrm>
            <a:off x="2500200" y="651996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3b8e"/>
                </a:solidFill>
                <a:latin typeface="Lucida Sans"/>
              </a:rPr>
              <a:t>©</a:t>
            </a:r>
            <a:r>
              <a:rPr b="0" lang="fr-FR" sz="9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fr-FR" sz="900" spc="-1" strike="noStrike">
                <a:solidFill>
                  <a:srgbClr val="003b8e"/>
                </a:solidFill>
                <a:latin typeface="Lucida Sans"/>
              </a:rPr>
              <a:t>And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Espace réservé de la date 3"/>
          <p:cNvSpPr/>
          <p:nvPr/>
        </p:nvSpPr>
        <p:spPr>
          <a:xfrm>
            <a:off x="2571840" y="6454800"/>
            <a:ext cx="400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ffff"/>
                </a:solidFill>
                <a:latin typeface="Lucida Sans"/>
              </a:rPr>
              <a:t>AGENCE NATIONALE POUR LA GESTION DES DÉCHETS RADIOACTIF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14"/>
          <p:cNvSpPr/>
          <p:nvPr/>
        </p:nvSpPr>
        <p:spPr>
          <a:xfrm>
            <a:off x="2500200" y="651996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Lucida Sans"/>
              </a:rPr>
              <a:t>© And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Click to edit the outline text format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1" marL="343080" indent="-34308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econd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2" marL="343080" indent="-34308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Third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3" marL="343080" indent="-34308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Four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Fif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ix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even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2785680" y="5000760"/>
            <a:ext cx="342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c40098"/>
                </a:solidFill>
                <a:latin typeface="Lucid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40098"/>
                </a:solidFill>
                <a:latin typeface="Lucida Sans"/>
              </a:rPr>
              <a:t>Final Workshop - Hohenkammer, Germany  - Septembre, 28.-30.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857160" y="6454800"/>
            <a:ext cx="157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600" spc="-1" strike="noStrike">
                <a:solidFill>
                  <a:srgbClr val="ffffff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ffff"/>
                </a:solidFill>
                <a:latin typeface="Lucida Sans"/>
              </a:rPr>
              <a:t>C.TR.AEAP.09.006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003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Image 14" descr="ANDRA1_rvb[7].jpg"/>
          <p:cNvPicPr/>
          <p:nvPr/>
        </p:nvPicPr>
        <p:blipFill>
          <a:blip r:embed="rId2"/>
          <a:stretch/>
        </p:blipFill>
        <p:spPr>
          <a:xfrm>
            <a:off x="3726000" y="714240"/>
            <a:ext cx="1692000" cy="1255680"/>
          </a:xfrm>
          <a:prstGeom prst="rect">
            <a:avLst/>
          </a:prstGeom>
          <a:ln w="0">
            <a:noFill/>
          </a:ln>
        </p:spPr>
      </p:pic>
      <p:sp>
        <p:nvSpPr>
          <p:cNvPr id="133" name="Espace réservé de la date 3"/>
          <p:cNvSpPr/>
          <p:nvPr/>
        </p:nvSpPr>
        <p:spPr>
          <a:xfrm>
            <a:off x="2571840" y="6454800"/>
            <a:ext cx="400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ffff"/>
                </a:solidFill>
                <a:latin typeface="Lucida Sans"/>
              </a:rPr>
              <a:t>AGENCE NATIONALE POUR LA GESTION DES DÉCHETS RADIOACTIF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7"/>
          <p:cNvSpPr/>
          <p:nvPr/>
        </p:nvSpPr>
        <p:spPr>
          <a:xfrm>
            <a:off x="2500200" y="651204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Lucida Sans"/>
              </a:rPr>
              <a:t>© And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Click to edit the outline text format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1" marL="343080" indent="-34308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econd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2" marL="343080" indent="-34308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Third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3" marL="343080" indent="-34308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Four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Fif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ix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even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9"/>
          </p:nvPr>
        </p:nvSpPr>
        <p:spPr>
          <a:xfrm>
            <a:off x="857160" y="6454800"/>
            <a:ext cx="157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600" spc="-1" strike="noStrike">
                <a:solidFill>
                  <a:srgbClr val="ffffff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ffff"/>
                </a:solidFill>
                <a:latin typeface="Lucida Sans"/>
              </a:rPr>
              <a:t>C.TR.AEAP.09.006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7143840" y="6454800"/>
            <a:ext cx="1714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600" spc="-1" strike="noStrike">
                <a:solidFill>
                  <a:srgbClr val="003b8e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Final Workshop - Hohenkammer, Germany  - Septembre, 28.-30. 200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Image 12" descr="tetiere_bleu_texte v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176" name="Espace réservé de la date 3"/>
          <p:cNvSpPr/>
          <p:nvPr/>
        </p:nvSpPr>
        <p:spPr>
          <a:xfrm>
            <a:off x="2571840" y="6454800"/>
            <a:ext cx="400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AGENCE NATIONALE POUR LA GESTION DES DÉCHETS RADIOACTIF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11"/>
          <p:cNvSpPr/>
          <p:nvPr/>
        </p:nvSpPr>
        <p:spPr>
          <a:xfrm>
            <a:off x="2500200" y="651204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3b8e"/>
                </a:solidFill>
                <a:latin typeface="Lucida Sans"/>
              </a:rPr>
              <a:t>© And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 9" descr="Pamina_Logo.jpg"/>
          <p:cNvPicPr/>
          <p:nvPr/>
        </p:nvPicPr>
        <p:blipFill>
          <a:blip r:embed="rId3"/>
          <a:stretch/>
        </p:blipFill>
        <p:spPr>
          <a:xfrm>
            <a:off x="0" y="6224760"/>
            <a:ext cx="1255680" cy="633240"/>
          </a:xfrm>
          <a:prstGeom prst="rect">
            <a:avLst/>
          </a:prstGeom>
          <a:ln w="0">
            <a:noFill/>
          </a:ln>
        </p:spPr>
      </p:pic>
      <p:sp>
        <p:nvSpPr>
          <p:cNvPr id="179" name="ZoneTexte 13"/>
          <p:cNvSpPr/>
          <p:nvPr/>
        </p:nvSpPr>
        <p:spPr>
          <a:xfrm>
            <a:off x="2500200" y="651204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3b8e"/>
                </a:solidFill>
                <a:latin typeface="Lucida Sans"/>
              </a:rPr>
              <a:t>©</a:t>
            </a:r>
            <a:r>
              <a:rPr b="0" lang="fr-FR" sz="9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fr-FR" sz="900" spc="-1" strike="noStrike">
                <a:solidFill>
                  <a:srgbClr val="003b8e"/>
                </a:solidFill>
                <a:latin typeface="Lucida Sans"/>
              </a:rPr>
              <a:t>And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Click to edit the outline text format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1" marL="343080" indent="-34308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econd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2" marL="343080" indent="-34308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Third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3" marL="343080" indent="-34308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Four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Fif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ix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even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1"/>
          </p:nvPr>
        </p:nvSpPr>
        <p:spPr>
          <a:xfrm>
            <a:off x="857160" y="6454800"/>
            <a:ext cx="157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600" spc="-1" strike="noStrike">
                <a:solidFill>
                  <a:srgbClr val="003b8e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C.TR.AEAP.09.006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dt" idx="12"/>
          </p:nvPr>
        </p:nvSpPr>
        <p:spPr>
          <a:xfrm>
            <a:off x="671472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600" spc="-1" strike="noStrike">
                <a:solidFill>
                  <a:srgbClr val="003b8e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Final Workshop - Hohenkammer, Germany  - Septembre, 28.-30. 200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3"/>
          </p:nvPr>
        </p:nvSpPr>
        <p:spPr>
          <a:xfrm>
            <a:off x="8581680" y="649296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2A4B-6B09-4691-9EF1-DF6484F9925F}" type="slidenum">
              <a:rPr b="0" lang="fr-FR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r>
              <a:rPr b="0" lang="fr-FR" sz="800" spc="-1" strike="noStrike">
                <a:solidFill>
                  <a:srgbClr val="898989"/>
                </a:solidFill>
                <a:latin typeface="Times New Roman"/>
              </a:rPr>
              <a:t>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Image 12" descr="tetiere_bleu_texte v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222" name="Espace réservé de la date 3"/>
          <p:cNvSpPr/>
          <p:nvPr/>
        </p:nvSpPr>
        <p:spPr>
          <a:xfrm>
            <a:off x="2571840" y="6454800"/>
            <a:ext cx="400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AGENCE NATIONALE POUR LA GESTION DES DÉCHETS RADIOACTIF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11"/>
          <p:cNvSpPr/>
          <p:nvPr/>
        </p:nvSpPr>
        <p:spPr>
          <a:xfrm>
            <a:off x="2500200" y="651204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3b8e"/>
                </a:solidFill>
                <a:latin typeface="Lucida Sans"/>
              </a:rPr>
              <a:t>© And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Image 9" descr="Pamina_Logo.jpg"/>
          <p:cNvPicPr/>
          <p:nvPr/>
        </p:nvPicPr>
        <p:blipFill>
          <a:blip r:embed="rId3"/>
          <a:stretch/>
        </p:blipFill>
        <p:spPr>
          <a:xfrm>
            <a:off x="0" y="6224760"/>
            <a:ext cx="1255680" cy="633240"/>
          </a:xfrm>
          <a:prstGeom prst="rect">
            <a:avLst/>
          </a:prstGeom>
          <a:ln w="0">
            <a:noFill/>
          </a:ln>
        </p:spPr>
      </p:pic>
      <p:sp>
        <p:nvSpPr>
          <p:cNvPr id="225" name="ZoneTexte 13"/>
          <p:cNvSpPr/>
          <p:nvPr/>
        </p:nvSpPr>
        <p:spPr>
          <a:xfrm>
            <a:off x="2500200" y="651204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3b8e"/>
                </a:solidFill>
                <a:latin typeface="Lucida Sans"/>
              </a:rPr>
              <a:t>©</a:t>
            </a:r>
            <a:r>
              <a:rPr b="0" lang="fr-FR" sz="9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fr-FR" sz="900" spc="-1" strike="noStrike">
                <a:solidFill>
                  <a:srgbClr val="003b8e"/>
                </a:solidFill>
                <a:latin typeface="Lucida Sans"/>
              </a:rPr>
              <a:t>And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Click to edit the outline text format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1" marL="343080" indent="-34308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econd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2" marL="343080" indent="-34308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Third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3" marL="343080" indent="-34308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Four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Fif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ix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even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ftr" idx="14"/>
          </p:nvPr>
        </p:nvSpPr>
        <p:spPr>
          <a:xfrm>
            <a:off x="857160" y="6454800"/>
            <a:ext cx="157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600" spc="-1" strike="noStrike">
                <a:solidFill>
                  <a:srgbClr val="003b8e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C.TR.AEAP.09.006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dt" idx="15"/>
          </p:nvPr>
        </p:nvSpPr>
        <p:spPr>
          <a:xfrm>
            <a:off x="671472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600" spc="-1" strike="noStrike">
                <a:solidFill>
                  <a:srgbClr val="003b8e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Final Workshop - Hohenkammer, Germany  - Septembre, 28.-30. 200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6"/>
          </p:nvPr>
        </p:nvSpPr>
        <p:spPr>
          <a:xfrm>
            <a:off x="8581680" y="649296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16FD-BAD2-4128-9C70-7B5347B75866}" type="slidenum">
              <a:rPr b="0" lang="fr-FR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r>
              <a:rPr b="0" lang="fr-FR" sz="800" spc="-1" strike="noStrike">
                <a:solidFill>
                  <a:srgbClr val="898989"/>
                </a:solidFill>
                <a:latin typeface="Times New Roman"/>
              </a:rPr>
              <a:t>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e la date 3"/>
          <p:cNvSpPr/>
          <p:nvPr/>
        </p:nvSpPr>
        <p:spPr>
          <a:xfrm>
            <a:off x="2571840" y="6454800"/>
            <a:ext cx="400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eeece1"/>
                </a:solidFill>
                <a:latin typeface="Lucida Sans"/>
              </a:rPr>
              <a:t>AGENCE NATIONALE POUR LA GESTION DES DÉCHETS RADIOACTIF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ZoneTexte 11"/>
          <p:cNvSpPr/>
          <p:nvPr/>
        </p:nvSpPr>
        <p:spPr>
          <a:xfrm>
            <a:off x="2500200" y="6519960"/>
            <a:ext cx="785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Lucida Sans"/>
              </a:rPr>
              <a:t>© And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14680" y="71280"/>
            <a:ext cx="7076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Click to edit the outline text format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1" marL="343080" indent="-34308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econd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2" marL="343080" indent="-34308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Third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3" marL="343080" indent="-34308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Four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Fif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ix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even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7"/>
          </p:nvPr>
        </p:nvSpPr>
        <p:spPr>
          <a:xfrm>
            <a:off x="2857320" y="4430880"/>
            <a:ext cx="342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c40098"/>
                </a:solidFill>
                <a:latin typeface="Lucid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40098"/>
                </a:solidFill>
                <a:latin typeface="Lucida Sans"/>
              </a:rPr>
              <a:t>Final Workshop - Hohenkammer, Germany  - Septembre, 28.-30.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8"/>
          </p:nvPr>
        </p:nvSpPr>
        <p:spPr>
          <a:xfrm>
            <a:off x="857160" y="6454800"/>
            <a:ext cx="157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600" spc="-1" strike="noStrike">
                <a:solidFill>
                  <a:srgbClr val="ffffff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ffff"/>
                </a:solidFill>
                <a:latin typeface="Lucida Sans"/>
              </a:rPr>
              <a:t>C.TR.AEAP.09.006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9486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Image 12" descr="ANDRA1_rvb[7].jpg"/>
          <p:cNvPicPr/>
          <p:nvPr/>
        </p:nvPicPr>
        <p:blipFill>
          <a:blip r:embed="rId2"/>
          <a:stretch/>
        </p:blipFill>
        <p:spPr>
          <a:xfrm>
            <a:off x="3726000" y="714240"/>
            <a:ext cx="1692000" cy="1255680"/>
          </a:xfrm>
          <a:prstGeom prst="rect">
            <a:avLst/>
          </a:prstGeom>
          <a:ln w="0">
            <a:noFill/>
          </a:ln>
        </p:spPr>
      </p:pic>
      <p:sp>
        <p:nvSpPr>
          <p:cNvPr id="311" name="Espace réservé de la date 3"/>
          <p:cNvSpPr/>
          <p:nvPr/>
        </p:nvSpPr>
        <p:spPr>
          <a:xfrm>
            <a:off x="2571840" y="6454800"/>
            <a:ext cx="400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eeece1"/>
                </a:solidFill>
                <a:latin typeface="Lucida Sans"/>
              </a:rPr>
              <a:t>AGENCE NATIONALE POUR LA GESTION DES DÉCHETS RADIOACTIF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2512800" y="6500880"/>
            <a:ext cx="63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Lucida Sans"/>
              </a:rPr>
              <a:t>© And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14680" y="71280"/>
            <a:ext cx="7076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19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Click to edit the outline text format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1" marL="343080" indent="-34308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econd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2" marL="343080" indent="-34308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Third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3" marL="343080" indent="-34308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Four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Fif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ix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Seventh Outline Level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7143840" y="6454800"/>
            <a:ext cx="1714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600" spc="-1" strike="noStrike">
                <a:solidFill>
                  <a:srgbClr val="ffffff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ffff"/>
                </a:solidFill>
                <a:latin typeface="Lucida Sans"/>
              </a:rPr>
              <a:t>Final Workshop - Hohenkammer, Germany  - Septembre, 28.-30. 200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20"/>
          </p:nvPr>
        </p:nvSpPr>
        <p:spPr>
          <a:xfrm>
            <a:off x="266760" y="6454800"/>
            <a:ext cx="519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700" spc="-1" strike="noStrike">
                <a:solidFill>
                  <a:srgbClr val="ffffff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2FF9-11D5-485E-9B4E-9D8FF201C5DD}" type="slidenum">
              <a:rPr b="1" lang="fr-FR" sz="700" spc="-1" strike="noStrike">
                <a:solidFill>
                  <a:srgbClr val="ffffff"/>
                </a:solidFill>
                <a:latin typeface="Lucida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1"/>
          </p:nvPr>
        </p:nvSpPr>
        <p:spPr>
          <a:xfrm>
            <a:off x="857160" y="6454800"/>
            <a:ext cx="157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600" spc="-1" strike="noStrike">
                <a:solidFill>
                  <a:srgbClr val="ffffff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ffff"/>
                </a:solidFill>
                <a:latin typeface="Lucida Sans"/>
              </a:rPr>
              <a:t>C.TR.AEAP.09.0068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43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0080"/>
                <a:tab algn="l" pos="1460520"/>
                <a:tab algn="l" pos="2190600"/>
                <a:tab algn="l" pos="2921040"/>
                <a:tab algn="l" pos="3651120"/>
                <a:tab algn="l" pos="4381560"/>
                <a:tab algn="l" pos="5111640"/>
                <a:tab algn="l" pos="5842080"/>
                <a:tab algn="l" pos="6572160"/>
                <a:tab algn="l" pos="7302600"/>
                <a:tab algn="l" pos="8032680"/>
                <a:tab algn="l" pos="8763120"/>
                <a:tab algn="l" pos="9493200"/>
                <a:tab algn="l" pos="10223640"/>
                <a:tab algn="l" pos="10953720"/>
              </a:tabLst>
            </a:pPr>
            <a:r>
              <a:rPr b="1" lang="en-US" sz="2500" spc="-1" strike="noStrike">
                <a:solidFill>
                  <a:srgbClr val="00279f"/>
                </a:solidFill>
                <a:latin typeface="Arial"/>
              </a:rPr>
              <a:t>Kd-approach versus geochemical modelling for a repository in clay formation</a:t>
            </a:r>
            <a:endParaRPr b="0" lang="en-US" sz="25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355" name="Image 9" descr="Pamina_Logo.jpg"/>
          <p:cNvPicPr/>
          <p:nvPr/>
        </p:nvPicPr>
        <p:blipFill>
          <a:blip r:embed="rId1"/>
          <a:stretch/>
        </p:blipFill>
        <p:spPr>
          <a:xfrm>
            <a:off x="3357720" y="4071960"/>
            <a:ext cx="1255680" cy="633240"/>
          </a:xfrm>
          <a:prstGeom prst="rect">
            <a:avLst/>
          </a:prstGeom>
          <a:ln w="0">
            <a:noFill/>
          </a:ln>
        </p:spPr>
      </p:pic>
      <p:sp>
        <p:nvSpPr>
          <p:cNvPr id="356" name="ZoneTexte 10"/>
          <p:cNvSpPr/>
          <p:nvPr/>
        </p:nvSpPr>
        <p:spPr>
          <a:xfrm>
            <a:off x="4673160" y="421488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b8e"/>
                </a:solidFill>
                <a:latin typeface="Lucida Sans"/>
              </a:rPr>
              <a:t>Final Work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14680" y="46080"/>
            <a:ext cx="707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Cs transfer – </a:t>
            </a:r>
            <a:r>
              <a:rPr b="0" lang="fr-FR" sz="3200" spc="-1" strike="noStrike">
                <a:solidFill>
                  <a:srgbClr val="ffffff"/>
                </a:solidFill>
                <a:latin typeface="Lucida Sans"/>
              </a:rPr>
              <a:t>SCK/CEN: COMSOL</a:t>
            </a: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0" name="Espace réservé de la date 3"/>
          <p:cNvSpPr/>
          <p:nvPr/>
        </p:nvSpPr>
        <p:spPr>
          <a:xfrm>
            <a:off x="707220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Final Workshop - Hohenkammer, Germany - Septembre, 28.-30. 20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pied de page 4"/>
          <p:cNvSpPr/>
          <p:nvPr/>
        </p:nvSpPr>
        <p:spPr>
          <a:xfrm>
            <a:off x="857160" y="6454800"/>
            <a:ext cx="157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C.TR.AEAP.09.006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e 32"/>
          <p:cNvGrpSpPr/>
          <p:nvPr/>
        </p:nvGrpSpPr>
        <p:grpSpPr>
          <a:xfrm>
            <a:off x="266760" y="857160"/>
            <a:ext cx="8372520" cy="5086440"/>
            <a:chOff x="266760" y="857160"/>
            <a:chExt cx="8372520" cy="5086440"/>
          </a:xfrm>
        </p:grpSpPr>
        <p:pic>
          <p:nvPicPr>
            <p:cNvPr id="443" name="Picture 4" descr=""/>
            <p:cNvPicPr/>
            <p:nvPr/>
          </p:nvPicPr>
          <p:blipFill>
            <a:blip r:embed="rId1"/>
            <a:stretch/>
          </p:blipFill>
          <p:spPr>
            <a:xfrm>
              <a:off x="266760" y="2286000"/>
              <a:ext cx="837252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ZoneTexte 9"/>
            <p:cNvSpPr/>
            <p:nvPr/>
          </p:nvSpPr>
          <p:spPr>
            <a:xfrm>
              <a:off x="3737160" y="857160"/>
              <a:ext cx="14198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3b8e"/>
                  </a:solidFill>
                  <a:latin typeface="Lucida Sans"/>
                </a:rPr>
                <a:t>Kd/SL resul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e 33"/>
          <p:cNvGrpSpPr/>
          <p:nvPr/>
        </p:nvGrpSpPr>
        <p:grpSpPr>
          <a:xfrm>
            <a:off x="272880" y="880920"/>
            <a:ext cx="8456760" cy="5268960"/>
            <a:chOff x="272880" y="880920"/>
            <a:chExt cx="8456760" cy="5268960"/>
          </a:xfrm>
        </p:grpSpPr>
        <p:pic>
          <p:nvPicPr>
            <p:cNvPr id="446" name="Picture 4" descr=""/>
            <p:cNvPicPr/>
            <p:nvPr/>
          </p:nvPicPr>
          <p:blipFill>
            <a:blip r:embed="rId2"/>
            <a:stretch/>
          </p:blipFill>
          <p:spPr>
            <a:xfrm>
              <a:off x="272880" y="1004760"/>
              <a:ext cx="8456760" cy="51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ZoneTexte 9"/>
            <p:cNvSpPr/>
            <p:nvPr/>
          </p:nvSpPr>
          <p:spPr>
            <a:xfrm>
              <a:off x="3098160" y="880920"/>
              <a:ext cx="27075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3b8e"/>
                  </a:solidFill>
                  <a:latin typeface="Lucida Sans"/>
                </a:rPr>
                <a:t>Langmuir: faster diffus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e 34"/>
          <p:cNvGrpSpPr/>
          <p:nvPr/>
        </p:nvGrpSpPr>
        <p:grpSpPr>
          <a:xfrm>
            <a:off x="214200" y="871560"/>
            <a:ext cx="8929800" cy="5127480"/>
            <a:chOff x="214200" y="871560"/>
            <a:chExt cx="8929800" cy="5127480"/>
          </a:xfrm>
        </p:grpSpPr>
        <p:pic>
          <p:nvPicPr>
            <p:cNvPr id="449" name="Picture 4" descr=""/>
            <p:cNvPicPr/>
            <p:nvPr/>
          </p:nvPicPr>
          <p:blipFill>
            <a:blip r:embed="rId3"/>
            <a:stretch/>
          </p:blipFill>
          <p:spPr>
            <a:xfrm>
              <a:off x="266400" y="1943640"/>
              <a:ext cx="8374320" cy="405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Rectangle 38"/>
            <p:cNvSpPr/>
            <p:nvPr/>
          </p:nvSpPr>
          <p:spPr>
            <a:xfrm>
              <a:off x="214200" y="1125360"/>
              <a:ext cx="8929800" cy="9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ZoneTexte 9"/>
            <p:cNvSpPr/>
            <p:nvPr/>
          </p:nvSpPr>
          <p:spPr>
            <a:xfrm>
              <a:off x="2262600" y="871560"/>
              <a:ext cx="43624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3b8e"/>
                  </a:solidFill>
                  <a:latin typeface="Lucida Sans"/>
                </a:rPr>
                <a:t>Thermodynamic: between Kd and Langmui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Cs transfer - Results</a:t>
            </a: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6840" y="1268280"/>
            <a:ext cx="8334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buClr>
                <a:srgbClr val="003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Difficulties to compare different participant’s approaches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1" marL="363600" indent="-176400">
              <a:lnSpc>
                <a:spcPct val="90000"/>
              </a:lnSpc>
              <a:spcBef>
                <a:spcPts val="601"/>
              </a:spcBef>
              <a:buSzPct val="10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8e"/>
                </a:solidFill>
                <a:latin typeface="Lucida Sans"/>
              </a:rPr>
              <a:t> </a:t>
            </a:r>
            <a:r>
              <a:rPr b="0" lang="en-US" sz="1700" spc="-1" strike="noStrike">
                <a:solidFill>
                  <a:srgbClr val="003b8e"/>
                </a:solidFill>
                <a:latin typeface="Lucida Sans"/>
              </a:rPr>
              <a:t>comparison between simulations difficult, due to different source term and materials representations (mineral phases, internal solution…)</a:t>
            </a:r>
            <a:endParaRPr b="0" lang="en-US" sz="1700" spc="-1" strike="noStrike">
              <a:solidFill>
                <a:srgbClr val="003b8e"/>
              </a:solidFill>
              <a:latin typeface="Lucida Sans"/>
            </a:endParaRPr>
          </a:p>
          <a:p>
            <a:pPr lvl="1" marL="363600" indent="-176400">
              <a:lnSpc>
                <a:spcPct val="90000"/>
              </a:lnSpc>
              <a:spcBef>
                <a:spcPts val="601"/>
              </a:spcBef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b8e"/>
              </a:solidFill>
              <a:latin typeface="Lucida Sans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buClr>
                <a:srgbClr val="003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The different numerical tools managed to represent Cs transfer according to the three models 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lvl="1" marL="363600" indent="-176400">
              <a:lnSpc>
                <a:spcPct val="90000"/>
              </a:lnSpc>
              <a:spcBef>
                <a:spcPts val="601"/>
              </a:spcBef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8e"/>
                </a:solidFill>
                <a:latin typeface="Lucida Sans"/>
              </a:rPr>
              <a:t> </a:t>
            </a:r>
            <a:r>
              <a:rPr b="0" lang="en-US" sz="1700" spc="-1" strike="noStrike">
                <a:solidFill>
                  <a:srgbClr val="003b8e"/>
                </a:solidFill>
                <a:latin typeface="Lucida Sans"/>
              </a:rPr>
              <a:t>internal comparison between the three Kd/SL, Langmuir and thermodynamic models</a:t>
            </a:r>
            <a:endParaRPr b="0" lang="en-US" sz="1700" spc="-1" strike="noStrike">
              <a:solidFill>
                <a:srgbClr val="003b8e"/>
              </a:solidFill>
              <a:latin typeface="Lucida Sans"/>
            </a:endParaRPr>
          </a:p>
          <a:p>
            <a:pPr lvl="1" marL="363600" indent="-176400">
              <a:lnSpc>
                <a:spcPct val="90000"/>
              </a:lnSpc>
              <a:spcBef>
                <a:spcPts val="601"/>
              </a:spcBef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b8e"/>
                </a:solidFill>
                <a:latin typeface="Lucida Sans"/>
              </a:rPr>
              <a:t> </a:t>
            </a:r>
            <a:r>
              <a:rPr b="0" lang="en-US" sz="1700" spc="-1" strike="noStrike">
                <a:solidFill>
                  <a:srgbClr val="003b8e"/>
                </a:solidFill>
                <a:latin typeface="Lucida Sans"/>
              </a:rPr>
              <a:t>deduction of linear Kd parameters from Langmuir and thermodynamic models</a:t>
            </a:r>
            <a:endParaRPr b="0" lang="en-US" sz="1700" spc="-1" strike="noStrike">
              <a:solidFill>
                <a:srgbClr val="003b8e"/>
              </a:solidFill>
              <a:latin typeface="Lucida Sans"/>
            </a:endParaRPr>
          </a:p>
          <a:p>
            <a:pPr lvl="1" marL="363600" indent="-176400">
              <a:lnSpc>
                <a:spcPct val="90000"/>
              </a:lnSpc>
              <a:spcBef>
                <a:spcPts val="601"/>
              </a:spcBef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b8e"/>
              </a:solidFill>
              <a:latin typeface="Lucida Sans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buClr>
                <a:srgbClr val="003b8e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Allow to make the links between thermodynamic and simplified PA simulations and thus to better estimate the safety margins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54" name="Espace réservé de la date 3"/>
          <p:cNvSpPr/>
          <p:nvPr/>
        </p:nvSpPr>
        <p:spPr>
          <a:xfrm>
            <a:off x="707220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Final Workshop - Hohenkammer, Germany - Septembre, 28.-30. 20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Espace réservé du pied de page 4"/>
          <p:cNvSpPr/>
          <p:nvPr/>
        </p:nvSpPr>
        <p:spPr>
          <a:xfrm>
            <a:off x="857160" y="6454800"/>
            <a:ext cx="157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C.TR.AEAP.09.006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52440" y="2785680"/>
            <a:ext cx="8439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279f"/>
                </a:solidFill>
                <a:latin typeface="Lucida Sans"/>
              </a:rPr>
              <a:t>Thanks for your attention</a:t>
            </a:r>
            <a:endParaRPr b="1" lang="en-US" sz="47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457" name="Espace réservé de la date 2"/>
          <p:cNvSpPr/>
          <p:nvPr/>
        </p:nvSpPr>
        <p:spPr>
          <a:xfrm>
            <a:off x="707220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Final Workshop - Hohenkammer, Germany - Septembre, 28.-30. 20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Espace réservé du pied de page 3"/>
          <p:cNvSpPr/>
          <p:nvPr/>
        </p:nvSpPr>
        <p:spPr>
          <a:xfrm>
            <a:off x="857160" y="6454800"/>
            <a:ext cx="157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C.TR.AEAP.09.006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Lucida Sans"/>
              </a:rPr>
              <a:t>Benchmark participants</a:t>
            </a: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071800" y="1910880"/>
            <a:ext cx="671976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b8e"/>
                </a:solidFill>
                <a:latin typeface="Lucida Sans"/>
              </a:rPr>
              <a:t>Andra: D. Coelho, B. Cochepin and I. Munier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b8e"/>
                </a:solidFill>
                <a:latin typeface="Lucida Sans"/>
              </a:rPr>
              <a:t>CEA: L. Trotignon &amp; E. Piault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b8e"/>
                </a:solidFill>
                <a:latin typeface="Lucida Sans"/>
              </a:rPr>
              <a:t>IRSN: F. Marsal &amp; G. Mathieu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b8e"/>
                </a:solidFill>
                <a:latin typeface="Lucida Sans"/>
              </a:rPr>
              <a:t>JRC: S. Prvakova , K.F. Nilsson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b8e"/>
                </a:solidFill>
                <a:latin typeface="Lucida Sans"/>
              </a:rPr>
              <a:t>SCK/CEN: E. Weetjens, E. Martens and D. Jacques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pic>
        <p:nvPicPr>
          <p:cNvPr id="359" name="Image 3" descr="index_01.jpg"/>
          <p:cNvPicPr/>
          <p:nvPr/>
        </p:nvPicPr>
        <p:blipFill>
          <a:blip r:embed="rId1"/>
          <a:stretch/>
        </p:blipFill>
        <p:spPr>
          <a:xfrm>
            <a:off x="1017720" y="2928960"/>
            <a:ext cx="622080" cy="468360"/>
          </a:xfrm>
          <a:prstGeom prst="rect">
            <a:avLst/>
          </a:prstGeom>
          <a:ln w="0">
            <a:noFill/>
          </a:ln>
        </p:spPr>
      </p:pic>
      <p:pic>
        <p:nvPicPr>
          <p:cNvPr id="360" name="Image 4" descr="images.jpg"/>
          <p:cNvPicPr/>
          <p:nvPr/>
        </p:nvPicPr>
        <p:blipFill>
          <a:blip r:embed="rId2"/>
          <a:stretch/>
        </p:blipFill>
        <p:spPr>
          <a:xfrm>
            <a:off x="1095480" y="2357280"/>
            <a:ext cx="466560" cy="468360"/>
          </a:xfrm>
          <a:prstGeom prst="rect">
            <a:avLst/>
          </a:prstGeom>
          <a:ln w="0">
            <a:noFill/>
          </a:ln>
        </p:spPr>
      </p:pic>
      <p:pic>
        <p:nvPicPr>
          <p:cNvPr id="361" name="Image 5" descr="SCK_CEN_Logo.jpg"/>
          <p:cNvPicPr/>
          <p:nvPr/>
        </p:nvPicPr>
        <p:blipFill>
          <a:blip r:embed="rId3"/>
          <a:stretch/>
        </p:blipFill>
        <p:spPr>
          <a:xfrm>
            <a:off x="977760" y="4000680"/>
            <a:ext cx="701640" cy="468000"/>
          </a:xfrm>
          <a:prstGeom prst="rect">
            <a:avLst/>
          </a:prstGeom>
          <a:ln w="0">
            <a:noFill/>
          </a:ln>
        </p:spPr>
      </p:pic>
      <p:pic>
        <p:nvPicPr>
          <p:cNvPr id="362" name="Image 6" descr="Andra_Logo.jpg"/>
          <p:cNvPicPr/>
          <p:nvPr/>
        </p:nvPicPr>
        <p:blipFill>
          <a:blip r:embed="rId4"/>
          <a:stretch/>
        </p:blipFill>
        <p:spPr>
          <a:xfrm>
            <a:off x="1012680" y="1857240"/>
            <a:ext cx="631800" cy="468360"/>
          </a:xfrm>
          <a:prstGeom prst="rect">
            <a:avLst/>
          </a:prstGeom>
          <a:ln w="0">
            <a:noFill/>
          </a:ln>
        </p:spPr>
      </p:pic>
      <p:pic>
        <p:nvPicPr>
          <p:cNvPr id="363" name="Image 7" descr="JRC_Logo.jpg"/>
          <p:cNvPicPr/>
          <p:nvPr/>
        </p:nvPicPr>
        <p:blipFill>
          <a:blip r:embed="rId5"/>
          <a:stretch/>
        </p:blipFill>
        <p:spPr>
          <a:xfrm>
            <a:off x="785880" y="3429000"/>
            <a:ext cx="1085760" cy="468360"/>
          </a:xfrm>
          <a:prstGeom prst="rect">
            <a:avLst/>
          </a:prstGeom>
          <a:ln w="0">
            <a:noFill/>
          </a:ln>
        </p:spPr>
      </p:pic>
      <p:sp>
        <p:nvSpPr>
          <p:cNvPr id="364" name="Espace réservé de la date 8"/>
          <p:cNvSpPr/>
          <p:nvPr/>
        </p:nvSpPr>
        <p:spPr>
          <a:xfrm>
            <a:off x="707220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Final Workshop - Hohenkammer, Germany - Septembre, 28.-30. 20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pied de page 9"/>
          <p:cNvSpPr/>
          <p:nvPr/>
        </p:nvSpPr>
        <p:spPr>
          <a:xfrm>
            <a:off x="857160" y="6454800"/>
            <a:ext cx="157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C.TR.AEAP.09.006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571680" y="1642680"/>
            <a:ext cx="785808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Objective: </a:t>
            </a: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	</a:t>
            </a: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sensitivity analysis on “Kd” and “solubility </a:t>
            </a: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	</a:t>
            </a: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	</a:t>
            </a: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limit” defined for PA </a:t>
            </a: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calculations with </a:t>
            </a: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	</a:t>
            </a: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	</a:t>
            </a: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	</a:t>
            </a: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regard to </a:t>
            </a: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geochemical transport </a:t>
            </a:r>
            <a:r>
              <a:rPr b="1" lang="en-US" sz="2000" spc="-1" strike="noStrike">
                <a:solidFill>
                  <a:srgbClr val="003b8e"/>
                </a:solidFill>
                <a:latin typeface="Lucida Sans"/>
              </a:rPr>
              <a:t>models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Test case: </a:t>
            </a: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	</a:t>
            </a: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radionuclide migration in the near field </a:t>
            </a: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	</a:t>
            </a: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	</a:t>
            </a: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	</a:t>
            </a: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(clay rock) applied to the French high-level </a:t>
            </a: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	</a:t>
            </a: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	</a:t>
            </a: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waste disposal in the Callovo-Oxfordian </a:t>
            </a: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	</a:t>
            </a: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	</a:t>
            </a: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	</a:t>
            </a:r>
            <a:r>
              <a:rPr b="1" lang="en-GB" sz="2000" spc="-1" strike="noStrike">
                <a:solidFill>
                  <a:srgbClr val="003b8e"/>
                </a:solidFill>
                <a:latin typeface="Lucida Sans"/>
              </a:rPr>
              <a:t>deep geological formation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Lucida Sans"/>
              </a:rPr>
              <a:t>Benchmark specifications</a:t>
            </a: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68" name="Espace réservé de la date 3"/>
          <p:cNvSpPr/>
          <p:nvPr/>
        </p:nvSpPr>
        <p:spPr>
          <a:xfrm>
            <a:off x="707220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Final Workshop - Hohenkammer, Germany - Septembre, 28.-30. 20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pied de page 4"/>
          <p:cNvSpPr/>
          <p:nvPr/>
        </p:nvSpPr>
        <p:spPr>
          <a:xfrm>
            <a:off x="857160" y="6454800"/>
            <a:ext cx="157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C.TR.AEAP.09.006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74640" y="-360"/>
            <a:ext cx="72453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High Level Vitrified Waste (HLW)</a:t>
            </a: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3319560" y="1886040"/>
            <a:ext cx="5351400" cy="382896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e 15"/>
          <p:cNvGrpSpPr/>
          <p:nvPr/>
        </p:nvGrpSpPr>
        <p:grpSpPr>
          <a:xfrm>
            <a:off x="285840" y="3078000"/>
            <a:ext cx="4308480" cy="741960"/>
            <a:chOff x="285840" y="3078000"/>
            <a:chExt cx="4308480" cy="741960"/>
          </a:xfrm>
        </p:grpSpPr>
        <p:cxnSp>
          <p:nvCxnSpPr>
            <p:cNvPr id="373" name="Connecteur droit avec flèche 12"/>
            <p:cNvCxnSpPr>
              <a:stCxn id="374" idx="3"/>
            </p:cNvCxnSpPr>
            <p:nvPr/>
          </p:nvCxnSpPr>
          <p:spPr>
            <a:xfrm>
              <a:off x="2461680" y="3247200"/>
              <a:ext cx="2133000" cy="573120"/>
            </a:xfrm>
            <a:prstGeom prst="straightConnector1">
              <a:avLst/>
            </a:prstGeom>
            <a:ln w="2556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374" name="ZoneTexte 14"/>
            <p:cNvSpPr/>
            <p:nvPr/>
          </p:nvSpPr>
          <p:spPr>
            <a:xfrm>
              <a:off x="285840" y="3078000"/>
              <a:ext cx="217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Vitrified was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5" name="Connecteur droit avec flèche 16"/>
          <p:cNvCxnSpPr>
            <a:stCxn id="376" idx="3"/>
          </p:cNvCxnSpPr>
          <p:nvPr/>
        </p:nvCxnSpPr>
        <p:spPr>
          <a:xfrm>
            <a:off x="3180960" y="1363320"/>
            <a:ext cx="1462680" cy="708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7" name="Connecteur droit avec flèche 18"/>
          <p:cNvCxnSpPr>
            <a:stCxn id="378" idx="3"/>
          </p:cNvCxnSpPr>
          <p:nvPr/>
        </p:nvCxnSpPr>
        <p:spPr>
          <a:xfrm>
            <a:off x="2857680" y="2026800"/>
            <a:ext cx="1429200" cy="16167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76" name="ZoneTexte 23"/>
          <p:cNvSpPr/>
          <p:nvPr/>
        </p:nvSpPr>
        <p:spPr>
          <a:xfrm>
            <a:off x="1143000" y="1071720"/>
            <a:ext cx="20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Callovo-Oxfordia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argill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ZoneTexte 24"/>
          <p:cNvSpPr/>
          <p:nvPr/>
        </p:nvSpPr>
        <p:spPr>
          <a:xfrm>
            <a:off x="624600" y="1857240"/>
            <a:ext cx="21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Damaged rock (EDZ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7"/>
          <p:cNvCxnSpPr>
            <a:stCxn id="380" idx="3"/>
          </p:cNvCxnSpPr>
          <p:nvPr/>
        </p:nvCxnSpPr>
        <p:spPr>
          <a:xfrm flipV="1">
            <a:off x="2276280" y="3928680"/>
            <a:ext cx="3153240" cy="18136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80" name="ZoneTexte 33"/>
          <p:cNvSpPr/>
          <p:nvPr/>
        </p:nvSpPr>
        <p:spPr>
          <a:xfrm>
            <a:off x="664560" y="557208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Bentonite pl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e 40"/>
          <p:cNvGrpSpPr/>
          <p:nvPr/>
        </p:nvGrpSpPr>
        <p:grpSpPr>
          <a:xfrm>
            <a:off x="374040" y="3832920"/>
            <a:ext cx="3507840" cy="682560"/>
            <a:chOff x="374040" y="3832920"/>
            <a:chExt cx="3507840" cy="682560"/>
          </a:xfrm>
        </p:grpSpPr>
        <p:cxnSp>
          <p:nvCxnSpPr>
            <p:cNvPr id="382" name="Connecteur droit avec flèche 19"/>
            <p:cNvCxnSpPr>
              <a:stCxn id="383" idx="3"/>
            </p:cNvCxnSpPr>
            <p:nvPr/>
          </p:nvCxnSpPr>
          <p:spPr>
            <a:xfrm flipV="1">
              <a:off x="1844640" y="3832920"/>
              <a:ext cx="2037600" cy="394200"/>
            </a:xfrm>
            <a:prstGeom prst="straightConnector1">
              <a:avLst/>
            </a:prstGeom>
            <a:ln w="25560">
              <a:solidFill>
                <a:srgbClr val="c00000"/>
              </a:solidFill>
              <a:miter/>
              <a:tailEnd len="med" type="arrow" w="med"/>
            </a:ln>
          </p:spPr>
        </p:cxnSp>
        <p:sp>
          <p:nvSpPr>
            <p:cNvPr id="383" name="ZoneTexte 39"/>
            <p:cNvSpPr/>
            <p:nvPr/>
          </p:nvSpPr>
          <p:spPr>
            <a:xfrm>
              <a:off x="374040" y="3934800"/>
              <a:ext cx="1448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Intercalation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blo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4" name="Connecteur droit avec flèche 20"/>
          <p:cNvCxnSpPr>
            <a:stCxn id="385" idx="3"/>
          </p:cNvCxnSpPr>
          <p:nvPr/>
        </p:nvCxnSpPr>
        <p:spPr>
          <a:xfrm flipV="1">
            <a:off x="1980720" y="3928680"/>
            <a:ext cx="2877480" cy="1170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85" name="ZoneTexte 45"/>
          <p:cNvSpPr/>
          <p:nvPr/>
        </p:nvSpPr>
        <p:spPr>
          <a:xfrm>
            <a:off x="386640" y="49291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Iron steel pl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Connecteur droit avec flèche 41"/>
          <p:cNvCxnSpPr>
            <a:stCxn id="387" idx="3"/>
          </p:cNvCxnSpPr>
          <p:nvPr/>
        </p:nvCxnSpPr>
        <p:spPr>
          <a:xfrm flipV="1">
            <a:off x="5928840" y="3785760"/>
            <a:ext cx="1143720" cy="2456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87" name="ZoneTexte 49"/>
          <p:cNvSpPr/>
          <p:nvPr/>
        </p:nvSpPr>
        <p:spPr>
          <a:xfrm>
            <a:off x="4286160" y="60721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Concrete pl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e 26"/>
          <p:cNvGrpSpPr/>
          <p:nvPr/>
        </p:nvGrpSpPr>
        <p:grpSpPr>
          <a:xfrm>
            <a:off x="4438800" y="2785320"/>
            <a:ext cx="1269720" cy="1039320"/>
            <a:chOff x="4438800" y="2785320"/>
            <a:chExt cx="1269720" cy="1039320"/>
          </a:xfrm>
        </p:grpSpPr>
        <p:cxnSp>
          <p:nvCxnSpPr>
            <p:cNvPr id="389" name="Connecteur droit avec flèche 24"/>
            <p:cNvCxnSpPr/>
            <p:nvPr/>
          </p:nvCxnSpPr>
          <p:spPr>
            <a:xfrm>
              <a:off x="4981320" y="3821400"/>
              <a:ext cx="727560" cy="3600"/>
            </a:xfrm>
            <a:prstGeom prst="straightConnector1">
              <a:avLst/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90" name="Connecteur droit avec flèche 25"/>
            <p:cNvCxnSpPr/>
            <p:nvPr/>
          </p:nvCxnSpPr>
          <p:spPr>
            <a:xfrm flipV="1">
              <a:off x="4438800" y="2785320"/>
              <a:ext cx="2160" cy="931320"/>
            </a:xfrm>
            <a:prstGeom prst="straightConnector1">
              <a:avLst/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</p:grpSp>
      <p:sp>
        <p:nvSpPr>
          <p:cNvPr id="391" name="Espace réservé de la date 21"/>
          <p:cNvSpPr/>
          <p:nvPr/>
        </p:nvSpPr>
        <p:spPr>
          <a:xfrm>
            <a:off x="707220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Final Workshop - Hohenkammer, Germany - Septembre, 28.-30. 20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pied de page 22"/>
          <p:cNvSpPr/>
          <p:nvPr/>
        </p:nvSpPr>
        <p:spPr>
          <a:xfrm>
            <a:off x="857160" y="6454800"/>
            <a:ext cx="157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C.TR.AEAP.09.006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Lucida Sans"/>
              </a:rPr>
              <a:t>Benchmark exercises</a:t>
            </a: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4" name="Espace réservé de la date 3"/>
          <p:cNvSpPr/>
          <p:nvPr/>
        </p:nvSpPr>
        <p:spPr>
          <a:xfrm>
            <a:off x="707220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Final Workshop - Hohenkammer, Germany - Septembre, 28.-30. 20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pied de page 4"/>
          <p:cNvSpPr/>
          <p:nvPr/>
        </p:nvSpPr>
        <p:spPr>
          <a:xfrm>
            <a:off x="857160" y="6454800"/>
            <a:ext cx="157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C.TR.AEAP.09.006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79440" y="1101600"/>
          <a:ext cx="8334360" cy="5056200"/>
        </p:xfrm>
        <a:graphic>
          <a:graphicData uri="http://schemas.openxmlformats.org/drawingml/2006/table">
            <a:tbl>
              <a:tblPr/>
              <a:tblGrid>
                <a:gridCol w="2428920"/>
                <a:gridCol w="3117600"/>
                <a:gridCol w="557280"/>
                <a:gridCol w="557280"/>
                <a:gridCol w="558720"/>
                <a:gridCol w="557280"/>
                <a:gridCol w="557280"/>
              </a:tblGrid>
              <a:tr h="426960">
                <a:tc>
                  <a:txBody>
                    <a:bodyPr lIns="52920" rIns="52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nd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RS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J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CK/C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3480">
                <a:tc rowSpan="4">
                  <a:txBody>
                    <a:bodyPr lIns="52920" rIns="52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Reference cas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Kd/SL calculations applied to 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3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s, 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93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r, 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43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ask 1: Geochemical mode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43634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ask 2: 1D radial in argillite with Kd/SL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ask 3: 1D axial in bentonite with Kd/SL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3634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3634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ask 4: 2D with Kd/SL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504d"/>
                    </a:solidFill>
                  </a:tcPr>
                </a:tc>
              </a:tr>
              <a:tr h="426600">
                <a:tc rowSpan="4">
                  <a:txBody>
                    <a:bodyPr lIns="52920" rIns="52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 1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3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s sorption with competing isotopes (Cs, R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a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ask 5: 1D radial in argillites using isotherms mod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a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a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a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a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a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a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ask 6: 1D radial in argillites with thermodynamic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ask 7: 1D axial in bentonite with thermodynamic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a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a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a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a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a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a"/>
                    </a:solidFill>
                  </a:tcPr>
                </a:tc>
              </a:tr>
              <a:tr h="36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ask 8: 2D with thermodynamic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f"/>
                    </a:solidFill>
                  </a:tcPr>
                </a:tc>
              </a:tr>
              <a:tr h="639720">
                <a:tc rowSpan="3">
                  <a:txBody>
                    <a:bodyPr lIns="52920" rIns="52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 2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43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m/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93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r transfer using thermodynamic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asks 9 + 10: 1D axial in bentonite 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93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r and 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43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m transfer using thermodynamic mod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3300"/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ask 11: 1D axial in bentonite 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43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m transfer with competition with Ln(III) speci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a589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a589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a589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a589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a589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a589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ask 12: 2D 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43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m transfer with competition with Ln(III) speci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Ra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Lucida Sans"/>
              </a:rPr>
              <a:t>Benchmark parameters</a:t>
            </a: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8" name="Espace réservé de la date 3"/>
          <p:cNvSpPr/>
          <p:nvPr/>
        </p:nvSpPr>
        <p:spPr>
          <a:xfrm>
            <a:off x="707220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Final Workshop - Hohenkammer, Germany - Septembre, 28.-30. 20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pied de page 4"/>
          <p:cNvSpPr/>
          <p:nvPr/>
        </p:nvSpPr>
        <p:spPr>
          <a:xfrm>
            <a:off x="857160" y="6454800"/>
            <a:ext cx="157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C.TR.AEAP.09.006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56760" y="3642840"/>
            <a:ext cx="83581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buClr>
                <a:srgbClr val="003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b8e"/>
                </a:solidFill>
                <a:latin typeface="Lucida Sans"/>
              </a:rPr>
              <a:t> </a:t>
            </a:r>
            <a:r>
              <a:rPr b="1" lang="fr-FR" sz="2000" spc="-1" strike="noStrike">
                <a:solidFill>
                  <a:srgbClr val="003b8e"/>
                </a:solidFill>
                <a:latin typeface="Lucida Sans"/>
              </a:rPr>
              <a:t>Numerous parameters to take into account (hydraulic, geometric, numeric, geochemical…)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  <a:p>
            <a:pPr>
              <a:spcBef>
                <a:spcPts val="1800"/>
              </a:spcBef>
              <a:buClr>
                <a:srgbClr val="003b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b8e"/>
                </a:solidFill>
                <a:latin typeface="Lucida Sans"/>
              </a:rPr>
              <a:t> </a:t>
            </a:r>
            <a:r>
              <a:rPr b="1" lang="fr-FR" sz="2000" spc="-1" strike="noStrike">
                <a:solidFill>
                  <a:srgbClr val="003b8e"/>
                </a:solidFill>
                <a:latin typeface="Lucida Sans"/>
              </a:rPr>
              <a:t>Various use of Benchmark guidelines concerning waste and materials representation</a:t>
            </a:r>
            <a:endParaRPr b="1" lang="en-US" sz="2000" spc="-1" strike="noStrike">
              <a:solidFill>
                <a:srgbClr val="003b8e"/>
              </a:solidFill>
              <a:latin typeface="Lucida Sans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14200" y="1125360"/>
          <a:ext cx="8715600" cy="2011680"/>
        </p:xfrm>
        <a:graphic>
          <a:graphicData uri="http://schemas.openxmlformats.org/drawingml/2006/table">
            <a:tbl>
              <a:tblPr/>
              <a:tblGrid>
                <a:gridCol w="660600"/>
                <a:gridCol w="1411200"/>
                <a:gridCol w="785880"/>
                <a:gridCol w="1500120"/>
                <a:gridCol w="1643040"/>
                <a:gridCol w="1357200"/>
                <a:gridCol w="1357560"/>
              </a:tblGrid>
              <a:tr h="365400"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erical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ome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trified waste source te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trified g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eri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on exchan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nd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5760">
                      <a:solidFill>
                        <a:srgbClr val="772c2a"/>
                      </a:solidFill>
                    </a:lnB>
                    <a:solidFill>
                      <a:srgbClr val="772c2a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reeq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a7a6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a7a6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</a:t>
                      </a:r>
                      <a:r>
                        <a:rPr b="0" lang="fr-FR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 16% dissolved in 50,000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a7a6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m of oxides, including B and 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a7a6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neralogical assemb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a7a6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nked with montmorillon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a7a6"/>
                    </a:solidFill>
                  </a:tcPr>
                </a:tc>
              </a:tr>
              <a:tr h="3902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72c2a"/>
                      </a:solidFill>
                    </a:lnT>
                    <a:lnB w="5760">
                      <a:solidFill>
                        <a:srgbClr val="772c2a"/>
                      </a:solidFill>
                    </a:lnB>
                    <a:solidFill>
                      <a:srgbClr val="772c2a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iances platform (Chess/Cast3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ded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D/2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ded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% labile; V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 20% dissolved in 50,000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ded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m of oxides, including B and 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ded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ded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ded"/>
                    </a:solidFill>
                  </a:tcPr>
                </a:tc>
              </a:tr>
              <a:tr h="3902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R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72c2a"/>
                      </a:solidFill>
                    </a:lnT>
                    <a:lnB w="5760">
                      <a:solidFill>
                        <a:srgbClr val="772c2a"/>
                      </a:solidFill>
                    </a:lnB>
                    <a:solidFill>
                      <a:srgbClr val="772c2a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ytec (validated with Melodi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a7a6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D/2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a7a6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% labile; V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 20% dissolved in 50,000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a7a6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m of oxides, including B and 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a7a6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neralogical assemb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a7a6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a7a6"/>
                    </a:solidFill>
                  </a:tcPr>
                </a:tc>
              </a:tr>
              <a:tr h="1828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JR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72c2a"/>
                      </a:solidFill>
                    </a:lnT>
                    <a:lnB w="5760">
                      <a:solidFill>
                        <a:srgbClr val="772c2a"/>
                      </a:solidFill>
                    </a:lnB>
                    <a:solidFill>
                      <a:srgbClr val="772c2a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old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ded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D/2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ded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ded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ded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ded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eded"/>
                    </a:solidFill>
                  </a:tcPr>
                </a:tc>
              </a:tr>
              <a:tr h="3654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CK/C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72c2a"/>
                      </a:solidFill>
                    </a:lnT>
                    <a:lnB>
                      <a:noFill/>
                    </a:lnB>
                    <a:solidFill>
                      <a:srgbClr val="772c2a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reeqc, Comsol and Porf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dfa7a6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D/2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dfa7a6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stant, 100% dissolved in 50,000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dfa7a6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m of oxides, without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dfa7a6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lay 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dfa7a6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dfa7a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Image 14" descr=""/>
          <p:cNvPicPr/>
          <p:nvPr/>
        </p:nvPicPr>
        <p:blipFill>
          <a:blip r:embed="rId1"/>
          <a:stretch/>
        </p:blipFill>
        <p:spPr>
          <a:xfrm>
            <a:off x="928800" y="1285920"/>
            <a:ext cx="7715160" cy="4786200"/>
          </a:xfrm>
          <a:prstGeom prst="rect">
            <a:avLst/>
          </a:prstGeom>
          <a:ln w="0">
            <a:noFill/>
          </a:ln>
        </p:spPr>
      </p:pic>
      <p:sp>
        <p:nvSpPr>
          <p:cNvPr id="403" name="ZoneTexte 15"/>
          <p:cNvSpPr/>
          <p:nvPr/>
        </p:nvSpPr>
        <p:spPr>
          <a:xfrm>
            <a:off x="4969800" y="2000160"/>
            <a:ext cx="2082600" cy="824040"/>
          </a:xfrm>
          <a:prstGeom prst="rect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b8e"/>
                </a:solidFill>
                <a:latin typeface="Lucida Sans"/>
              </a:rPr>
              <a:t>Langmuir: </a:t>
            </a:r>
            <a:br>
              <a:rPr sz="1600"/>
            </a:br>
            <a:r>
              <a:rPr b="0" lang="fr-FR" sz="1600" spc="-1" strike="noStrike">
                <a:solidFill>
                  <a:srgbClr val="003b8e"/>
                </a:solidFill>
                <a:latin typeface="Lucida Sans"/>
              </a:rPr>
              <a:t>low sorption for </a:t>
            </a:r>
            <a:br>
              <a:rPr sz="1600"/>
            </a:br>
            <a:r>
              <a:rPr b="0" lang="fr-FR" sz="1600" spc="-1" strike="noStrike">
                <a:solidFill>
                  <a:srgbClr val="003b8e"/>
                </a:solidFill>
                <a:latin typeface="Lucida Sans"/>
              </a:rPr>
              <a:t>high concent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ZoneTexte 16"/>
          <p:cNvSpPr/>
          <p:nvPr/>
        </p:nvSpPr>
        <p:spPr>
          <a:xfrm>
            <a:off x="4572000" y="3071880"/>
            <a:ext cx="2786040" cy="824040"/>
          </a:xfrm>
          <a:prstGeom prst="rect">
            <a:avLst/>
          </a:prstGeom>
          <a:noFill/>
          <a:ln w="190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b8e"/>
                </a:solidFill>
                <a:latin typeface="Lucida Sans"/>
              </a:rPr>
              <a:t>Thermodynamic: </a:t>
            </a:r>
            <a:br>
              <a:rPr sz="1600"/>
            </a:br>
            <a:r>
              <a:rPr b="0" lang="fr-FR" sz="1600" spc="-1" strike="noStrike">
                <a:solidFill>
                  <a:srgbClr val="003b8e"/>
                </a:solidFill>
                <a:latin typeface="Lucida Sans"/>
              </a:rPr>
              <a:t>effect of mineral changes </a:t>
            </a:r>
            <a:br>
              <a:rPr sz="1600"/>
            </a:br>
            <a:r>
              <a:rPr b="0" lang="fr-FR" sz="1600" spc="-1" strike="noStrike">
                <a:solidFill>
                  <a:srgbClr val="003b8e"/>
                </a:solidFill>
                <a:latin typeface="Lucida Sans"/>
              </a:rPr>
              <a:t>near the wa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ZoneTexte 17"/>
          <p:cNvSpPr/>
          <p:nvPr/>
        </p:nvSpPr>
        <p:spPr>
          <a:xfrm>
            <a:off x="6087600" y="4643280"/>
            <a:ext cx="723240" cy="33732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b8e"/>
                </a:solidFill>
                <a:latin typeface="Lucida Sans"/>
              </a:rPr>
              <a:t>Kd/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Connecteur droit avec flèche 19"/>
          <p:cNvCxnSpPr>
            <a:stCxn id="403" idx="1"/>
          </p:cNvCxnSpPr>
          <p:nvPr/>
        </p:nvCxnSpPr>
        <p:spPr>
          <a:xfrm flipH="1">
            <a:off x="3642840" y="2414520"/>
            <a:ext cx="1286640" cy="84528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lg" type="triangle" w="lg"/>
          </a:ln>
        </p:spPr>
      </p:cxnSp>
      <p:cxnSp>
        <p:nvCxnSpPr>
          <p:cNvPr id="407" name="Connecteur droit avec flèche 20"/>
          <p:cNvCxnSpPr>
            <a:stCxn id="404" idx="1"/>
          </p:cNvCxnSpPr>
          <p:nvPr/>
        </p:nvCxnSpPr>
        <p:spPr>
          <a:xfrm flipH="1">
            <a:off x="3857400" y="3487680"/>
            <a:ext cx="714960" cy="44208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lg" type="triangle" w="lg"/>
          </a:ln>
        </p:spPr>
      </p:cxnSp>
      <p:cxnSp>
        <p:nvCxnSpPr>
          <p:cNvPr id="408" name="Connecteur droit avec flèche 21"/>
          <p:cNvCxnSpPr>
            <a:stCxn id="405" idx="1"/>
          </p:cNvCxnSpPr>
          <p:nvPr/>
        </p:nvCxnSpPr>
        <p:spPr>
          <a:xfrm flipH="1">
            <a:off x="4917240" y="4813200"/>
            <a:ext cx="1143720" cy="687960"/>
          </a:xfrm>
          <a:prstGeom prst="straightConnector1">
            <a:avLst/>
          </a:prstGeom>
          <a:ln w="19080">
            <a:solidFill>
              <a:srgbClr val="ff6600"/>
            </a:solidFill>
            <a:miter/>
            <a:tailEnd len="lg" type="triangle" w="lg"/>
          </a:ln>
        </p:spPr>
      </p:cxn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14680" y="70920"/>
            <a:ext cx="70768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Cs transfer - Andra: Phreeqc</a:t>
            </a: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0" name="Espace réservé de la date 11"/>
          <p:cNvSpPr/>
          <p:nvPr/>
        </p:nvSpPr>
        <p:spPr>
          <a:xfrm>
            <a:off x="707220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Final Workshop - Hohenkammer, Germany - Septembre, 28.-30. 20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space réservé du pied de page 12"/>
          <p:cNvSpPr/>
          <p:nvPr/>
        </p:nvSpPr>
        <p:spPr>
          <a:xfrm>
            <a:off x="857160" y="6454800"/>
            <a:ext cx="157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C.TR.AEAP.09.006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714320" y="70920"/>
            <a:ext cx="74293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Cs transfer - </a:t>
            </a:r>
            <a:r>
              <a:rPr b="0" lang="fr-FR" sz="3200" spc="-1" strike="noStrike">
                <a:solidFill>
                  <a:srgbClr val="ffffff"/>
                </a:solidFill>
                <a:latin typeface="Lucida Sans"/>
              </a:rPr>
              <a:t>CEA: Cast3m + Chess </a:t>
            </a: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3" name="Espace réservé de la date 3"/>
          <p:cNvSpPr/>
          <p:nvPr/>
        </p:nvSpPr>
        <p:spPr>
          <a:xfrm>
            <a:off x="707220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Final Workshop - Hohenkammer, Germany - Septembre, 28.-30. 20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pied de page 4"/>
          <p:cNvSpPr/>
          <p:nvPr/>
        </p:nvSpPr>
        <p:spPr>
          <a:xfrm>
            <a:off x="857160" y="6454800"/>
            <a:ext cx="157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C.TR.AEAP.09.006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e 10"/>
          <p:cNvGrpSpPr/>
          <p:nvPr/>
        </p:nvGrpSpPr>
        <p:grpSpPr>
          <a:xfrm>
            <a:off x="1000080" y="871560"/>
            <a:ext cx="7215120" cy="5129280"/>
            <a:chOff x="1000080" y="871560"/>
            <a:chExt cx="7215120" cy="5129280"/>
          </a:xfrm>
        </p:grpSpPr>
        <p:pic>
          <p:nvPicPr>
            <p:cNvPr id="416" name="Image 5" descr="plot_task2Cs_kd31"/>
            <p:cNvPicPr/>
            <p:nvPr/>
          </p:nvPicPr>
          <p:blipFill>
            <a:blip r:embed="rId1"/>
            <a:stretch/>
          </p:blipFill>
          <p:spPr>
            <a:xfrm>
              <a:off x="1000080" y="1000080"/>
              <a:ext cx="7215120" cy="500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Rectangle 9"/>
            <p:cNvSpPr/>
            <p:nvPr/>
          </p:nvSpPr>
          <p:spPr>
            <a:xfrm>
              <a:off x="1785600" y="1000080"/>
              <a:ext cx="635796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ZoneTexte 9"/>
            <p:cNvSpPr/>
            <p:nvPr/>
          </p:nvSpPr>
          <p:spPr>
            <a:xfrm>
              <a:off x="3734280" y="871560"/>
              <a:ext cx="14198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3b8e"/>
                  </a:solidFill>
                  <a:latin typeface="Lucida Sans"/>
                </a:rPr>
                <a:t>Kd/SL resul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e 13"/>
          <p:cNvGrpSpPr/>
          <p:nvPr/>
        </p:nvGrpSpPr>
        <p:grpSpPr>
          <a:xfrm>
            <a:off x="922320" y="880920"/>
            <a:ext cx="7358040" cy="5133960"/>
            <a:chOff x="922320" y="880920"/>
            <a:chExt cx="7358040" cy="5133960"/>
          </a:xfrm>
        </p:grpSpPr>
        <p:pic>
          <p:nvPicPr>
            <p:cNvPr id="420" name="Image 6" descr="plot_task5_lang"/>
            <p:cNvPicPr/>
            <p:nvPr/>
          </p:nvPicPr>
          <p:blipFill>
            <a:blip r:embed="rId2"/>
            <a:stretch/>
          </p:blipFill>
          <p:spPr>
            <a:xfrm>
              <a:off x="922320" y="1014480"/>
              <a:ext cx="7215120" cy="50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Rectangle 11"/>
            <p:cNvSpPr/>
            <p:nvPr/>
          </p:nvSpPr>
          <p:spPr>
            <a:xfrm>
              <a:off x="1922400" y="1032120"/>
              <a:ext cx="635796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ZoneTexte 9"/>
            <p:cNvSpPr/>
            <p:nvPr/>
          </p:nvSpPr>
          <p:spPr>
            <a:xfrm>
              <a:off x="3111480" y="880920"/>
              <a:ext cx="26542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3b8e"/>
                  </a:solidFill>
                  <a:latin typeface="Lucida Sans"/>
                </a:rPr>
                <a:t>Langmuir: faster diffu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e 18"/>
          <p:cNvGrpSpPr/>
          <p:nvPr/>
        </p:nvGrpSpPr>
        <p:grpSpPr>
          <a:xfrm>
            <a:off x="901800" y="860400"/>
            <a:ext cx="7299360" cy="5145120"/>
            <a:chOff x="901800" y="860400"/>
            <a:chExt cx="7299360" cy="5145120"/>
          </a:xfrm>
        </p:grpSpPr>
        <p:pic>
          <p:nvPicPr>
            <p:cNvPr id="424" name="Image 7" descr="plot_task6_radialchem"/>
            <p:cNvPicPr/>
            <p:nvPr/>
          </p:nvPicPr>
          <p:blipFill>
            <a:blip r:embed="rId3"/>
            <a:stretch/>
          </p:blipFill>
          <p:spPr>
            <a:xfrm>
              <a:off x="901800" y="1015920"/>
              <a:ext cx="7299360" cy="498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Rectangle 16"/>
            <p:cNvSpPr/>
            <p:nvPr/>
          </p:nvSpPr>
          <p:spPr>
            <a:xfrm>
              <a:off x="1774800" y="1060200"/>
              <a:ext cx="635832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ZoneTexte 9"/>
            <p:cNvSpPr/>
            <p:nvPr/>
          </p:nvSpPr>
          <p:spPr>
            <a:xfrm>
              <a:off x="2258280" y="860400"/>
              <a:ext cx="43624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3b8e"/>
                  </a:solidFill>
                  <a:latin typeface="Lucida Sans"/>
                </a:rPr>
                <a:t>Thermodynamic: between Kd and Langmui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71760" y="142920"/>
            <a:ext cx="75722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"/>
              </a:rPr>
              <a:t>Cs transfer - IRSN: HYTEC</a:t>
            </a:r>
            <a:endParaRPr b="0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grpSp>
        <p:nvGrpSpPr>
          <p:cNvPr id="428" name="Groupe 16"/>
          <p:cNvGrpSpPr/>
          <p:nvPr/>
        </p:nvGrpSpPr>
        <p:grpSpPr>
          <a:xfrm>
            <a:off x="1214280" y="873000"/>
            <a:ext cx="4286520" cy="5199120"/>
            <a:chOff x="1214280" y="873000"/>
            <a:chExt cx="4286520" cy="5199120"/>
          </a:xfrm>
        </p:grpSpPr>
        <p:pic>
          <p:nvPicPr>
            <p:cNvPr id="429" name="Image 9" descr=""/>
            <p:cNvPicPr/>
            <p:nvPr/>
          </p:nvPicPr>
          <p:blipFill>
            <a:blip r:embed="rId1"/>
            <a:stretch/>
          </p:blipFill>
          <p:spPr>
            <a:xfrm>
              <a:off x="1214280" y="1072080"/>
              <a:ext cx="4286520" cy="50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ZoneTexte 13"/>
            <p:cNvSpPr/>
            <p:nvPr/>
          </p:nvSpPr>
          <p:spPr>
            <a:xfrm>
              <a:off x="3737880" y="873000"/>
              <a:ext cx="141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3b8e"/>
                  </a:solidFill>
                  <a:latin typeface="Lucida Sans"/>
                </a:rPr>
                <a:t>Kd/SL resul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e 17"/>
          <p:cNvGrpSpPr/>
          <p:nvPr/>
        </p:nvGrpSpPr>
        <p:grpSpPr>
          <a:xfrm>
            <a:off x="330120" y="873000"/>
            <a:ext cx="8601120" cy="5168880"/>
            <a:chOff x="330120" y="873000"/>
            <a:chExt cx="8601120" cy="5168880"/>
          </a:xfrm>
        </p:grpSpPr>
        <p:pic>
          <p:nvPicPr>
            <p:cNvPr id="432" name="Image 10" descr=""/>
            <p:cNvPicPr/>
            <p:nvPr/>
          </p:nvPicPr>
          <p:blipFill>
            <a:blip r:embed="rId2"/>
            <a:stretch/>
          </p:blipFill>
          <p:spPr>
            <a:xfrm>
              <a:off x="330120" y="1204560"/>
              <a:ext cx="8601120" cy="483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ZoneTexte 15"/>
            <p:cNvSpPr/>
            <p:nvPr/>
          </p:nvSpPr>
          <p:spPr>
            <a:xfrm>
              <a:off x="2330280" y="873000"/>
              <a:ext cx="42152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3b8e"/>
                  </a:solidFill>
                  <a:latin typeface="Lucida Sans"/>
                </a:rPr>
                <a:t>Langmuir: very similar to Kd/S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e 18"/>
          <p:cNvGrpSpPr/>
          <p:nvPr/>
        </p:nvGrpSpPr>
        <p:grpSpPr>
          <a:xfrm>
            <a:off x="372960" y="873000"/>
            <a:ext cx="8429760" cy="5207040"/>
            <a:chOff x="372960" y="873000"/>
            <a:chExt cx="8429760" cy="5207040"/>
          </a:xfrm>
        </p:grpSpPr>
        <p:pic>
          <p:nvPicPr>
            <p:cNvPr id="435" name="Image 11" descr=""/>
            <p:cNvPicPr/>
            <p:nvPr/>
          </p:nvPicPr>
          <p:blipFill>
            <a:blip r:embed="rId3"/>
            <a:stretch/>
          </p:blipFill>
          <p:spPr>
            <a:xfrm>
              <a:off x="372960" y="1079280"/>
              <a:ext cx="8429760" cy="500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ZoneTexte 17"/>
            <p:cNvSpPr/>
            <p:nvPr/>
          </p:nvSpPr>
          <p:spPr>
            <a:xfrm>
              <a:off x="2787480" y="873000"/>
              <a:ext cx="3286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3b8e"/>
                  </a:solidFill>
                  <a:latin typeface="Lucida Sans"/>
                </a:rPr>
                <a:t>Thermodynamic: faster diffu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Espace réservé de la date 11"/>
          <p:cNvSpPr/>
          <p:nvPr/>
        </p:nvSpPr>
        <p:spPr>
          <a:xfrm>
            <a:off x="707220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Final Workshop - Hohenkammer, Germany - Septembre, 28.-30. 20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pied de page 12"/>
          <p:cNvSpPr/>
          <p:nvPr/>
        </p:nvSpPr>
        <p:spPr>
          <a:xfrm>
            <a:off x="857160" y="6454800"/>
            <a:ext cx="157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3b8e"/>
                </a:solidFill>
                <a:latin typeface="Lucida Sans"/>
              </a:rPr>
              <a:t>C.TR.AEAP.09.006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3:17:52Z</dcterms:created>
  <dc:creator>munier-i</dc:creator>
  <dc:description/>
  <dc:language>en-US</dc:language>
  <cp:lastModifiedBy>munier-i</cp:lastModifiedBy>
  <dcterms:modified xsi:type="dcterms:W3CDTF">2009-09-25T15:38:28Z</dcterms:modified>
  <cp:revision>92</cp:revision>
  <dc:subject/>
  <dc:title>Titre de la présentation</dc:title>
</cp:coreProperties>
</file>