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2E4F4-AAAA-4931-96FF-8C65FEB35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711A5-A5F2-445C-A7DB-42136E130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68DEF-0F56-4FEA-8D99-26BCBAE0B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86F6C-2528-495A-8908-D60AB943BF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71402-53EB-4805-A5EA-9E4C62A14E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65A71-DA43-4A7B-BD6E-BBAB36E88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A7275-36D3-4DC1-BB27-A88E1450F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EF8EA-97F3-4D88-A444-FC6F43F36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65C75-BA4A-4938-85FB-4869DA4C42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38E61-94E8-4F6C-AB2E-E0952714D6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B3E1C-4CCC-4D29-9004-EB3DEB2DF1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6BE54-134C-4EC7-A674-FEBD930DF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5C4F-8370-4617-8374-99F940A03E11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971640" y="189000"/>
            <a:ext cx="576000" cy="360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95280" y="189000"/>
            <a:ext cx="50472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9360">
            <a:solidFill>
              <a:srgbClr val="eaf0ff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708360" y="2781360"/>
            <a:ext cx="2016000" cy="1260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835280" y="2781360"/>
            <a:ext cx="1765080" cy="1260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50920" y="1486080"/>
            <a:ext cx="6337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b4cce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MINA</a:t>
            </a:r>
            <a:endParaRPr b="0" lang="en-US" sz="1800" spc="1" strike="noStrike">
              <a:ln w="28440">
                <a:solidFill>
                  <a:srgbClr val="b4cce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50920" y="4389480"/>
            <a:ext cx="8353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P1.1 – Review of methodologies for the Safety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iteria for input and data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78120" y="5727600"/>
            <a:ext cx="56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sé Luis Cormenzana (Enresa)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880" y="533520"/>
            <a:ext cx="84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l Workshop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henkammer (Germany) 28-30 September 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of expert elicitation in data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rt judgement vs. expert elic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decisions must be done when selecting data val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t judgement is present ever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se decisions and the basis for them should be docu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rt elicitation is a time consuming process that should be used only when other methods can not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ine and follow clear protoco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ensure the traceability of the process (FAN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mal expert elicitation is not of widespread use for data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NDA uses it for all uncertain parameter (when a pdf is nee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VA uses it only for very uncertain parameters (solubili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est of organisations do not us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34527-FEF2-4055-AB15-9CDF8BFEDB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A for data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QA programme of the repository must in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generation within the project (experiments, site characterisation,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selection for the 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aceability of the whole process of data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iew of the process and the values obtained by independent expe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per documentation of the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consist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y documents will be generated during the process of data gen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document like the “Models and Data report” prepared by POSIVA will be use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presents enough information about the data used in the Safety Case and how it has been generated + References to more detailed reports where full details can be f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milar documents have been prepared by NAGRA (Opalinus) and SKB (SR-CAN), and Andra (Dossier 20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Agreement: a comprehensive QA programme is necessary to ensure data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Special emphasis on traceability, external review and proper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A Report summarising the data used and how it has been generated can be one of the main documents of a S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1708A-546C-46D5-BF50-9108647A76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a generation and use in the 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sitory development requires decade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great amount of data will be generated 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ste characte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te characte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ing scientific stud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 generation and handling of these data are critical for the Safety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ortant topic: the generation/justification of the input data required by the models used in the Safety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0E574-700F-426C-9CA0-3621D17A1E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 per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n organisations provided written contributions presenting their approaches and experiences on “data selection” for the Safety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different methodologies/points of view were discussed in a workshop in order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dentify similarities and differenc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dentify gaps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ch a common position, when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analysis of the written contributions plus the discussions of the workshop have been used to create the chapter of the handbook on “data selec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12960" y="1955880"/>
            <a:ext cx="5607000" cy="304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DBD0B-C80F-406C-9969-AE82BF85F0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 topics iden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te characterisation – data generation and proces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ste characterisation – data generation and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ole of Sensitivity Analysis in data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generation for deterministic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ition of pdf´s for stochastic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of expert elic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A for data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D848B-0F94-4262-BC9C-652672197F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te character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247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huge amount of data will be generated during site characteris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to treat 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fore the start of site characterisation a QA programme must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te characterisation is done through the development and progressive updating of a series of interrelated Site Descriptive Models (Geology, Hydrogeology, Hydrochemistry, Geotechnical, Transport properties, Thermal properties and Biosphere) - 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geology model is the framework on which all the other models are bui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will be organised around these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te Descriptive Models may change significantly as new site information i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the later stages models will become stable as further information is obta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is stability is a potential criterion for deciding completion of the investig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fety Assessments performed on the basis of generic geosphere data can be done (GRS-B, ENRESA, NRG, NRI, N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 detailed characterisation of a given site is needed to perform preliminary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se preliminary SA can provide useful guidance for the site character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Agreement: Site characterisation will generate a great amount of data, and requires a particular strategy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9ECB7-6AAA-4FFA-BA6F-E52D123DFA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te character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articipants foresee that many different wastes will be disposed of in the repository (Andra and N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them waste characterisation (inventory and waste properties) is a complex topic similar to site characte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ling the great amount of data generated in the waste characterisation requires a specific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participants consider only spent fuel or HLW in their assessments and waste characterisation is not so challen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C7782-6B28-4559-8798-16B8C612B7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640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le of Sensitivity Analysis in input data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nsitivity Analyses from previous Safety Assess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low to identify data with high/low relevance for th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effort to determine the value or range of values of a parameter should be proportional to its relev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t if the models for the new iteration of the SA are different, the conclusions from previous Sensitivity Analysis could not a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VA intends to include data from sensitivity analyses or bounding calculations in the Models and Data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is information will show the effect of the parameter/data on system evolution and do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Agreement: Sensitivity Analysis from previous Safety Assessments is useful to identify the most important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This allows to prioritize the efforts of the input data selection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 the first iteration of the Safety Case a review of the assessments done by other organisations for similar wastes and host rock can be used, inst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151CC-D1EF-4BBB-B005-2F650B776C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47736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generation for deterministic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t estimate” or “conservative” values are usually selected for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K points that in SAFIR 2 when trying to obtain “best estimates” of parameters, the values selected usually were in the conservative s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“true” value was 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RESA, SCK.NIRAS and Andra consider useful to generate both “best estimate” and “conservative” values for the para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would reduce the tendency to be conservative when selecting “best estimate”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rison of the results obtained with “best estimate” and “conservative” values provides an indication of the margin of improvement of the repository if conservativeness can be re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Belgium best estimate values are used for the performance of the barriers and conservative for radiological consequences (FAN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ne case deterministic calculations are done with the median values (GRS-K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BAC41-4B02-4BA1-ADEF-364995F39D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ition of pdf´s for stochastic calc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uncertainty in the parameters must be identified explicitly during the process of data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se uncertainties will be basis to define the pdf´s to be used in stochastic calcul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K.NIRAS criteria to generate pdf´s for stochastic parameters are similar to those followed by ENRESA and probably other organis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the uncertainty (range of values) is higher than a factor 5 a logarithm distribution is used. If it is smaller than 5 a linear distribution is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is considered convenient to give more weight to a given region of values (around the best estimate, for instance) a triangular distribution with a more probable value equal to the best estimate is used. Otherwise, uniform distributions ar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sk 2.2.A of PAMINA has treated this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esults obtained confirm the approach followed by SCK.NI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A37ED-6F3D-4443-9594-B926D78B9E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1:56:47Z</dcterms:created>
  <dc:creator>Jörg Mönig</dc:creator>
  <dc:description/>
  <dc:language>en-US</dc:language>
  <cp:lastModifiedBy>Adrián Robles</cp:lastModifiedBy>
  <dcterms:modified xsi:type="dcterms:W3CDTF">2009-09-28T09:58:57Z</dcterms:modified>
  <cp:revision>117</cp:revision>
  <dc:subject/>
  <dc:title>Folie 1</dc:title>
</cp:coreProperties>
</file>