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A9A2-4F9E-4EDA-9B51-BC6A700846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D12-187E-43C3-BFD3-C5E1927AAF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5D06-E1EC-4756-94B5-40C4F2CA0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620A-3700-4A98-98EE-5BCF262AB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C13F-6901-4793-9E17-AB7AF131D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2C9B-ACFF-4A58-8EDF-54A2DB7B2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525B-8BE8-4030-AC2C-6444CAACF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B5BE-FFD5-45A1-9316-FC3BAAE32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42E2-56CE-42C3-B49D-FFA4E230E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32CC-A47F-4D13-B3B9-BB9F9F536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6107-0CD4-4620-816B-BB438A7D8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DC71-46CB-4B9E-8F76-0877947FE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5D3FD-8C8D-4655-8642-C2165E780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66C9-A2B0-4AA5-97BB-DA138D1B6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B28-81C0-41C4-8067-79DB65D881D6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Picture 8" descr="flagge_eu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AMINA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50560" y="4389480"/>
            <a:ext cx="8250120" cy="10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ession IV: Safety and Performance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ns Wolf (G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37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in the Safety C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5CCF-6DAA-4B29-93C4-B0890E6CE94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4734000" cy="5470560"/>
          </a:xfrm>
          <a:prstGeom prst="rect">
            <a:avLst/>
          </a:prstGeom>
          <a:ln w="0">
            <a:noFill/>
          </a:ln>
        </p:spPr>
      </p:pic>
      <p:sp>
        <p:nvSpPr>
          <p:cNvPr id="181" name="Textfeld 19"/>
          <p:cNvSpPr/>
          <p:nvPr/>
        </p:nvSpPr>
        <p:spPr>
          <a:xfrm>
            <a:off x="5143680" y="28526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b0f0"/>
                </a:solidFill>
                <a:latin typeface="Arial"/>
              </a:rPr>
              <a:t>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feld 20"/>
          <p:cNvSpPr/>
          <p:nvPr/>
        </p:nvSpPr>
        <p:spPr>
          <a:xfrm>
            <a:off x="4829040" y="5105520"/>
            <a:ext cx="34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afety Indicators (PSI + C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21"/>
          <p:cNvSpPr/>
          <p:nvPr/>
        </p:nvSpPr>
        <p:spPr>
          <a:xfrm>
            <a:off x="5143680" y="39830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b0f0"/>
                </a:solidFill>
                <a:latin typeface="Arial"/>
              </a:rPr>
              <a:t>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22"/>
          <p:cNvSpPr/>
          <p:nvPr/>
        </p:nvSpPr>
        <p:spPr>
          <a:xfrm>
            <a:off x="5143680" y="48085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b0f0"/>
                </a:solidFill>
                <a:latin typeface="Arial"/>
              </a:rPr>
              <a:t>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23"/>
          <p:cNvSpPr/>
          <p:nvPr/>
        </p:nvSpPr>
        <p:spPr>
          <a:xfrm>
            <a:off x="5143680" y="53910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b0f0"/>
                </a:solidFill>
                <a:latin typeface="Arial"/>
              </a:rPr>
              <a:t>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9"/>
          <p:cNvSpPr/>
          <p:nvPr/>
        </p:nvSpPr>
        <p:spPr>
          <a:xfrm>
            <a:off x="4857840" y="6396120"/>
            <a:ext cx="392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NEA / OECD (2004) 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Closure Safety Case for Geological Repos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feil nach links 19"/>
          <p:cNvSpPr/>
          <p:nvPr/>
        </p:nvSpPr>
        <p:spPr>
          <a:xfrm>
            <a:off x="4618080" y="2900520"/>
            <a:ext cx="500040" cy="28548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feil nach links 20"/>
          <p:cNvSpPr/>
          <p:nvPr/>
        </p:nvSpPr>
        <p:spPr>
          <a:xfrm>
            <a:off x="4626000" y="402588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feil nach links 21"/>
          <p:cNvSpPr/>
          <p:nvPr/>
        </p:nvSpPr>
        <p:spPr>
          <a:xfrm>
            <a:off x="4500720" y="48578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feil nach links 22"/>
          <p:cNvSpPr/>
          <p:nvPr/>
        </p:nvSpPr>
        <p:spPr>
          <a:xfrm>
            <a:off x="4500720" y="542916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feil nach links 23"/>
          <p:cNvSpPr/>
          <p:nvPr/>
        </p:nvSpPr>
        <p:spPr>
          <a:xfrm>
            <a:off x="4286160" y="5143680"/>
            <a:ext cx="500040" cy="28548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25"/>
          <p:cNvSpPr/>
          <p:nvPr/>
        </p:nvSpPr>
        <p:spPr>
          <a:xfrm>
            <a:off x="5000760" y="12906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aging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ptimising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reasing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05BB-C323-4148-B9AF-C1EA0913D41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428760" y="1128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view: Primary safety indicator is the effective dose / risk, but complementary safety indicator are necessary arguments for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ndency: PSI → Regulator (limit or constraint), CSI → Implementer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values for CSI specific for DGR, 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choice of CSI is dependent on the context of each national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velopment of the national programmes has led to different definitions and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finition in WP3.4 is closely related to the SPIN project</a:t>
            </a:r>
            <a:br>
              <a:rPr sz="20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mmendation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fety indicator (overall safety, safety-relevant reference value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more flexible definition for performance indicators allow the coverage of different concepts → Implem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erivation of reference values can become compl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discussion is going on … → LTSC, IGSC MeS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n long-term safety be evalu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FB2-AB50-45C0-888E-C00548AFB1A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 rot="60000">
            <a:off x="236160" y="2003040"/>
            <a:ext cx="8643960" cy="2570040"/>
          </a:xfrm>
          <a:prstGeom prst="rect">
            <a:avLst/>
          </a:prstGeom>
          <a:ln w="0">
            <a:noFill/>
          </a:ln>
        </p:spPr>
      </p:pic>
      <p:sp>
        <p:nvSpPr>
          <p:cNvPr id="201" name="Interaktive Schaltfläche: Zurückkehren 4"/>
          <p:cNvSpPr/>
          <p:nvPr/>
        </p:nvSpPr>
        <p:spPr>
          <a:xfrm>
            <a:off x="642960" y="585792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hteck 5"/>
          <p:cNvSpPr/>
          <p:nvPr/>
        </p:nvSpPr>
        <p:spPr>
          <a:xfrm>
            <a:off x="2954160" y="4006800"/>
            <a:ext cx="1785960" cy="25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feld 6"/>
          <p:cNvSpPr/>
          <p:nvPr/>
        </p:nvSpPr>
        <p:spPr>
          <a:xfrm>
            <a:off x="1328760" y="1114560"/>
            <a:ext cx="771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A/IAEA/CEC Symposium on Safety Assessment of Radioactive Waste Repositories, Paris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eck 8"/>
          <p:cNvSpPr/>
          <p:nvPr/>
        </p:nvSpPr>
        <p:spPr>
          <a:xfrm>
            <a:off x="3429000" y="2571840"/>
            <a:ext cx="5143680" cy="25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eck 9"/>
          <p:cNvSpPr/>
          <p:nvPr/>
        </p:nvSpPr>
        <p:spPr>
          <a:xfrm>
            <a:off x="1285920" y="2793960"/>
            <a:ext cx="1857240" cy="25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11"/>
          <p:cNvSpPr/>
          <p:nvPr/>
        </p:nvSpPr>
        <p:spPr>
          <a:xfrm>
            <a:off x="1266840" y="4597560"/>
            <a:ext cx="73058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ting point of the discussion on safety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91: The International Radioactive Waste Management Advisory Commitee (INWAC) established the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INWAC Subgroup on Principles and Criteria for Radioactive Waste Dis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Nach rechts gekrümmter Pfeil 11"/>
          <p:cNvSpPr/>
          <p:nvPr/>
        </p:nvSpPr>
        <p:spPr>
          <a:xfrm>
            <a:off x="95400" y="3706920"/>
            <a:ext cx="1071360" cy="135720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238680 h 1357200"/>
              <a:gd name="textAreaBottom" fmla="*/ 984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3" stAng="-5400000" swAng="-5400000"/>
                <a:lnTo>
                  <a:pt x="0" y="11867"/>
                </a:lnTo>
                <a:arcTo wR="21600" hR="7603" stAng="10800000" swAng="-3224202"/>
                <a:lnTo>
                  <a:pt x="16200" y="21359"/>
                </a:lnTo>
                <a:lnTo>
                  <a:pt x="21600" y="17337"/>
                </a:lnTo>
                <a:lnTo>
                  <a:pt x="16200" y="12833"/>
                </a:lnTo>
                <a:lnTo>
                  <a:pt x="16200" y="14964"/>
                </a:lnTo>
                <a:arcTo wR="21600" hR="7603" stAng="7575798" swAng="2871937"/>
                <a:lnTo>
                  <a:pt x="867" y="9735"/>
                </a:lnTo>
                <a:arcTo wR="21600" hR="7603" stAng="-10447735" swAng="5047735"/>
                <a:close/>
              </a:path>
              <a:path fill="darkenLess" w="21600" h="21600">
                <a:moveTo>
                  <a:pt x="21600" y="0"/>
                </a:moveTo>
                <a:arcTo wR="21600" hR="7603" stAng="-5400000" swAng="-5400000"/>
                <a:lnTo>
                  <a:pt x="0" y="7603"/>
                </a:lnTo>
                <a:arcTo wR="21600" hR="7603" stAng="10800000" swAng="-352265"/>
                <a:lnTo>
                  <a:pt x="867" y="9735"/>
                </a:lnTo>
                <a:arcTo wR="21600" hR="7603" stAng="-10447735" swAng="504773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AEA TECDOC-7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6312-34BD-48D5-A53D-32BB6E76D6C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Interaktive Schaltfläche: Zurückkehren 4"/>
          <p:cNvSpPr/>
          <p:nvPr/>
        </p:nvSpPr>
        <p:spPr>
          <a:xfrm>
            <a:off x="7786800" y="614376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rcRect l="38394" t="14999" r="22767" b="5716"/>
          <a:stretch/>
        </p:blipFill>
        <p:spPr>
          <a:xfrm>
            <a:off x="714240" y="1968480"/>
            <a:ext cx="3721320" cy="4746600"/>
          </a:xfrm>
          <a:prstGeom prst="rect">
            <a:avLst/>
          </a:prstGeom>
          <a:ln w="0">
            <a:noFill/>
          </a:ln>
        </p:spPr>
      </p:pic>
      <p:sp>
        <p:nvSpPr>
          <p:cNvPr id="212" name="Rechteck 8"/>
          <p:cNvSpPr/>
          <p:nvPr/>
        </p:nvSpPr>
        <p:spPr>
          <a:xfrm>
            <a:off x="1071720" y="107172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fety indicators in different time fram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afety assessment of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erground radioactive waste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eck 9"/>
          <p:cNvSpPr/>
          <p:nvPr/>
        </p:nvSpPr>
        <p:spPr>
          <a:xfrm>
            <a:off x="4572000" y="2103480"/>
            <a:ext cx="392904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The assessed long term consequences of disposal systems in terms of risk and dose 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be considered as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dicators of safe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The long term safety case can be made most effectively by the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mbined use of sev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afety indicator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ch as risk, dose, environmental concentration, biospheric flux, flux through barriers and time recognising, however, that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isk and dose remain the m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undamental of the indicators of safe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Indicators become particularly valuable when they are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upported by observa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atural analogu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finitions IAEA TECDOC 13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2B8-5A7D-47C5-A211-1A4F2FDCB63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feld 4"/>
          <p:cNvSpPr/>
          <p:nvPr/>
        </p:nvSpPr>
        <p:spPr>
          <a:xfrm>
            <a:off x="714240" y="2000160"/>
            <a:ext cx="7286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distinction is also drawn between 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erformance indicat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and a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safety indic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erformance indicato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s measures of performance to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upport th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development of system understandi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 to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ssess the quality, reliability or effectiveness of a disposal system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 a whole or of particular aspects or components of a dispos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afety indicat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which may be regarded as a special type of performance indicators, is used to assess calculated performance in terms of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overall safety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6"/>
          <p:cNvSpPr/>
          <p:nvPr/>
        </p:nvSpPr>
        <p:spPr>
          <a:xfrm>
            <a:off x="714240" y="1071720"/>
            <a:ext cx="72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afety indicators for the safety assessment of radioactive waste dis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finitions SPIN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6C8E-D1C5-44CD-AC6D-D531938E308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feld 4"/>
          <p:cNvSpPr/>
          <p:nvPr/>
        </p:nvSpPr>
        <p:spPr>
          <a:xfrm>
            <a:off x="500040" y="142884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afety indicato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 a measure of the safety of the who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ow a comparison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with safety-relevant referenc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ke into account the contributions of all radionuc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 calculable using performance assess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performance indicator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vide a measure of the safety of the whole system or a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ow a comparison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betwe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different options or with technical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ake into account the contributions of all radionuclides or a single radionuc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 calculable using performance assessmen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formance indicators can be derived through a systematic approach using safety functions. → second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Gerade Verbindung mit Pfeil 6"/>
          <p:cNvCxnSpPr/>
          <p:nvPr/>
        </p:nvCxnSpPr>
        <p:spPr>
          <a:xfrm flipV="1">
            <a:off x="2784600" y="6215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finitions PAMINA WP 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8088-21B4-4664-B4E0-7763B32E876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feld 4"/>
          <p:cNvSpPr/>
          <p:nvPr/>
        </p:nvSpPr>
        <p:spPr>
          <a:xfrm>
            <a:off x="500040" y="142884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ict definition for safety indicator, broad definition for performance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afety indicat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quantity, calculable by means of suitable models, that provides a measure for th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tal system performanc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respect to a specific safety aspect, in comparison with a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reference valu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antifying a global or local level that can be proven, or is at least commonly considered, to be sa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erformance indicat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quantity, calculable by means of appropriate models, that provides a measure for the performance of a system component, several components or the whol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Gerade Verbindung mit Pfeil 6"/>
          <p:cNvCxnSpPr/>
          <p:nvPr/>
        </p:nvCxnSpPr>
        <p:spPr>
          <a:xfrm flipV="1">
            <a:off x="2784600" y="6215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229" name="Picture 2" descr="general concept"/>
          <p:cNvPicPr/>
          <p:nvPr/>
        </p:nvPicPr>
        <p:blipFill>
          <a:blip r:embed="rId1"/>
          <a:srcRect l="0" t="1986" r="662" b="46690"/>
          <a:stretch/>
        </p:blipFill>
        <p:spPr>
          <a:xfrm>
            <a:off x="1357200" y="4367160"/>
            <a:ext cx="64296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637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toxicity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iospher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6432-13BD-4EF4-86CB-F7AEC031930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4"/>
          <p:cNvSpPr/>
          <p:nvPr/>
        </p:nvSpPr>
        <p:spPr>
          <a:xfrm>
            <a:off x="447840" y="1711440"/>
            <a:ext cx="450036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presents the radiotoxicity of the radionuclides in 1 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biosphere water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he ingestion dose coefficient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presents the dose caused by ingestion of radionuclid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v per ingested Bq, ICRP (1996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he effects of daughters produced in vivo are accounted for in the ingestion dose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"/>
          <p:cNvCxnSpPr/>
          <p:nvPr/>
        </p:nvCxnSpPr>
        <p:spPr>
          <a:xfrm flipV="1">
            <a:off x="2784600" y="6215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3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1"/>
              <p:cNvSpPr txBox="1"/>
              <p:nvPr/>
            </p:nvSpPr>
            <p:spPr>
              <a:xfrm>
                <a:off x="1714680" y="2786040"/>
                <a:ext cx="1908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nuclides  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237" name="Picture 2" descr=""/>
          <p:cNvPicPr/>
          <p:nvPr/>
        </p:nvPicPr>
        <p:blipFill>
          <a:blip r:embed="rId1"/>
          <a:srcRect l="38394" t="14999" r="22767" b="5716"/>
          <a:stretch/>
        </p:blipFill>
        <p:spPr>
          <a:xfrm>
            <a:off x="4857840" y="1428840"/>
            <a:ext cx="372096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Rechteck 10"/>
          <p:cNvSpPr/>
          <p:nvPr/>
        </p:nvSpPr>
        <p:spPr>
          <a:xfrm>
            <a:off x="5357880" y="3537000"/>
            <a:ext cx="1071360" cy="64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toxicity flux from the ge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59A6-6642-4666-A08A-15D717A9AF7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Gerade Verbindung mit Pfeil 6"/>
          <p:cNvCxnSpPr/>
          <p:nvPr/>
        </p:nvCxnSpPr>
        <p:spPr>
          <a:xfrm flipV="1">
            <a:off x="2784600" y="6215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43" name="Textfeld 4"/>
          <p:cNvSpPr/>
          <p:nvPr/>
        </p:nvSpPr>
        <p:spPr>
          <a:xfrm>
            <a:off x="428760" y="1523880"/>
            <a:ext cx="450036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diotoxicity flux from the geosphere 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activity flux [Bq/a] of radionuclid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geosphere to a water body, which represents the interface to the biospher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liminates the uncertainty from the dilution in this water body, but has only a weak relation to human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erence value often derived from concentration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rcRect l="38394" t="14999" r="22767" b="5716"/>
          <a:stretch/>
        </p:blipFill>
        <p:spPr>
          <a:xfrm>
            <a:off x="4857840" y="1428840"/>
            <a:ext cx="372096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1"/>
              <p:cNvSpPr txBox="1"/>
              <p:nvPr/>
            </p:nvSpPr>
            <p:spPr>
              <a:xfrm>
                <a:off x="1643040" y="2286000"/>
                <a:ext cx="20001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nuclides  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7" name="Rechteck 14"/>
          <p:cNvSpPr/>
          <p:nvPr/>
        </p:nvSpPr>
        <p:spPr>
          <a:xfrm>
            <a:off x="5178600" y="4251240"/>
            <a:ext cx="150012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feld 12"/>
          <p:cNvSpPr/>
          <p:nvPr/>
        </p:nvSpPr>
        <p:spPr>
          <a:xfrm>
            <a:off x="6786720" y="36180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density in groun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B81E-57CB-4F15-97A2-7C8444D6813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Gerade Verbindung mit Pfeil 6"/>
          <p:cNvCxnSpPr/>
          <p:nvPr/>
        </p:nvCxnSpPr>
        <p:spPr>
          <a:xfrm flipV="1">
            <a:off x="2784600" y="6215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53" name="Textfeld 4"/>
          <p:cNvSpPr/>
          <p:nvPr/>
        </p:nvSpPr>
        <p:spPr>
          <a:xfrm>
            <a:off x="428760" y="1643040"/>
            <a:ext cx="457200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density in groundwat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calculat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- c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the activity concentration [Bq/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 of radionuclide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n ground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ecay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ields a power density p [MeV/(s∙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iterion for the impact of radionuclid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biota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rcRect l="38394" t="14999" r="22767" b="5716"/>
          <a:stretch/>
        </p:blipFill>
        <p:spPr>
          <a:xfrm>
            <a:off x="4857840" y="1428840"/>
            <a:ext cx="372096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"/>
              <p:cNvSpPr txBox="1"/>
              <p:nvPr/>
            </p:nvSpPr>
            <p:spPr>
              <a:xfrm>
                <a:off x="1214280" y="2428920"/>
                <a:ext cx="23320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nuclides </m:t>
                        </m:r>
                        <m:r>
                          <m:t xml:space="preserve">n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7" name="Rechteck 10"/>
          <p:cNvSpPr/>
          <p:nvPr/>
        </p:nvSpPr>
        <p:spPr>
          <a:xfrm>
            <a:off x="5340240" y="3529080"/>
            <a:ext cx="1071720" cy="64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general concept"/>
          <p:cNvPicPr/>
          <p:nvPr/>
        </p:nvPicPr>
        <p:blipFill>
          <a:blip r:embed="rId2"/>
          <a:srcRect l="0" t="1986" r="50333" b="70046"/>
          <a:stretch/>
        </p:blipFill>
        <p:spPr>
          <a:xfrm>
            <a:off x="1143000" y="5357880"/>
            <a:ext cx="3214800" cy="1357200"/>
          </a:xfrm>
          <a:prstGeom prst="rect">
            <a:avLst/>
          </a:prstGeom>
          <a:ln w="0">
            <a:noFill/>
          </a:ln>
        </p:spPr>
      </p:pic>
      <p:sp>
        <p:nvSpPr>
          <p:cNvPr id="259" name="Rechteck 12"/>
          <p:cNvSpPr/>
          <p:nvPr/>
        </p:nvSpPr>
        <p:spPr>
          <a:xfrm>
            <a:off x="428760" y="106848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originally proposed by GRS for the new German safety requiremen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ckground / Retrospective / Synthesis of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velopment of the term safety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tinction between safety indicators and performanc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e work in PAMINA WP3.4 (PAMINA WP 1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mon 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plied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sults (second presen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le of safety and performance indicators in the safety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5B7F-F652-42BF-BF4F-BB92732577C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ation of Referenc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B8D6-605B-40D6-8C7E-BBB3316B212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Interaktive Schaltfläche: Zurückkehren 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Gerade Verbindung mit Pfeil 6"/>
          <p:cNvCxnSpPr/>
          <p:nvPr/>
        </p:nvCxnSpPr>
        <p:spPr>
          <a:xfrm flipV="1">
            <a:off x="2784600" y="6215760"/>
            <a:ext cx="2160" cy="723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474920" y="1643040"/>
          <a:ext cx="6572160" cy="3648240"/>
        </p:xfrm>
        <a:graphic>
          <a:graphicData uri="http://schemas.openxmlformats.org/drawingml/2006/table">
            <a:tbl>
              <a:tblPr/>
              <a:tblGrid>
                <a:gridCol w="1466640"/>
                <a:gridCol w="2098800"/>
                <a:gridCol w="1503360"/>
                <a:gridCol w="1503360"/>
              </a:tblGrid>
              <a:tr h="749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stion dose coefficient</a:t>
                      </a:r>
                      <a:br>
                        <a:rPr sz="1100"/>
                      </a:b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Sv/Bq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*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Bq/m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toxicity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Sv/m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-2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5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-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9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4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-2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n-2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 9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7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-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4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-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0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-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-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9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7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-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2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4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-2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70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1∙10</a:t>
                      </a:r>
                      <a:r>
                        <a:rPr b="0" lang="en-GB" sz="11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74∙1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Rectangle 7"/>
          <p:cNvSpPr/>
          <p:nvPr/>
        </p:nvSpPr>
        <p:spPr>
          <a:xfrm>
            <a:off x="1259280" y="5360040"/>
            <a:ext cx="631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ed safety factor for reference value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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62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 value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∙10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Sv/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feld 10"/>
          <p:cNvSpPr/>
          <p:nvPr/>
        </p:nvSpPr>
        <p:spPr>
          <a:xfrm>
            <a:off x="1706400" y="11224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toxicity concentration in biosphere water (Sv/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 Negrita"/>
                <a:ea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hteck 9"/>
          <p:cNvSpPr/>
          <p:nvPr/>
        </p:nvSpPr>
        <p:spPr>
          <a:xfrm>
            <a:off x="1471680" y="5008680"/>
            <a:ext cx="6572160" cy="28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hteck 10"/>
          <p:cNvSpPr/>
          <p:nvPr/>
        </p:nvSpPr>
        <p:spPr>
          <a:xfrm>
            <a:off x="1357200" y="6072120"/>
            <a:ext cx="528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ublished by the Federal Ministry for the Environment, Nature Conservation and Nuclear Safety (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7808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Closure Safety C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Geological Repos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E875-C0BC-4499-8E4F-585933B387E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7786440" cy="3686040"/>
          </a:xfrm>
          <a:prstGeom prst="rect">
            <a:avLst/>
          </a:prstGeom>
          <a:ln w="0">
            <a:noFill/>
          </a:ln>
        </p:spPr>
      </p:pic>
      <p:sp>
        <p:nvSpPr>
          <p:cNvPr id="273" name="Rechteck 8"/>
          <p:cNvSpPr/>
          <p:nvPr/>
        </p:nvSpPr>
        <p:spPr>
          <a:xfrm>
            <a:off x="5000760" y="4714920"/>
            <a:ext cx="285732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hteck 9"/>
          <p:cNvSpPr/>
          <p:nvPr/>
        </p:nvSpPr>
        <p:spPr>
          <a:xfrm>
            <a:off x="936720" y="4954680"/>
            <a:ext cx="149220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hteck 10"/>
          <p:cNvSpPr/>
          <p:nvPr/>
        </p:nvSpPr>
        <p:spPr>
          <a:xfrm>
            <a:off x="1650960" y="3268800"/>
            <a:ext cx="342900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hteck 11"/>
          <p:cNvSpPr/>
          <p:nvPr/>
        </p:nvSpPr>
        <p:spPr>
          <a:xfrm>
            <a:off x="4143240" y="2517840"/>
            <a:ext cx="3714840" cy="21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hteck 12"/>
          <p:cNvSpPr/>
          <p:nvPr/>
        </p:nvSpPr>
        <p:spPr>
          <a:xfrm>
            <a:off x="893880" y="54975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A / OECD (20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nteraktive Schaltfläche: Zurückkehren 13"/>
          <p:cNvSpPr/>
          <p:nvPr/>
        </p:nvSpPr>
        <p:spPr>
          <a:xfrm>
            <a:off x="500040" y="607212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5958" y="7493"/>
                </a:moveTo>
                <a:lnTo>
                  <a:pt x="9465" y="7493"/>
                </a:lnTo>
                <a:lnTo>
                  <a:pt x="9465" y="12828"/>
                </a:lnTo>
                <a:cubicBezTo>
                  <a:pt x="9465" y="13751"/>
                  <a:pt x="10266" y="14482"/>
                  <a:pt x="11302" y="14482"/>
                </a:cubicBezTo>
                <a:lnTo>
                  <a:pt x="12964" y="14482"/>
                </a:lnTo>
                <a:cubicBezTo>
                  <a:pt x="14000" y="14482"/>
                  <a:pt x="14801" y="13751"/>
                  <a:pt x="14801" y="12828"/>
                </a:cubicBezTo>
                <a:lnTo>
                  <a:pt x="14801" y="7493"/>
                </a:lnTo>
                <a:lnTo>
                  <a:pt x="12964" y="7493"/>
                </a:lnTo>
                <a:lnTo>
                  <a:pt x="16472" y="3985"/>
                </a:lnTo>
                <a:lnTo>
                  <a:pt x="20145" y="7493"/>
                </a:lnTo>
                <a:lnTo>
                  <a:pt x="18308" y="7493"/>
                </a:lnTo>
                <a:lnTo>
                  <a:pt x="18308" y="12828"/>
                </a:lnTo>
                <a:cubicBezTo>
                  <a:pt x="18308" y="15596"/>
                  <a:pt x="15732" y="18155"/>
                  <a:pt x="12964" y="18155"/>
                </a:cubicBezTo>
                <a:lnTo>
                  <a:pt x="11302" y="18155"/>
                </a:lnTo>
                <a:cubicBezTo>
                  <a:pt x="8534" y="18155"/>
                  <a:pt x="5958" y="15596"/>
                  <a:pt x="5958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637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6A3B-DCE8-4A56-A3C3-5C0F9254B92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28760" y="1643040"/>
            <a:ext cx="87152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-term safety of a repository system cannot be reduced to one single numerical measure (dose or r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IAEA TECDOC 76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EA CRP on Safety Indicators (1999 - 2003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olog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TECDOC 137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riter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→TECDOC 1464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 (2000 - 2002) (test case: granite) 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 19965 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EA Safety Standard Series WS-R-4, §2.18, §3.35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 / OECD Post-Closure Safety Case for Geological Repositories (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WP1.1, WP 3.4 (test cases: clay, salt and grani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eck 7"/>
          <p:cNvSpPr/>
          <p:nvPr/>
        </p:nvSpPr>
        <p:spPr>
          <a:xfrm>
            <a:off x="420840" y="1711440"/>
            <a:ext cx="8001000" cy="59220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hteck 10"/>
          <p:cNvSpPr/>
          <p:nvPr/>
        </p:nvSpPr>
        <p:spPr>
          <a:xfrm>
            <a:off x="434880" y="4357800"/>
            <a:ext cx="7994880" cy="6793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feld 11"/>
          <p:cNvSpPr/>
          <p:nvPr/>
        </p:nvSpPr>
        <p:spPr>
          <a:xfrm>
            <a:off x="357120" y="1357200"/>
            <a:ext cx="61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rnational Consensus (e.g. </a:t>
            </a:r>
            <a:r>
              <a:rPr b="0" lang="de-DE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NEA / OECD + IAEA 1991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C:\Dokumente und Einstellungen\bex\Eigene Dateien\Eigene Bilder\flaggen\spanien.gif"/>
          <p:cNvPicPr/>
          <p:nvPr/>
        </p:nvPicPr>
        <p:blipFill>
          <a:blip r:embed="rId3"/>
          <a:stretch/>
        </p:blipFill>
        <p:spPr>
          <a:xfrm>
            <a:off x="5743440" y="6149880"/>
            <a:ext cx="543240" cy="336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C:\Dokumente und Einstellungen\bex\Eigene Dateien\Eigene Bilder\flaggen\deutschland.gif"/>
          <p:cNvPicPr/>
          <p:nvPr/>
        </p:nvPicPr>
        <p:blipFill>
          <a:blip r:embed="rId4"/>
          <a:stretch/>
        </p:blipFill>
        <p:spPr>
          <a:xfrm>
            <a:off x="4492800" y="6146640"/>
            <a:ext cx="549000" cy="33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C:\Dokumente und Einstellungen\bex\Eigene Dateien\Eigene Bilder\flaggen\tschechien.gif"/>
          <p:cNvPicPr/>
          <p:nvPr/>
        </p:nvPicPr>
        <p:blipFill>
          <a:blip r:embed="rId5"/>
          <a:stretch/>
        </p:blipFill>
        <p:spPr>
          <a:xfrm>
            <a:off x="2009880" y="6143760"/>
            <a:ext cx="542880" cy="33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:\Dokumente und Einstellungen\bex\Eigene Dateien\Eigene Bilder\flaggen\belgien.gif"/>
          <p:cNvPicPr/>
          <p:nvPr/>
        </p:nvPicPr>
        <p:blipFill>
          <a:blip r:embed="rId6"/>
          <a:stretch/>
        </p:blipFill>
        <p:spPr>
          <a:xfrm>
            <a:off x="1392120" y="6143760"/>
            <a:ext cx="549360" cy="336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C:\Dokumente und Einstellungen\bex\Eigene Dateien\Eigene Bilder\flaggen\niederlande.gif"/>
          <p:cNvPicPr/>
          <p:nvPr/>
        </p:nvPicPr>
        <p:blipFill>
          <a:blip r:embed="rId7"/>
          <a:stretch/>
        </p:blipFill>
        <p:spPr>
          <a:xfrm>
            <a:off x="5118120" y="6149880"/>
            <a:ext cx="549360" cy="33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C:\Dokumente und Einstellungen\bex\Eigene Dateien\Eigene Bilder\flaggen\grossbritannien.gif"/>
          <p:cNvPicPr/>
          <p:nvPr/>
        </p:nvPicPr>
        <p:blipFill>
          <a:blip r:embed="rId8"/>
          <a:stretch/>
        </p:blipFill>
        <p:spPr>
          <a:xfrm>
            <a:off x="2614680" y="6153120"/>
            <a:ext cx="549360" cy="3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Dokumente und Einstellungen\bex\Eigene Dateien\Eigene Bilder\flaggen\frankreich.gif"/>
          <p:cNvPicPr/>
          <p:nvPr/>
        </p:nvPicPr>
        <p:blipFill>
          <a:blip r:embed="rId9"/>
          <a:stretch/>
        </p:blipFill>
        <p:spPr>
          <a:xfrm>
            <a:off x="3867120" y="6153120"/>
            <a:ext cx="549360" cy="33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kumente und Einstellungen\bex\Eigene Dateien\Eigene Bilder\flaggen\finnland.gif"/>
          <p:cNvPicPr/>
          <p:nvPr/>
        </p:nvPicPr>
        <p:blipFill>
          <a:blip r:embed="rId10"/>
          <a:stretch/>
        </p:blipFill>
        <p:spPr>
          <a:xfrm>
            <a:off x="3249720" y="6153120"/>
            <a:ext cx="549000" cy="331920"/>
          </a:xfrm>
          <a:prstGeom prst="rect">
            <a:avLst/>
          </a:prstGeom>
          <a:ln w="0">
            <a:noFill/>
          </a:ln>
        </p:spPr>
      </p:pic>
      <p:sp>
        <p:nvSpPr>
          <p:cNvPr id="110" name="Nach rechts gekrümmter Pfeil 19"/>
          <p:cNvSpPr/>
          <p:nvPr/>
        </p:nvSpPr>
        <p:spPr>
          <a:xfrm>
            <a:off x="179280" y="2500200"/>
            <a:ext cx="1071720" cy="13575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238680 h 1357560"/>
              <a:gd name="textAreaBottom" fmla="*/ 9849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3" stAng="-5400000" swAng="-5400000"/>
                <a:lnTo>
                  <a:pt x="0" y="11867"/>
                </a:lnTo>
                <a:arcTo wR="21600" hR="7603" stAng="10800000" swAng="-3224202"/>
                <a:lnTo>
                  <a:pt x="16200" y="21359"/>
                </a:lnTo>
                <a:lnTo>
                  <a:pt x="21600" y="17337"/>
                </a:lnTo>
                <a:lnTo>
                  <a:pt x="16200" y="12833"/>
                </a:lnTo>
                <a:lnTo>
                  <a:pt x="16200" y="14964"/>
                </a:lnTo>
                <a:arcTo wR="21600" hR="7603" stAng="7575798" swAng="2871937"/>
                <a:lnTo>
                  <a:pt x="867" y="9735"/>
                </a:lnTo>
                <a:arcTo wR="21600" hR="7603" stAng="-10447735" swAng="5047735"/>
                <a:close/>
              </a:path>
              <a:path fill="darkenLess" w="21600" h="21600">
                <a:moveTo>
                  <a:pt x="21600" y="0"/>
                </a:moveTo>
                <a:arcTo wR="21600" hR="7603" stAng="-5400000" swAng="-5400000"/>
                <a:lnTo>
                  <a:pt x="0" y="7603"/>
                </a:lnTo>
                <a:arcTo wR="21600" hR="7603" stAng="10800000" swAng="-352265"/>
                <a:lnTo>
                  <a:pt x="867" y="9735"/>
                </a:lnTo>
                <a:arcTo wR="21600" hR="7603" stAng="-10447735" swAng="504773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Nach rechts gekrümmter Pfeil 20"/>
          <p:cNvSpPr/>
          <p:nvPr/>
        </p:nvSpPr>
        <p:spPr>
          <a:xfrm>
            <a:off x="196920" y="5143680"/>
            <a:ext cx="1071360" cy="1357200"/>
          </a:xfrm>
          <a:custGeom>
            <a:avLst/>
            <a:gdLst>
              <a:gd name="textAreaLeft" fmla="*/ 143280 w 1071360"/>
              <a:gd name="textAreaRight" fmla="*/ 928080 w 1071360"/>
              <a:gd name="textAreaTop" fmla="*/ 238680 h 1357200"/>
              <a:gd name="textAreaBottom" fmla="*/ 984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3" stAng="-5400000" swAng="-5400000"/>
                <a:lnTo>
                  <a:pt x="0" y="11867"/>
                </a:lnTo>
                <a:arcTo wR="21600" hR="7603" stAng="10800000" swAng="-3224202"/>
                <a:lnTo>
                  <a:pt x="16200" y="21359"/>
                </a:lnTo>
                <a:lnTo>
                  <a:pt x="21600" y="17337"/>
                </a:lnTo>
                <a:lnTo>
                  <a:pt x="16200" y="12833"/>
                </a:lnTo>
                <a:lnTo>
                  <a:pt x="16200" y="14964"/>
                </a:lnTo>
                <a:arcTo wR="21600" hR="7603" stAng="7575798" swAng="2871937"/>
                <a:lnTo>
                  <a:pt x="867" y="9735"/>
                </a:lnTo>
                <a:arcTo wR="21600" hR="7603" stAng="-10447735" swAng="5047735"/>
                <a:close/>
              </a:path>
              <a:path fill="darkenLess" w="21600" h="21600">
                <a:moveTo>
                  <a:pt x="21600" y="0"/>
                </a:moveTo>
                <a:arcTo wR="21600" hR="7603" stAng="-5400000" swAng="-5400000"/>
                <a:lnTo>
                  <a:pt x="0" y="7603"/>
                </a:lnTo>
                <a:arcTo wR="21600" hR="7603" stAng="10800000" swAng="-352265"/>
                <a:lnTo>
                  <a:pt x="867" y="9735"/>
                </a:lnTo>
                <a:arcTo wR="21600" hR="7603" stAng="-10447735" swAng="504773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6379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ty and Performanc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4D9D-3644-4C58-A00D-06BF8BACB16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1399680" y="18097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ECDOC 1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hteck 4"/>
          <p:cNvSpPr/>
          <p:nvPr/>
        </p:nvSpPr>
        <p:spPr>
          <a:xfrm>
            <a:off x="1386000" y="21178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EUR 19965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5"/>
          <p:cNvSpPr/>
          <p:nvPr/>
        </p:nvSpPr>
        <p:spPr>
          <a:xfrm>
            <a:off x="3000240" y="178596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both documents a distinction is made between safety indicators and performance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feld 7"/>
          <p:cNvSpPr/>
          <p:nvPr/>
        </p:nvSpPr>
        <p:spPr>
          <a:xfrm>
            <a:off x="476280" y="3025800"/>
            <a:ext cx="852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MINA WP1.1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llection of views and the understanding of safety indicators and performance indicators of the participating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st countries use SPIN / IAEA definitions as star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ut today there is 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e variety of individual terminology/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8"/>
          <p:cNvSpPr/>
          <p:nvPr/>
        </p:nvSpPr>
        <p:spPr>
          <a:xfrm>
            <a:off x="2643120" y="512604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rmonisation of definitions within WP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hteck 11"/>
          <p:cNvSpPr/>
          <p:nvPr/>
        </p:nvSpPr>
        <p:spPr>
          <a:xfrm>
            <a:off x="1436760" y="5143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-N°: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Nach rechts gekrümmter Pfeil 11"/>
          <p:cNvSpPr/>
          <p:nvPr/>
        </p:nvSpPr>
        <p:spPr>
          <a:xfrm>
            <a:off x="214200" y="2000160"/>
            <a:ext cx="1071720" cy="135756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238680 h 1357560"/>
              <a:gd name="textAreaBottom" fmla="*/ 984960 h 135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3" stAng="-5400000" swAng="-5400000"/>
                <a:lnTo>
                  <a:pt x="0" y="11867"/>
                </a:lnTo>
                <a:arcTo wR="21600" hR="7603" stAng="10800000" swAng="-3224202"/>
                <a:lnTo>
                  <a:pt x="16200" y="21359"/>
                </a:lnTo>
                <a:lnTo>
                  <a:pt x="21600" y="17337"/>
                </a:lnTo>
                <a:lnTo>
                  <a:pt x="16200" y="12833"/>
                </a:lnTo>
                <a:lnTo>
                  <a:pt x="16200" y="14964"/>
                </a:lnTo>
                <a:arcTo wR="21600" hR="7603" stAng="7575798" swAng="2871937"/>
                <a:lnTo>
                  <a:pt x="867" y="9735"/>
                </a:lnTo>
                <a:arcTo wR="21600" hR="7603" stAng="-10447735" swAng="5047735"/>
                <a:close/>
              </a:path>
              <a:path fill="darkenLess" w="21600" h="21600">
                <a:moveTo>
                  <a:pt x="21600" y="0"/>
                </a:moveTo>
                <a:arcTo wR="21600" hR="7603" stAng="-5400000" swAng="-5400000"/>
                <a:lnTo>
                  <a:pt x="0" y="7603"/>
                </a:lnTo>
                <a:arcTo wR="21600" hR="7603" stAng="10800000" swAng="-352265"/>
                <a:lnTo>
                  <a:pt x="867" y="9735"/>
                </a:lnTo>
                <a:arcTo wR="21600" hR="7603" stAng="-10447735" swAng="504773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ch rechts gekrümmter Pfeil 12"/>
          <p:cNvSpPr/>
          <p:nvPr/>
        </p:nvSpPr>
        <p:spPr>
          <a:xfrm>
            <a:off x="257040" y="4172040"/>
            <a:ext cx="1071720" cy="135720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238680 h 1357200"/>
              <a:gd name="textAreaBottom" fmla="*/ 984600 h 13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3" stAng="-5400000" swAng="-5400000"/>
                <a:lnTo>
                  <a:pt x="0" y="11867"/>
                </a:lnTo>
                <a:arcTo wR="21600" hR="7603" stAng="10800000" swAng="-3224202"/>
                <a:lnTo>
                  <a:pt x="16200" y="21359"/>
                </a:lnTo>
                <a:lnTo>
                  <a:pt x="21600" y="17337"/>
                </a:lnTo>
                <a:lnTo>
                  <a:pt x="16200" y="12833"/>
                </a:lnTo>
                <a:lnTo>
                  <a:pt x="16200" y="14964"/>
                </a:lnTo>
                <a:arcTo wR="21600" hR="7603" stAng="7575798" swAng="2871937"/>
                <a:lnTo>
                  <a:pt x="867" y="9735"/>
                </a:lnTo>
                <a:arcTo wR="21600" hR="7603" stAng="-10447735" swAng="5047735"/>
                <a:close/>
              </a:path>
              <a:path fill="darkenLess" w="21600" h="21600">
                <a:moveTo>
                  <a:pt x="21600" y="0"/>
                </a:moveTo>
                <a:arcTo wR="21600" hR="7603" stAng="-5400000" swAng="-5400000"/>
                <a:lnTo>
                  <a:pt x="0" y="7603"/>
                </a:lnTo>
                <a:arcTo wR="21600" hR="7603" stAng="10800000" swAng="-352265"/>
                <a:lnTo>
                  <a:pt x="867" y="9735"/>
                </a:lnTo>
                <a:arcTo wR="21600" hR="7603" stAng="-10447735" swAng="5047735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1D8-3A8C-4D5E-9F15-4B08122C6E5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mary Safety Indicator (PS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Dose Rate [Sv/a] (Risk [1/a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lementary Safety Indicator (CSI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(3 CSI were initially selected , 2 CSI are recommend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nuclide concentration outside the near field [Sv/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nuclide fluxes outside the near field [Sv/a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 (6 CSI were initially selected , 2 CSI are recommend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adiotoxicity concentration in biosphere 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Sv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adiotoxicity flux from the geosp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Sv/a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WP3.4 (one new indicato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ower density in ground 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MeV/(s∙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feld 9"/>
          <p:cNvSpPr/>
          <p:nvPr/>
        </p:nvSpPr>
        <p:spPr>
          <a:xfrm>
            <a:off x="5689440" y="13827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feld 10"/>
          <p:cNvSpPr/>
          <p:nvPr/>
        </p:nvSpPr>
        <p:spPr>
          <a:xfrm>
            <a:off x="5718240" y="227808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tor or Impleme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feil nach links 10"/>
          <p:cNvSpPr/>
          <p:nvPr/>
        </p:nvSpPr>
        <p:spPr>
          <a:xfrm>
            <a:off x="5168880" y="1393920"/>
            <a:ext cx="50004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feil nach links 11"/>
          <p:cNvSpPr/>
          <p:nvPr/>
        </p:nvSpPr>
        <p:spPr>
          <a:xfrm>
            <a:off x="5214960" y="2286000"/>
            <a:ext cx="500040" cy="35712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Nach links gekrümmter Pfeil 13"/>
          <p:cNvSpPr/>
          <p:nvPr/>
        </p:nvSpPr>
        <p:spPr>
          <a:xfrm>
            <a:off x="7143840" y="3286080"/>
            <a:ext cx="1000080" cy="185760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370440 h 1857600"/>
              <a:gd name="textAreaBottom" fmla="*/ 1361880 h 18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3425749"/>
                <a:lnTo>
                  <a:pt x="5400" y="21326"/>
                </a:lnTo>
                <a:lnTo>
                  <a:pt x="0" y="18693"/>
                </a:lnTo>
                <a:lnTo>
                  <a:pt x="5400" y="15511"/>
                </a:lnTo>
                <a:lnTo>
                  <a:pt x="5400" y="16965"/>
                </a:lnTo>
                <a:arcTo wR="21600" hR="8620" stAng="3425749" swAng="-3191420"/>
                <a:lnTo>
                  <a:pt x="21291" y="10073"/>
                </a:lnTo>
                <a:arcTo wR="21600" hR="8620" stAng="-234329" swAng="-5165671"/>
                <a:close/>
              </a:path>
              <a:path fill="darkenLess" w="21600" h="21600">
                <a:moveTo>
                  <a:pt x="0" y="0"/>
                </a:moveTo>
                <a:arcTo wR="21600" hR="8620" stAng="-5400000" swAng="5400000"/>
                <a:lnTo>
                  <a:pt x="21600" y="11527"/>
                </a:lnTo>
                <a:arcTo wR="21600" hR="8620" stAng="0" swAng="-234329"/>
                <a:lnTo>
                  <a:pt x="21291" y="10073"/>
                </a:lnTo>
                <a:arcTo wR="21600" hR="8620" stAng="-234329" swAng="-516567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hteck 29"/>
          <p:cNvGrpSpPr/>
          <p:nvPr/>
        </p:nvGrpSpPr>
        <p:grpSpPr>
          <a:xfrm>
            <a:off x="4627440" y="4675320"/>
            <a:ext cx="2175120" cy="414360"/>
            <a:chOff x="4627440" y="4675320"/>
            <a:chExt cx="2175120" cy="414360"/>
          </a:xfrm>
        </p:grpSpPr>
        <p:pic>
          <p:nvPicPr>
            <p:cNvPr id="133" name="Rechteck 29" descr=""/>
            <p:cNvPicPr/>
            <p:nvPr/>
          </p:nvPicPr>
          <p:blipFill>
            <a:blip r:embed="rId1"/>
            <a:stretch/>
          </p:blipFill>
          <p:spPr>
            <a:xfrm>
              <a:off x="4627440" y="4675320"/>
              <a:ext cx="21751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643280" y="4695840"/>
              <a:ext cx="21434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7808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Indicators in different time fr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DCEB-3FFA-448B-8544-10D2C58A127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eck 12"/>
          <p:cNvSpPr/>
          <p:nvPr/>
        </p:nvSpPr>
        <p:spPr>
          <a:xfrm>
            <a:off x="785880" y="2128680"/>
            <a:ext cx="42148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Do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toxicity concentr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iospher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toxicity flu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ge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ensit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hteck 14"/>
          <p:cNvSpPr/>
          <p:nvPr/>
        </p:nvSpPr>
        <p:spPr>
          <a:xfrm>
            <a:off x="4651200" y="2227320"/>
            <a:ext cx="1071720" cy="374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Rechteck 15"/>
          <p:cNvGrpSpPr/>
          <p:nvPr/>
        </p:nvGrpSpPr>
        <p:grpSpPr>
          <a:xfrm>
            <a:off x="4627440" y="3035160"/>
            <a:ext cx="2175120" cy="414360"/>
            <a:chOff x="4627440" y="3035160"/>
            <a:chExt cx="2175120" cy="414360"/>
          </a:xfrm>
        </p:grpSpPr>
        <p:pic>
          <p:nvPicPr>
            <p:cNvPr id="142" name="Rechteck 15" descr=""/>
            <p:cNvPicPr/>
            <p:nvPr/>
          </p:nvPicPr>
          <p:blipFill>
            <a:blip r:embed="rId2"/>
            <a:stretch/>
          </p:blipFill>
          <p:spPr>
            <a:xfrm>
              <a:off x="4627440" y="3035160"/>
              <a:ext cx="217512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43280" y="3057480"/>
              <a:ext cx="21434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Rechteck 16"/>
          <p:cNvGrpSpPr/>
          <p:nvPr/>
        </p:nvGrpSpPr>
        <p:grpSpPr>
          <a:xfrm>
            <a:off x="4627440" y="3840120"/>
            <a:ext cx="3321000" cy="403200"/>
            <a:chOff x="4627440" y="3840120"/>
            <a:chExt cx="3321000" cy="403200"/>
          </a:xfrm>
        </p:grpSpPr>
        <p:pic>
          <p:nvPicPr>
            <p:cNvPr id="145" name="Rechteck 16" descr=""/>
            <p:cNvPicPr/>
            <p:nvPr/>
          </p:nvPicPr>
          <p:blipFill>
            <a:blip r:embed="rId3"/>
            <a:stretch/>
          </p:blipFill>
          <p:spPr>
            <a:xfrm>
              <a:off x="4627440" y="3840120"/>
              <a:ext cx="33210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43280" y="3857760"/>
              <a:ext cx="32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7" name="Gerade Verbindung mit Pfeil 24"/>
          <p:cNvCxnSpPr/>
          <p:nvPr/>
        </p:nvCxnSpPr>
        <p:spPr>
          <a:xfrm>
            <a:off x="4643280" y="5073120"/>
            <a:ext cx="3787200" cy="2520"/>
          </a:xfrm>
          <a:prstGeom prst="straightConnector1">
            <a:avLst/>
          </a:prstGeom>
          <a:ln w="22320">
            <a:solidFill>
              <a:srgbClr val="034bb5"/>
            </a:solidFill>
            <a:miter/>
            <a:tailEnd len="med" type="arrow" w="med"/>
          </a:ln>
        </p:spPr>
      </p:cxnSp>
      <p:sp>
        <p:nvSpPr>
          <p:cNvPr id="148" name="Gerade Verbindung 26"/>
          <p:cNvSpPr/>
          <p:nvPr/>
        </p:nvSpPr>
        <p:spPr>
          <a:xfrm flipV="1">
            <a:off x="4643280" y="2226960"/>
            <a:ext cx="0" cy="2857320"/>
          </a:xfrm>
          <a:prstGeom prst="line">
            <a:avLst/>
          </a:prstGeom>
          <a:ln w="25560">
            <a:solidFill>
              <a:srgbClr val="034b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feld 27"/>
          <p:cNvSpPr/>
          <p:nvPr/>
        </p:nvSpPr>
        <p:spPr>
          <a:xfrm>
            <a:off x="7000920" y="50547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34bb5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Gerade Verbindung 19"/>
          <p:cNvSpPr/>
          <p:nvPr/>
        </p:nvSpPr>
        <p:spPr>
          <a:xfrm flipV="1">
            <a:off x="5643720" y="2225520"/>
            <a:ext cx="0" cy="2857680"/>
          </a:xfrm>
          <a:prstGeom prst="line">
            <a:avLst/>
          </a:prstGeom>
          <a:ln w="25560">
            <a:solidFill>
              <a:srgbClr val="034bb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Gerade Verbindung 20"/>
          <p:cNvSpPr/>
          <p:nvPr/>
        </p:nvSpPr>
        <p:spPr>
          <a:xfrm flipV="1">
            <a:off x="6732720" y="2215800"/>
            <a:ext cx="0" cy="2857320"/>
          </a:xfrm>
          <a:prstGeom prst="line">
            <a:avLst/>
          </a:prstGeom>
          <a:ln w="25560">
            <a:solidFill>
              <a:srgbClr val="034bb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Gerade Verbindung 21"/>
          <p:cNvSpPr/>
          <p:nvPr/>
        </p:nvSpPr>
        <p:spPr>
          <a:xfrm flipV="1">
            <a:off x="7866000" y="2215800"/>
            <a:ext cx="0" cy="2857320"/>
          </a:xfrm>
          <a:prstGeom prst="line">
            <a:avLst/>
          </a:prstGeom>
          <a:ln w="25560">
            <a:solidFill>
              <a:srgbClr val="034bb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Gerade Verbindung mit Pfeil 22"/>
          <p:cNvCxnSpPr/>
          <p:nvPr/>
        </p:nvCxnSpPr>
        <p:spPr>
          <a:xfrm>
            <a:off x="4635360" y="2219400"/>
            <a:ext cx="3787200" cy="2160"/>
          </a:xfrm>
          <a:prstGeom prst="straightConnector1">
            <a:avLst/>
          </a:prstGeom>
          <a:ln w="22320">
            <a:solidFill>
              <a:srgbClr val="034bb5"/>
            </a:solidFill>
            <a:miter/>
            <a:tailEnd len="med" type="arrow" w="med"/>
          </a:ln>
        </p:spPr>
      </p:cxnSp>
      <p:sp>
        <p:nvSpPr>
          <p:cNvPr id="154" name="Textfeld 23"/>
          <p:cNvSpPr/>
          <p:nvPr/>
        </p:nvSpPr>
        <p:spPr>
          <a:xfrm>
            <a:off x="4821120" y="19400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ar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25"/>
          <p:cNvSpPr/>
          <p:nvPr/>
        </p:nvSpPr>
        <p:spPr>
          <a:xfrm>
            <a:off x="5743440" y="193032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27"/>
          <p:cNvSpPr/>
          <p:nvPr/>
        </p:nvSpPr>
        <p:spPr>
          <a:xfrm>
            <a:off x="7080120" y="192888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28"/>
          <p:cNvSpPr/>
          <p:nvPr/>
        </p:nvSpPr>
        <p:spPr>
          <a:xfrm>
            <a:off x="714240" y="557208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cut-off criteria: SI should be applied to all time frames, but there are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57132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ferenc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728A-F5BD-4FDC-8407-3540EAE5258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2876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Dose Rate [Sv/a] or Risk [1/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ory constraint, legal limit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v/a, risk of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toxicity concentration in biosphere water [Sv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background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toxicity flux from the geosphere [Sv/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background values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density in ground water [MeV/(s∙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background val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500960" y="717480"/>
          <a:ext cx="1214280" cy="485640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 lo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gional) to 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(to lo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62" name="Gerade Verbindung 15"/>
          <p:cNvSpPr/>
          <p:nvPr/>
        </p:nvSpPr>
        <p:spPr>
          <a:xfrm>
            <a:off x="571680" y="2617920"/>
            <a:ext cx="814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Gerade Verbindung 6"/>
          <p:cNvSpPr/>
          <p:nvPr/>
        </p:nvSpPr>
        <p:spPr>
          <a:xfrm>
            <a:off x="571680" y="4672080"/>
            <a:ext cx="81435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eference Values used in WP 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716E-0096-4249-B7E7-077D220026A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14240" y="1535040"/>
          <a:ext cx="7643880" cy="4037040"/>
        </p:xfrm>
        <a:graphic>
          <a:graphicData uri="http://schemas.openxmlformats.org/drawingml/2006/table">
            <a:tbl>
              <a:tblPr/>
              <a:tblGrid>
                <a:gridCol w="2832120"/>
                <a:gridCol w="962280"/>
                <a:gridCol w="1098360"/>
                <a:gridCol w="917640"/>
                <a:gridCol w="915840"/>
                <a:gridCol w="91764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R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K∙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ive dose rate (mSv/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-0.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toxicity concentration in biosphere water (Sv/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 Negrita"/>
                          <a:ea typeface="Times New Roman"/>
                        </a:rPr>
                        <a:t>3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∙10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∙10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∙10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∙10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1" action="ppaction://hlinksldjump"/>
                        </a:rPr>
                        <a:t>2</a:t>
                      </a: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Times New Roman"/>
                          <a:hlinkClick r:id="rId2" action="ppaction://hlinksldjump"/>
                        </a:rPr>
                        <a:t>∙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0" lang="en-GB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toxicity flux from the geosphere (Sv/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er density in biosphere water (MeV/s·m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 Negrita"/>
                          <a:ea typeface="Times New Roman"/>
                        </a:rPr>
                        <a:t>3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13" descr="C:\Dokumente und Einstellungen\bex\Eigene Dateien\Eigene Bilder\flaggen\spanien.gif"/>
          <p:cNvPicPr/>
          <p:nvPr/>
        </p:nvPicPr>
        <p:blipFill>
          <a:blip r:embed="rId3"/>
          <a:stretch/>
        </p:blipFill>
        <p:spPr>
          <a:xfrm>
            <a:off x="3714840" y="1606680"/>
            <a:ext cx="542880" cy="336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Dokumente und Einstellungen\bex\Eigene Dateien\Eigene Bilder\flaggen\deutschland.gif"/>
          <p:cNvPicPr/>
          <p:nvPr/>
        </p:nvPicPr>
        <p:blipFill>
          <a:blip r:embed="rId4"/>
          <a:stretch/>
        </p:blipFill>
        <p:spPr>
          <a:xfrm>
            <a:off x="7586640" y="1617840"/>
            <a:ext cx="549360" cy="336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C:\Dokumente und Einstellungen\bex\Eigene Dateien\Eigene Bilder\flaggen\tschechien.gif"/>
          <p:cNvPicPr/>
          <p:nvPr/>
        </p:nvPicPr>
        <p:blipFill>
          <a:blip r:embed="rId5"/>
          <a:stretch/>
        </p:blipFill>
        <p:spPr>
          <a:xfrm>
            <a:off x="6715080" y="1606680"/>
            <a:ext cx="542880" cy="33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Dokumente und Einstellungen\bex\Eigene Dateien\Eigene Bilder\flaggen\belgien.gif"/>
          <p:cNvPicPr/>
          <p:nvPr/>
        </p:nvPicPr>
        <p:blipFill>
          <a:blip r:embed="rId6"/>
          <a:stretch/>
        </p:blipFill>
        <p:spPr>
          <a:xfrm>
            <a:off x="4822920" y="1606680"/>
            <a:ext cx="549360" cy="336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C:\Dokumente und Einstellungen\bex\Eigene Dateien\Eigene Bilder\flaggen\niederlande.gif"/>
          <p:cNvPicPr/>
          <p:nvPr/>
        </p:nvPicPr>
        <p:blipFill>
          <a:blip r:embed="rId7"/>
          <a:stretch/>
        </p:blipFill>
        <p:spPr>
          <a:xfrm>
            <a:off x="5832360" y="1614600"/>
            <a:ext cx="549360" cy="33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F4A-4C7A-4D76-9CDC-F616FA6261D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 (14 PI were selected and test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lection of a PI will depend mainly on the specific problem investig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eneral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INA WP3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inventories or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integrated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safety fun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transport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icators based on characteristics of the salt host form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.g. “time to plug closure” [salt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05:39:06Z</dcterms:created>
  <dc:creator>wol</dc:creator>
  <dc:description/>
  <dc:language>en-US</dc:language>
  <cp:lastModifiedBy>GRS</cp:lastModifiedBy>
  <dcterms:modified xsi:type="dcterms:W3CDTF">2009-09-28T16:15:20Z</dcterms:modified>
  <cp:revision>560</cp:revision>
  <dc:subject/>
  <dc:title>Folie 1</dc:title>
</cp:coreProperties>
</file>