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0.wmf" ContentType="image/x-wmf"/>
  <Override PartName="/ppt/media/image2.png" ContentType="image/png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png" ContentType="image/pn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038C2-23F4-4FC8-BFE4-61FC2CCA3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3513A-731A-4370-BB06-EF8DDD6217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8A059-D95A-4DDF-8C74-AAA2432E8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21A4F-EB86-41B6-BF4D-27B83FC4B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E71AE-DC77-49FD-8139-E1D04DCD8D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80C74-3DA1-4B96-88BA-C5FDC2773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F0EE3-0C12-4B44-88ED-D995DEE54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ED972-6FE8-44D5-919F-D99CC8508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E9D40-3706-4B58-BC26-C4C5459F9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7CCE3-8CBC-4F3E-804E-4230D0F60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703C2-B542-44FF-8BF0-C05F7D1EC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65120-9369-4340-B19D-DAB02E928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CE5E-FDC7-4A00-8A5A-43FC16F0A400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971640" y="189000"/>
            <a:ext cx="576000" cy="360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95280" y="189000"/>
            <a:ext cx="50472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9360">
            <a:solidFill>
              <a:srgbClr val="eaf0ff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708360" y="2781360"/>
            <a:ext cx="2016000" cy="1260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835280" y="2781360"/>
            <a:ext cx="1765080" cy="1260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50920" y="1486080"/>
            <a:ext cx="633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b4cce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MINA</a:t>
            </a:r>
            <a:endParaRPr b="0" lang="en-US" sz="1800" spc="1" strike="noStrike">
              <a:ln w="28440">
                <a:solidFill>
                  <a:srgbClr val="b4cce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5.pn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50920" y="4389480"/>
            <a:ext cx="785016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ession IV: Safety and performance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se studies for salt, clay and granite as host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.J.Schröder, N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formance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x groups of performance indica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formance indicators based on inventories or concen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ty / Radiotoxicity in compar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ty / Radiotoxicity outside compar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ty  / Radiotoxicity concentration in compartmen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ty  / Radiotoxicity concentration in biosphere water / waste packag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 indicators based on integrated flu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me-integrated activity / radiotoxicity flux from compar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erformance indicators based on flu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tivity / Radiotoxicity flux from compar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formance indicato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 safety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tainment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mitation of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tardation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erformance of the integrated reposi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formance indicato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 transport ti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nsport time through compar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performance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ity of the geological 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me to plug cl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7DC77-C91A-488B-9345-F8BCDA9657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8" descr="C:\Dokumente und Einstellungen\bex\Eigene Dateien\Eigene Bilder\flaggen\belgien.gif"/>
          <p:cNvPicPr/>
          <p:nvPr/>
        </p:nvPicPr>
        <p:blipFill>
          <a:blip r:embed="rId1"/>
          <a:stretch/>
        </p:blipFill>
        <p:spPr>
          <a:xfrm>
            <a:off x="395280" y="5950080"/>
            <a:ext cx="549360" cy="3366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formance indicators –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rcRect l="0" t="4065" r="0" b="2171"/>
          <a:stretch/>
        </p:blipFill>
        <p:spPr>
          <a:xfrm>
            <a:off x="47520" y="1852560"/>
            <a:ext cx="4524480" cy="33051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427640" y="2349360"/>
            <a:ext cx="4600440" cy="2914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11040" y="1253160"/>
            <a:ext cx="61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cators based on inventories or concen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4160" y="595008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 S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CEN - c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81640" y="5950080"/>
            <a:ext cx="21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 GRS - 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9" descr="C:\Dokumente und Einstellungen\bex\Eigene Dateien\Eigene Bilder\flaggen\deutschland.gif"/>
          <p:cNvPicPr/>
          <p:nvPr/>
        </p:nvPicPr>
        <p:blipFill>
          <a:blip r:embed="rId4"/>
          <a:stretch/>
        </p:blipFill>
        <p:spPr>
          <a:xfrm>
            <a:off x="4743360" y="5950080"/>
            <a:ext cx="549360" cy="336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rcRect l="0" t="4092" r="0" b="2150"/>
          <a:stretch/>
        </p:blipFill>
        <p:spPr>
          <a:xfrm>
            <a:off x="0" y="1700280"/>
            <a:ext cx="6657840" cy="48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B26B0-F842-4169-AC05-B4B3772753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formance indicators –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1713" t="8261" r="1363" b="4381"/>
          <a:stretch/>
        </p:blipFill>
        <p:spPr>
          <a:xfrm>
            <a:off x="971640" y="1844640"/>
            <a:ext cx="7151760" cy="4006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0040" y="1253160"/>
            <a:ext cx="359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cators based on flu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4160" y="5950080"/>
            <a:ext cx="26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 ENRESA - c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3" descr="C:\Dokumente und Einstellungen\bex\Eigene Dateien\Eigene Bilder\flaggen\spanien.gif"/>
          <p:cNvPicPr/>
          <p:nvPr/>
        </p:nvPicPr>
        <p:blipFill>
          <a:blip r:embed="rId2"/>
          <a:stretch/>
        </p:blipFill>
        <p:spPr>
          <a:xfrm>
            <a:off x="395280" y="5950080"/>
            <a:ext cx="542880" cy="33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134AF-6E61-42F6-AB1F-A4B97C41BE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rcRect l="0" t="7635" r="0" b="4819"/>
          <a:stretch/>
        </p:blipFill>
        <p:spPr>
          <a:xfrm>
            <a:off x="826920" y="1862280"/>
            <a:ext cx="7425000" cy="40431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rcRect l="0" t="7635" r="0" b="4819"/>
          <a:stretch/>
        </p:blipFill>
        <p:spPr>
          <a:xfrm>
            <a:off x="826920" y="1862280"/>
            <a:ext cx="7425000" cy="40431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formance indicators –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7880" y="1267560"/>
            <a:ext cx="479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cators based on integrated flu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74160" y="5950080"/>
            <a:ext cx="26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 ENRESA - c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C:\Dokumente und Einstellungen\bex\Eigene Dateien\Eigene Bilder\flaggen\spanien.gif"/>
          <p:cNvPicPr/>
          <p:nvPr/>
        </p:nvPicPr>
        <p:blipFill>
          <a:blip r:embed="rId3"/>
          <a:stretch/>
        </p:blipFill>
        <p:spPr>
          <a:xfrm>
            <a:off x="395280" y="5950080"/>
            <a:ext cx="542880" cy="33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B8366-5001-43E2-8ACE-BF2ED27DFB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formance indicators –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4506" r="0" b="0"/>
          <a:stretch/>
        </p:blipFill>
        <p:spPr>
          <a:xfrm>
            <a:off x="892080" y="1679400"/>
            <a:ext cx="7425000" cy="44136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17160" y="1267560"/>
            <a:ext cx="46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cators based on transport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4160" y="5950080"/>
            <a:ext cx="26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 ENRESA - c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3" descr="C:\Dokumente und Einstellungen\bex\Eigene Dateien\Eigene Bilder\flaggen\spanien.gif"/>
          <p:cNvPicPr/>
          <p:nvPr/>
        </p:nvPicPr>
        <p:blipFill>
          <a:blip r:embed="rId2"/>
          <a:stretch/>
        </p:blipFill>
        <p:spPr>
          <a:xfrm>
            <a:off x="395280" y="5950080"/>
            <a:ext cx="542880" cy="33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2FFAC-604A-417F-A889-169D71AB04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formance indicators –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8600" y="1267560"/>
            <a:ext cx="43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 indicators – time to 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6680" y="595008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 NRG - 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C:\Dokumente und Einstellungen\bex\Eigene Dateien\Eigene Bilder\flaggen\niederlande.gif"/>
          <p:cNvPicPr/>
          <p:nvPr/>
        </p:nvPicPr>
        <p:blipFill>
          <a:blip r:embed="rId1"/>
          <a:stretch/>
        </p:blipFill>
        <p:spPr>
          <a:xfrm>
            <a:off x="395280" y="5950080"/>
            <a:ext cx="549360" cy="33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1654200" y="1700280"/>
          <a:ext cx="5797440" cy="3706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4200" y="1700280"/>
                    <a:ext cx="579744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66CD5-645C-4903-9BBD-7AAA8BBD6A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formance indicators –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0680" y="1267560"/>
            <a:ext cx="74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 indicators – “dilatant stress state” and “fluid pressure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73440" y="595008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 BGR - 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4073400" cy="3327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643280" y="1924200"/>
            <a:ext cx="4032360" cy="330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2" name="Picture 9" descr="C:\Dokumente und Einstellungen\bex\Eigene Dateien\Eigene Bilder\flaggen\deutschland.gif"/>
          <p:cNvPicPr/>
          <p:nvPr/>
        </p:nvPicPr>
        <p:blipFill>
          <a:blip r:embed="rId3"/>
          <a:stretch/>
        </p:blipFill>
        <p:spPr>
          <a:xfrm>
            <a:off x="395280" y="5950080"/>
            <a:ext cx="549360" cy="33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775A6-4439-4BA2-8B9A-A4D40714B0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fety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four safety indicators give useful results with each indicator giving a different safety statement with its specific 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our safety indicators together provide a much more complete picture on the repository safety than the effective dose rate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ucial for a safety indicator is the determination of an appropriate referenc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BF69C-1B2A-48D5-9029-EFCBBBFB5C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formance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ransforming massive amounts of output data into a limited number of convincing indicators, performance indicators are very useful for analyzing, optimizing, and communicating repository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single nuclide based indicators and indicators based on the sum of all radionuclides can be use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-integrated flux indicators are very illustrative but must be used with care since some aspects are not easy to understand intui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lot of travel times of single radionuclides against their half lifes can be useful to show the capability of a barrier to delay and limit the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esentation of a combination of several performance indicators can be useful to avoid misinterpre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ontrast to safety indicators, performance indicators are related to specific repository systems and cannot be transferred to other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6FD4F-1040-415C-BC37-9590C6C4D5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P3.4: Repository systems analy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x repository systems in three different types of host roc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08000" y="4183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84360" y="2133720"/>
            <a:ext cx="7775280" cy="2303280"/>
            <a:chOff x="684360" y="2133720"/>
            <a:chExt cx="7775280" cy="2303280"/>
          </a:xfrm>
        </p:grpSpPr>
        <p:sp>
          <p:nvSpPr>
            <p:cNvPr id="90" name=""/>
            <p:cNvSpPr/>
            <p:nvPr/>
          </p:nvSpPr>
          <p:spPr>
            <a:xfrm>
              <a:off x="7380360" y="3878280"/>
              <a:ext cx="10792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normal ev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84720" y="3878280"/>
              <a:ext cx="12956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band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cen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878280"/>
              <a:ext cx="10810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normal ev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24360" y="3878280"/>
              <a:ext cx="10792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rm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v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16360" y="3878280"/>
              <a:ext cx="100800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rine intru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35280" y="3878280"/>
              <a:ext cx="10810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r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ru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4360" y="4005360"/>
              <a:ext cx="115092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cenari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80360" y="3149640"/>
              <a:ext cx="107928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spent fu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84720" y="3149640"/>
              <a:ext cx="129564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itrifi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as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03640" y="3149640"/>
              <a:ext cx="108108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spent fu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24360" y="3149640"/>
              <a:ext cx="107928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pent fu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16360" y="3149640"/>
              <a:ext cx="100800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itrified was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35280" y="3149640"/>
              <a:ext cx="1081080" cy="7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spent fuel, vitrified waste, IL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4360" y="328464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vent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80360" y="2800440"/>
              <a:ext cx="107928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ran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84720" y="2800440"/>
              <a:ext cx="129564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03640" y="2800440"/>
              <a:ext cx="108108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24360" y="2800440"/>
              <a:ext cx="107928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16360" y="2800440"/>
              <a:ext cx="100800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al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35280" y="2800440"/>
              <a:ext cx="108108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al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4360" y="2800440"/>
              <a:ext cx="1150920" cy="3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st ro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80360" y="2133720"/>
              <a:ext cx="107928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84720" y="2133720"/>
              <a:ext cx="12956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R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03640" y="2133720"/>
              <a:ext cx="108108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RE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24360" y="2133720"/>
              <a:ext cx="107928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CK∙C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16360" y="2133720"/>
              <a:ext cx="100800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R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35280" y="2133720"/>
              <a:ext cx="108108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4360" y="2349360"/>
              <a:ext cx="115092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ribu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4360" y="2133720"/>
              <a:ext cx="77752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4360" y="2133720"/>
              <a:ext cx="0" cy="2303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459640" y="2133720"/>
              <a:ext cx="0" cy="2303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4360" y="2800440"/>
              <a:ext cx="77752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35280" y="2133720"/>
              <a:ext cx="0" cy="2303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16360" y="2133720"/>
              <a:ext cx="0" cy="2303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24360" y="2133720"/>
              <a:ext cx="0" cy="2303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03640" y="2133720"/>
              <a:ext cx="0" cy="2303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84720" y="2133720"/>
              <a:ext cx="0" cy="2303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0360" y="2133720"/>
              <a:ext cx="0" cy="2303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4360" y="3149640"/>
              <a:ext cx="77752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4360" y="3878280"/>
              <a:ext cx="77752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4360" y="4437000"/>
              <a:ext cx="77752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13" descr="C:\Dokumente und Einstellungen\bex\Eigene Dateien\Eigene Bilder\flaggen\spanien.gif"/>
            <p:cNvPicPr/>
            <p:nvPr/>
          </p:nvPicPr>
          <p:blipFill>
            <a:blip r:embed="rId1"/>
            <a:stretch/>
          </p:blipFill>
          <p:spPr>
            <a:xfrm>
              <a:off x="5253120" y="2421000"/>
              <a:ext cx="5428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8" descr="C:\Dokumente und Einstellungen\bex\Eigene Dateien\Eigene Bilder\flaggen\belgien.gif"/>
            <p:cNvPicPr/>
            <p:nvPr/>
          </p:nvPicPr>
          <p:blipFill>
            <a:blip r:embed="rId2"/>
            <a:stretch/>
          </p:blipFill>
          <p:spPr>
            <a:xfrm>
              <a:off x="4211640" y="2421000"/>
              <a:ext cx="54936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2" descr="C:\Dokumente und Einstellungen\bex\Eigene Dateien\Eigene Bilder\flaggen\niederlande.gif"/>
            <p:cNvPicPr/>
            <p:nvPr/>
          </p:nvPicPr>
          <p:blipFill>
            <a:blip r:embed="rId3"/>
            <a:stretch/>
          </p:blipFill>
          <p:spPr>
            <a:xfrm>
              <a:off x="6470640" y="2421000"/>
              <a:ext cx="54936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2" descr="C:\Dokumente und Einstellungen\bex\Eigene Dateien\Eigene Bilder\flaggen\niederlande.gif"/>
            <p:cNvPicPr/>
            <p:nvPr/>
          </p:nvPicPr>
          <p:blipFill>
            <a:blip r:embed="rId4"/>
            <a:stretch/>
          </p:blipFill>
          <p:spPr>
            <a:xfrm>
              <a:off x="3159000" y="2421000"/>
              <a:ext cx="54936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14" descr="C:\Dokumente und Einstellungen\bex\Eigene Dateien\Eigene Bilder\flaggen\tschechien.gif"/>
            <p:cNvPicPr/>
            <p:nvPr/>
          </p:nvPicPr>
          <p:blipFill>
            <a:blip r:embed="rId5"/>
            <a:stretch/>
          </p:blipFill>
          <p:spPr>
            <a:xfrm>
              <a:off x="7629480" y="2421000"/>
              <a:ext cx="54288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9" descr="C:\Dokumente und Einstellungen\bex\Eigene Dateien\Eigene Bilder\flaggen\deutschland.gif"/>
            <p:cNvPicPr/>
            <p:nvPr/>
          </p:nvPicPr>
          <p:blipFill>
            <a:blip r:embed="rId6"/>
            <a:stretch/>
          </p:blipFill>
          <p:spPr>
            <a:xfrm>
              <a:off x="2124000" y="2421000"/>
              <a:ext cx="549360" cy="33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E21D0-EFEE-4B69-A25C-BB42348CA6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formance indicators –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3560" y="1267560"/>
            <a:ext cx="611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cators based on inventory vs. transport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73800" y="645336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 NRG - c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2" descr="C:\Dokumente und Einstellungen\bex\Eigene Dateien\Eigene Bilder\flaggen\niederlande.gif"/>
          <p:cNvPicPr/>
          <p:nvPr/>
        </p:nvPicPr>
        <p:blipFill>
          <a:blip r:embed="rId1"/>
          <a:stretch/>
        </p:blipFill>
        <p:spPr>
          <a:xfrm>
            <a:off x="395280" y="6453360"/>
            <a:ext cx="549360" cy="33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930240" y="1628640"/>
          <a:ext cx="7283520" cy="4815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0240" y="1628640"/>
                    <a:ext cx="7283520" cy="48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E8C50-BF2F-4FF1-AFA6-EB44473FA5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indicators –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7160" y="1253160"/>
            <a:ext cx="53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cators based on time-integrated flu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64080" y="595008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s NRG - c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6481800" cy="4279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C:\Dokumente und Einstellungen\bex\Eigene Dateien\Eigene Bilder\flaggen\niederlande.gif"/>
          <p:cNvPicPr/>
          <p:nvPr/>
        </p:nvPicPr>
        <p:blipFill>
          <a:blip r:embed="rId2"/>
          <a:stretch/>
        </p:blipFill>
        <p:spPr>
          <a:xfrm>
            <a:off x="395280" y="5950080"/>
            <a:ext cx="549360" cy="33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32F28-2B3A-4C76-B357-633C9AC51C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formance indicators –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1040" y="1253160"/>
            <a:ext cx="61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cators based on inventories or concen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20840" y="5084640"/>
            <a:ext cx="20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 S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C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6265800" cy="48913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C:\Dokumente und Einstellungen\bex\Eigene Dateien\Eigene Bilder\flaggen\belgien.gif"/>
          <p:cNvPicPr/>
          <p:nvPr/>
        </p:nvPicPr>
        <p:blipFill>
          <a:blip r:embed="rId2"/>
          <a:stretch/>
        </p:blipFill>
        <p:spPr>
          <a:xfrm>
            <a:off x="6156360" y="5084640"/>
            <a:ext cx="549360" cy="33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C5C9E-37FB-4B77-BED1-81B260FEA9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formance indicators –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" y="1253160"/>
            <a:ext cx="359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cators based on flu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-36360" y="1557360"/>
            <a:ext cx="6624360" cy="51721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720840" y="5084640"/>
            <a:ext cx="20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 S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C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C:\Dokumente und Einstellungen\bex\Eigene Dateien\Eigene Bilder\flaggen\belgien.gif"/>
          <p:cNvPicPr/>
          <p:nvPr/>
        </p:nvPicPr>
        <p:blipFill>
          <a:blip r:embed="rId2"/>
          <a:stretch/>
        </p:blipFill>
        <p:spPr>
          <a:xfrm>
            <a:off x="6156360" y="5084640"/>
            <a:ext cx="549360" cy="33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7DE34-404F-4B70-A569-2B547FA641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fety indicators analy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 safety indica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se rate in the biosphere [Sv/a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otoxicity concentration in biosphere water [Sv/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otoxicity flux from the geosphere [Sv/a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wer density in ground water [MeV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∙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55694-FEF1-431F-91F7-8AA3C679EC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ference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34920" y="1484280"/>
          <a:ext cx="7272360" cy="3668760"/>
        </p:xfrm>
        <a:graphic>
          <a:graphicData uri="http://schemas.openxmlformats.org/drawingml/2006/table">
            <a:tbl>
              <a:tblPr/>
              <a:tblGrid>
                <a:gridCol w="2159280"/>
                <a:gridCol w="1008000"/>
                <a:gridCol w="1081080"/>
                <a:gridCol w="1008000"/>
                <a:gridCol w="1008000"/>
                <a:gridCol w="1008000"/>
              </a:tblGrid>
              <a:tr h="73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R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K∙C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ective dose rate [mSv/a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-0.3 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 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 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5 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otoxicity concentration in biosphere water [µSv/m</a:t>
                      </a: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Arial Negrita"/>
                          <a:ea typeface="Times New Roman"/>
                        </a:rPr>
                        <a:t>3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otoxicity flux from the geosphe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Sv/a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 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 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er density in biosphere water [MeV/s·m</a:t>
                      </a: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Arial Negrita"/>
                          <a:ea typeface="Times New Roman"/>
                        </a:rPr>
                        <a:t>3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971640" y="5228640"/>
            <a:ext cx="3600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a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Legal lim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b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Reference values derived in S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c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Reference values derived in PA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d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Reference values derived in Wolf et al.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e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IAEA recommendations (IAEA 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3" descr="C:\Dokumente und Einstellungen\bex\Eigene Dateien\Eigene Bilder\flaggen\spanien.gif"/>
          <p:cNvPicPr/>
          <p:nvPr/>
        </p:nvPicPr>
        <p:blipFill>
          <a:blip r:embed="rId1"/>
          <a:stretch/>
        </p:blipFill>
        <p:spPr>
          <a:xfrm>
            <a:off x="3308400" y="1773360"/>
            <a:ext cx="542880" cy="336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C:\Dokumente und Einstellungen\bex\Eigene Dateien\Eigene Bilder\flaggen\deutschland.gif"/>
          <p:cNvPicPr/>
          <p:nvPr/>
        </p:nvPicPr>
        <p:blipFill>
          <a:blip r:embed="rId2"/>
          <a:stretch/>
        </p:blipFill>
        <p:spPr>
          <a:xfrm>
            <a:off x="7380360" y="1773360"/>
            <a:ext cx="549360" cy="336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C:\Dokumente und Einstellungen\bex\Eigene Dateien\Eigene Bilder\flaggen\niederlande.gif"/>
          <p:cNvPicPr/>
          <p:nvPr/>
        </p:nvPicPr>
        <p:blipFill>
          <a:blip r:embed="rId3"/>
          <a:stretch/>
        </p:blipFill>
        <p:spPr>
          <a:xfrm>
            <a:off x="5391000" y="1773360"/>
            <a:ext cx="549360" cy="331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:\Dokumente und Einstellungen\bex\Eigene Dateien\Eigene Bilder\flaggen\belgien.gif"/>
          <p:cNvPicPr/>
          <p:nvPr/>
        </p:nvPicPr>
        <p:blipFill>
          <a:blip r:embed="rId4"/>
          <a:stretch/>
        </p:blipFill>
        <p:spPr>
          <a:xfrm>
            <a:off x="4356000" y="1773360"/>
            <a:ext cx="549360" cy="336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C:\Dokumente und Einstellungen\bex\Eigene Dateien\Eigene Bilder\flaggen\tschechien.gif"/>
          <p:cNvPicPr/>
          <p:nvPr/>
        </p:nvPicPr>
        <p:blipFill>
          <a:blip r:embed="rId5"/>
          <a:stretch/>
        </p:blipFill>
        <p:spPr>
          <a:xfrm>
            <a:off x="6372360" y="1773360"/>
            <a:ext cx="542880" cy="33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FBC39-1A63-4E1E-8618-F82697F6B7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alized safety indicators - gran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2317" r="0" b="0"/>
          <a:stretch/>
        </p:blipFill>
        <p:spPr>
          <a:xfrm>
            <a:off x="971640" y="1268280"/>
            <a:ext cx="7272360" cy="4562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973080" y="595008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RI – gra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4" descr="C:\Dokumente und Einstellungen\bex\Eigene Dateien\Eigene Bilder\flaggen\tschechien.gif"/>
          <p:cNvPicPr/>
          <p:nvPr/>
        </p:nvPicPr>
        <p:blipFill>
          <a:blip r:embed="rId2"/>
          <a:stretch/>
        </p:blipFill>
        <p:spPr>
          <a:xfrm>
            <a:off x="395280" y="5950080"/>
            <a:ext cx="542880" cy="33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345A1-B614-429F-B627-B8A4291AAB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alized safety indicators -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87280" y="1290600"/>
            <a:ext cx="6751800" cy="4275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73440" y="59500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 G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C:\Dokumente und Einstellungen\bex\Eigene Dateien\Eigene Bilder\flaggen\deutschland.gif"/>
          <p:cNvPicPr/>
          <p:nvPr/>
        </p:nvPicPr>
        <p:blipFill>
          <a:blip r:embed="rId2"/>
          <a:stretch/>
        </p:blipFill>
        <p:spPr>
          <a:xfrm>
            <a:off x="395280" y="5950080"/>
            <a:ext cx="549360" cy="33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1E35F-3B96-48DD-84CD-946C08EA0E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alized safety indicators -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28920" y="1508040"/>
            <a:ext cx="6067440" cy="3841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73800" y="595008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 N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" descr="C:\Dokumente und Einstellungen\bex\Eigene Dateien\Eigene Bilder\flaggen\niederlande.gif"/>
          <p:cNvPicPr/>
          <p:nvPr/>
        </p:nvPicPr>
        <p:blipFill>
          <a:blip r:embed="rId2"/>
          <a:stretch/>
        </p:blipFill>
        <p:spPr>
          <a:xfrm>
            <a:off x="395280" y="5950080"/>
            <a:ext cx="549360" cy="33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3D541-9E45-47F5-A71D-17F8234883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3" descr="C:\Dokumente und Einstellungen\bex\Eigene Dateien\Eigene Bilder\flaggen\spanien.gif"/>
          <p:cNvPicPr/>
          <p:nvPr/>
        </p:nvPicPr>
        <p:blipFill>
          <a:blip r:embed="rId1"/>
          <a:stretch/>
        </p:blipFill>
        <p:spPr>
          <a:xfrm>
            <a:off x="4029120" y="5950080"/>
            <a:ext cx="542880" cy="3366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alized safety indicators - c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rcRect l="0" t="7710" r="0" b="3192"/>
          <a:stretch/>
        </p:blipFill>
        <p:spPr>
          <a:xfrm>
            <a:off x="3390840" y="1833480"/>
            <a:ext cx="5753160" cy="31910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3552840" cy="35240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160" y="5950080"/>
            <a:ext cx="20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 S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C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4520" y="59500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 EN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C:\Dokumente und Einstellungen\bex\Eigene Dateien\Eigene Bilder\flaggen\belgien.gif"/>
          <p:cNvPicPr/>
          <p:nvPr/>
        </p:nvPicPr>
        <p:blipFill>
          <a:blip r:embed="rId4"/>
          <a:stretch/>
        </p:blipFill>
        <p:spPr>
          <a:xfrm>
            <a:off x="395280" y="5950080"/>
            <a:ext cx="549360" cy="336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0" y="1341360"/>
            <a:ext cx="5049720" cy="501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9E35A-3467-4CD9-84E0-AE6E471CBC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alized safety indicators - c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3552840" cy="35240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974160" y="5950080"/>
            <a:ext cx="20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 S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C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4160" y="595008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 N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780000" y="1695600"/>
            <a:ext cx="5267160" cy="3466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Dokumente und Einstellungen\bex\Eigene Dateien\Eigene Bilder\flaggen\belgien.gif"/>
          <p:cNvPicPr/>
          <p:nvPr/>
        </p:nvPicPr>
        <p:blipFill>
          <a:blip r:embed="rId3"/>
          <a:stretch/>
        </p:blipFill>
        <p:spPr>
          <a:xfrm>
            <a:off x="395280" y="5950080"/>
            <a:ext cx="549360" cy="336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C:\Dokumente und Einstellungen\bex\Eigene Dateien\Eigene Bilder\flaggen\niederlande.gif"/>
          <p:cNvPicPr/>
          <p:nvPr/>
        </p:nvPicPr>
        <p:blipFill>
          <a:blip r:embed="rId4"/>
          <a:stretch/>
        </p:blipFill>
        <p:spPr>
          <a:xfrm>
            <a:off x="4022640" y="5950080"/>
            <a:ext cx="549360" cy="33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B7699-8F30-4CEC-84D1-4784A30DE1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1:56:47Z</dcterms:created>
  <dc:creator>Jörg Mönig</dc:creator>
  <dc:description/>
  <dc:language>en-US</dc:language>
  <cp:lastModifiedBy>SCHRODER</cp:lastModifiedBy>
  <dcterms:modified xsi:type="dcterms:W3CDTF">2009-09-25T14:33:59Z</dcterms:modified>
  <cp:revision>24</cp:revision>
  <dc:subject/>
  <dc:title>Folie 1</dc:title>
</cp:coreProperties>
</file>