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5AA93-86D9-40FA-9F1D-27F315A9F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51DFB-D7A2-4B1E-9B1A-6CE8C89D8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7F5DE-6F4F-48C6-9D1D-3E056D206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02D4A-7BA2-436C-A71D-CBF3857C1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765000"/>
            <a:ext cx="821844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37E3C-DFC6-452F-AF9B-24C235B24A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A74E-8ED0-4443-8B3B-26D95B365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75703-9B4F-495F-945A-F8FA667BE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DDB85-CA34-4892-B6E8-FD18ADDB4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765000"/>
            <a:ext cx="821844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96693-52EE-4569-A8E1-C4BBDEB5A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62F63-F4FE-4632-A110-5F870EA741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8A6CD-6C1E-4ED1-BB4E-B75867E85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645A9-691C-43B3-A564-672E21785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0F16-4279-4119-BCED-D7EF053905D2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971640" y="189000"/>
            <a:ext cx="576000" cy="360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95280" y="189000"/>
            <a:ext cx="50472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9360">
            <a:solidFill>
              <a:srgbClr val="eaf0ff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708360" y="2781360"/>
            <a:ext cx="2016000" cy="126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835280" y="2781360"/>
            <a:ext cx="1765080" cy="126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50920" y="1486080"/>
            <a:ext cx="633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b4cce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MINA</a:t>
            </a:r>
            <a:endParaRPr b="0" lang="en-US" sz="2400" spc="1" strike="noStrike">
              <a:ln w="28440">
                <a:solidFill>
                  <a:srgbClr val="b4cce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84160" y="423720"/>
            <a:ext cx="52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333399"/>
                </a:solidFill>
                <a:latin typeface="Arial"/>
              </a:rPr>
              <a:t>PAMINA Final Workshop, September 28-30, 2009</a:t>
            </a:r>
            <a:br>
              <a:rPr sz="1800"/>
            </a:br>
            <a:r>
              <a:rPr b="0" lang="en-CA" sz="1800" spc="-1" strike="noStrike">
                <a:solidFill>
                  <a:srgbClr val="333399"/>
                </a:solidFill>
                <a:latin typeface="Arial"/>
              </a:rPr>
              <a:t>Hohenkammer, 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50920" y="438948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Safet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 Study on P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79920" y="5727600"/>
            <a:ext cx="513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rhard Mayer, AF-Colenco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F Reference Case (Determinis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062000" y="1600200"/>
            <a:ext cx="7020000" cy="4525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116000" y="3933720"/>
            <a:ext cx="21600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F, 1000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062000" y="1600200"/>
            <a:ext cx="7020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F, HLW, ILW: CC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2000" y="1600200"/>
            <a:ext cx="7018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of parameters with max. total d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442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rcy velocity in host r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release fraction of Iod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rption coefficient of Iodine in host r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usion coefficient in host r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path length in host r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2773440" cy="4197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9640" y="5445000"/>
            <a:ext cx="712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6 parameters have been di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ut 5 are sen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4292640"/>
            <a:ext cx="72072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100, 1000, 10000, …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samples are requir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ach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p sampling whe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s change &lt; X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s used by @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cen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-5%, 5% -10%, …,95%-100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deviation of 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1680" y="3357720"/>
            <a:ext cx="1793880" cy="384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e stat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51680" y="2638440"/>
            <a:ext cx="1793880" cy="384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51400" y="5305320"/>
            <a:ext cx="1594080" cy="287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Samp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99280" y="1916280"/>
            <a:ext cx="1498680" cy="3873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853240" y="4103640"/>
            <a:ext cx="2390760" cy="768240"/>
            <a:chOff x="5853240" y="4103640"/>
            <a:chExt cx="2390760" cy="768240"/>
          </a:xfrm>
        </p:grpSpPr>
        <p:sp>
          <p:nvSpPr>
            <p:cNvPr id="167" name=""/>
            <p:cNvSpPr/>
            <p:nvPr/>
          </p:nvSpPr>
          <p:spPr>
            <a:xfrm>
              <a:off x="5853240" y="4103640"/>
              <a:ext cx="2390760" cy="7682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51680" y="4247640"/>
              <a:ext cx="1793160" cy="52848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tistics chang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lt; X%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7193880" y="48736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11680" y="40813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27280" y="3360600"/>
            <a:ext cx="502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5" idx="2"/>
            <a:endCxn id="163" idx="0"/>
          </p:cNvCxnSpPr>
          <p:nvPr/>
        </p:nvCxnSpPr>
        <p:spPr>
          <a:xfrm>
            <a:off x="7048080" y="23036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3" idx="2"/>
            <a:endCxn id="162" idx="0"/>
          </p:cNvCxnSpPr>
          <p:nvPr/>
        </p:nvCxnSpPr>
        <p:spPr>
          <a:xfrm>
            <a:off x="7048080" y="3022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2" idx="2"/>
            <a:endCxn id="167" idx="0"/>
          </p:cNvCxnSpPr>
          <p:nvPr/>
        </p:nvCxnSpPr>
        <p:spPr>
          <a:xfrm>
            <a:off x="7048080" y="374148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7" idx="2"/>
            <a:endCxn id="164" idx="0"/>
          </p:cNvCxnSpPr>
          <p:nvPr/>
        </p:nvCxnSpPr>
        <p:spPr>
          <a:xfrm>
            <a:off x="7048080" y="487188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7" idx="1"/>
            <a:endCxn id="171" idx="2"/>
          </p:cNvCxnSpPr>
          <p:nvPr/>
        </p:nvCxnSpPr>
        <p:spPr>
          <a:xfrm rot="10800000">
            <a:off x="5577840" y="3674520"/>
            <a:ext cx="275400" cy="813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1" idx="0"/>
            <a:endCxn id="163" idx="1"/>
          </p:cNvCxnSpPr>
          <p:nvPr/>
        </p:nvCxnSpPr>
        <p:spPr>
          <a:xfrm flipH="1" flipV="1" rot="5400000">
            <a:off x="5599800" y="2808720"/>
            <a:ext cx="530640" cy="57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48536" t="6864" r="0" b="52615"/>
          <a:stretch/>
        </p:blipFill>
        <p:spPr>
          <a:xfrm>
            <a:off x="539640" y="1484280"/>
            <a:ext cx="7993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amples are requir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5800" y="1981080"/>
          <a:ext cx="7772400" cy="4124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gence criter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Maximum Do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Sv/a]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5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4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8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8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RN release affected by ramp / sh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3628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 contribution from pathway ramp / shaft is 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13800" y="501336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(Max. Dose) [mSv/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20914" t="61615" r="43417" b="5567"/>
          <a:stretch/>
        </p:blipFill>
        <p:spPr>
          <a:xfrm>
            <a:off x="2484360" y="1413000"/>
            <a:ext cx="5113440" cy="3671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221440" y="23493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r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357336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mp / S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2188080" y="2791080"/>
            <a:ext cx="814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does it t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x Near field -&gt; 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x Geosphere -&gt; 3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x Biosphere &lt;&lt; 1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7-8 minutes / sa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luster with 10 Quad Core C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3 hours for 1000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stic Safety Analysis gives valuable insight in system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Dose of the investigated repository system affected by a few parameters only (consistent with experience from deterministic calcul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time for a probabilistic performance analysis is f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of Toolbox for RN release calculations required to cope with all identified F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RISK can be used for Monte Carlo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ctionality provided by @RISK for stochastic analysis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for deterministic RN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stic tool: @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to High Level Wast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Conceptu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RN release affected by ramp / sh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4240" y="5178600"/>
            <a:ext cx="50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ort NAB 07-09 (in German) available at NAG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4920" y="620280"/>
            <a:ext cx="66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box for deterministic RN release 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 of dissolved RN from near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N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of dissolved RN through ge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phere compartmen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11280" y="1989000"/>
            <a:ext cx="1976400" cy="3744720"/>
            <a:chOff x="611280" y="1989000"/>
            <a:chExt cx="1976400" cy="3744720"/>
          </a:xfrm>
        </p:grpSpPr>
        <p:sp>
          <p:nvSpPr>
            <p:cNvPr id="94" name=""/>
            <p:cNvSpPr/>
            <p:nvPr/>
          </p:nvSpPr>
          <p:spPr>
            <a:xfrm>
              <a:off x="827280" y="2674800"/>
              <a:ext cx="1542960" cy="609480"/>
            </a:xfrm>
            <a:prstGeom prst="flowChart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ar 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lc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0440" y="1989000"/>
              <a:ext cx="1728720" cy="50328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N Inven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7280" y="3571560"/>
              <a:ext cx="1542960" cy="609840"/>
            </a:xfrm>
            <a:prstGeom prst="flowChart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eosp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lc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7280" y="4403520"/>
              <a:ext cx="1542960" cy="60948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iosp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lc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1280" y="5229000"/>
              <a:ext cx="1976400" cy="5047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o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9" name=""/>
            <p:cNvCxnSpPr>
              <a:stCxn id="95" idx="2"/>
              <a:endCxn id="94" idx="0"/>
            </p:cNvCxnSpPr>
            <p:nvPr/>
          </p:nvCxnSpPr>
          <p:spPr>
            <a:xfrm>
              <a:off x="1595160" y="2491920"/>
              <a:ext cx="3960" cy="183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>
              <a:stCxn id="94" idx="2"/>
              <a:endCxn id="96" idx="0"/>
            </p:cNvCxnSpPr>
            <p:nvPr/>
          </p:nvCxnSpPr>
          <p:spPr>
            <a:xfrm>
              <a:off x="1598400" y="3284280"/>
              <a:ext cx="1080" cy="288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>
              <a:stCxn id="96" idx="2"/>
              <a:endCxn id="97" idx="0"/>
            </p:cNvCxnSpPr>
            <p:nvPr/>
          </p:nvCxnSpPr>
          <p:spPr>
            <a:xfrm>
              <a:off x="1598400" y="4181040"/>
              <a:ext cx="108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>
              <a:stCxn id="97" idx="2"/>
              <a:endCxn id="98" idx="0"/>
            </p:cNvCxnSpPr>
            <p:nvPr/>
          </p:nvCxnSpPr>
          <p:spPr>
            <a:xfrm>
              <a:off x="1598400" y="5013000"/>
              <a:ext cx="252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3" name=""/>
          <p:cNvSpPr/>
          <p:nvPr/>
        </p:nvSpPr>
        <p:spPr>
          <a:xfrm>
            <a:off x="4643280" y="3484440"/>
            <a:ext cx="216000" cy="21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2781360"/>
            <a:ext cx="21600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4452840"/>
            <a:ext cx="21564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lbox for deterministic RN release 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1360" y="1600200"/>
            <a:ext cx="815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ool is well t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of tools gives high 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able level of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box does not cope with all identified F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oolbox has been exten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for probabilistic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of probabilistic distributi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on of real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RN release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oolbox for RN release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analysis of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71640" y="2852640"/>
            <a:ext cx="2520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2779560"/>
            <a:ext cx="2519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@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Excel add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of Probabilistic Distribu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te Car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in hyperc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stical analy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gence Mon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ing with Toolbox for RN release calculations by reading and writing XML-files using V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662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f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0200" y="1341360"/>
            <a:ext cx="3095640" cy="57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@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91080" y="2514600"/>
            <a:ext cx="1781280" cy="65880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put0001.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put0002.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8" idx="2"/>
            <a:endCxn id="116" idx="1"/>
          </p:cNvCxnSpPr>
          <p:nvPr/>
        </p:nvCxnSpPr>
        <p:spPr>
          <a:xfrm flipH="1" rot="16200000">
            <a:off x="4144320" y="2397600"/>
            <a:ext cx="351360" cy="543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4632480" y="3960720"/>
            <a:ext cx="1739880" cy="70344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utput0001.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utput0002.x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21" idx="2"/>
            <a:endCxn id="119" idx="3"/>
          </p:cNvCxnSpPr>
          <p:nvPr/>
        </p:nvCxnSpPr>
        <p:spPr>
          <a:xfrm rot="5400000">
            <a:off x="6468480" y="3797280"/>
            <a:ext cx="419760" cy="61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3956040" y="497664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2720" y="9619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1341360"/>
            <a:ext cx="2665440" cy="57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N Release Tool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N Releas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1341360"/>
            <a:ext cx="180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Defin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1989000"/>
            <a:ext cx="180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Calc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00200" y="2060640"/>
            <a:ext cx="3095640" cy="433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 Monte Carlo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16" idx="3"/>
            <a:endCxn id="121" idx="0"/>
          </p:cNvCxnSpPr>
          <p:nvPr/>
        </p:nvCxnSpPr>
        <p:spPr>
          <a:xfrm>
            <a:off x="6372360" y="2844720"/>
            <a:ext cx="61344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463840" y="4867200"/>
            <a:ext cx="3166920" cy="433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run Monte Carlo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9" idx="1"/>
            <a:endCxn id="128" idx="0"/>
          </p:cNvCxnSpPr>
          <p:nvPr/>
        </p:nvCxnSpPr>
        <p:spPr>
          <a:xfrm flipV="1" rot="10800000">
            <a:off x="4047480" y="4312080"/>
            <a:ext cx="58500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2465280" y="5445000"/>
            <a:ext cx="3167280" cy="433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stical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869000"/>
            <a:ext cx="151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Analys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4" idx="2"/>
            <a:endCxn id="133" idx="0"/>
          </p:cNvCxnSpPr>
          <p:nvPr/>
        </p:nvCxnSpPr>
        <p:spPr>
          <a:xfrm flipH="1" rot="16200000">
            <a:off x="7055640" y="1844280"/>
            <a:ext cx="433800" cy="577080"/>
          </a:xfrm>
          <a:prstGeom prst="bentConnector3">
            <a:avLst>
              <a:gd name="adj1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468360" y="1989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3213000"/>
            <a:ext cx="583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724280"/>
            <a:ext cx="792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26828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95008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93080" y="2349360"/>
            <a:ext cx="934920" cy="5749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651640" y="3317760"/>
            <a:ext cx="2665440" cy="576360"/>
            <a:chOff x="5651640" y="3317760"/>
            <a:chExt cx="2665440" cy="576360"/>
          </a:xfrm>
        </p:grpSpPr>
        <p:sp>
          <p:nvSpPr>
            <p:cNvPr id="121" name=""/>
            <p:cNvSpPr/>
            <p:nvPr/>
          </p:nvSpPr>
          <p:spPr>
            <a:xfrm>
              <a:off x="5651640" y="3317760"/>
              <a:ext cx="2665440" cy="576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N Release calcul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n Linux clu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64360" y="3317760"/>
              <a:ext cx="28728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1" name=""/>
          <p:cNvCxnSpPr>
            <a:stCxn id="133" idx="2"/>
            <a:endCxn id="140" idx="0"/>
          </p:cNvCxnSpPr>
          <p:nvPr/>
        </p:nvCxnSpPr>
        <p:spPr>
          <a:xfrm rot="5400000">
            <a:off x="7221960" y="2978640"/>
            <a:ext cx="425880" cy="253440"/>
          </a:xfrm>
          <a:prstGeom prst="bentConnector3">
            <a:avLst>
              <a:gd name="adj1" fmla="val 537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: Max. Dose from a High Level Waste Repository in Opalinus C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consid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dependent release from waste pack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of dissolved RN due to advection, dispersion/diff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r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bility limi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consider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ase of volatile 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ects of gas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led processes (HM, THM, THMC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: Max. Dose from a High Level Waste Repository in Opalinus Clay 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stic parameters of near fi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t 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t release fraction (IRF) and matrix dissolution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Coefficients in bentonite 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d-Values in bentonite 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trified high level wa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ss dissolution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Coefficients in bentonite 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d-Values in bentonite buff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mediate level wa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d-Values in cemented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495080"/>
            <a:ext cx="403848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stic parameters of ge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cy velocity in host 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usion coeffici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d-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path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0000" y="520236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otal: 176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9:44:41Z</dcterms:created>
  <dc:creator>Gerhard Mayer</dc:creator>
  <dc:description/>
  <dc:language>en-US</dc:language>
  <cp:lastModifiedBy>AF-Colenco AG</cp:lastModifiedBy>
  <dcterms:modified xsi:type="dcterms:W3CDTF">2009-09-30T06:14:51Z</dcterms:modified>
  <cp:revision>58</cp:revision>
  <dc:subject/>
  <dc:title>Folie 1</dc:title>
</cp:coreProperties>
</file>