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19.wmf" ContentType="image/x-wmf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6F5-DCE7-424A-8002-0D0259683F9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20E-62AD-4AD5-A2E6-81BBD22B38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9768-8DEA-47FB-97DC-63C7E312296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3DCE-9E3C-4580-B38A-8C6D21A0146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DBEC-CE37-4CF4-A4A2-D34DBF9862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F119-57CD-4642-8185-12297DE3026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E728-538A-491E-926D-3452FDB5FBE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8830-E54E-4B56-98B5-47F2D10ACD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99C5-1A0F-4C49-8D05-30B4DC6BC0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058-9DE7-4F90-A96D-36F70D377A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41BE-3FF9-4D46-85DB-3B25C564657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2450-53F5-4053-807E-BF83A52C2A8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E15F-1EDF-44E3-90FC-6DC47CEB0A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3A27-3E2B-4F03-B868-EC4CE010AE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B14-6B6B-4001-B71D-F045AEFD6C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B65-3F4E-49D9-9100-95EF650C669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AAB6-BD27-4BE9-9765-618ED3C631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EF44-F512-4ED1-ADC5-E37544FB58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B149-0F2E-435F-828D-19B7DC9D8F6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816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A36D-BF85-4548-9CC5-2B0617301FE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A416-F305-4B6D-A6E7-9197488397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AE4-669C-4E97-9B79-27EC200065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A188-8EBF-4F66-B6C4-27F8EB7B32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120" y="4704840"/>
            <a:ext cx="5057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09F7-41E3-4473-A3E8-9B2BC7601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A2298-179C-443E-94D9-FB3969379A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2652-65A5-41C4-A482-D2862638A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8153-7C37-449F-9C7A-7E49379DA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B364-8C6D-4B45-9092-D588F0D50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FCBA-C94C-4CBB-A054-FFD1EE8B1D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F2DD-776A-4D18-8ABB-B64411AB8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A4965-0B3B-435B-9191-231A47319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21FC-1C85-4AFD-9564-758B8943F9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7E944-1255-4CFA-B86B-1075DCA4F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6C4B-B69C-4AC4-8E98-19A465035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62BE5-E39B-4B08-80FE-28E2CBAEF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831F-8EDC-44AF-A8BE-77B04545E9D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" Target="slide25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835344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new PSA approach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2920" y="5695920"/>
            <a:ext cx="37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ürg Schneid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gr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&amp;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880" y="533520"/>
            <a:ext cx="84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Workshop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henkammer (Germany) 28-30 September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32000" y="3119400"/>
            <a:ext cx="7200720" cy="365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31960" y="5143680"/>
            <a:ext cx="6156360" cy="968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9640" y="1329840"/>
            <a:ext cx="80740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needs (based on a review of the capabilities of existing codes and the requirements defined in the previous st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ETOOL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parallel to Phase 1 for a simplified example PSA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SIM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abilistic driver: operational &amp; tested for simplified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C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istic “engine” of the new PSA tool (large effor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MAN-TD: further development of existing version (time-dependent flow boundary condition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mall effor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NIC-TD: new development needed (existing version cannot handle time-dependent flow due to solver type used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dium effort requi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 MODEL (transport of volatile nuclides in the gas phase): minor development needs (simplified treat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C: major development effort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Data Converters: significant development effort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s &amp; integration of modules: development effort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68000" y="552240"/>
            <a:ext cx="821844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development: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3552840" y="1373040"/>
            <a:ext cx="298440" cy="33048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30480"/>
              <a:gd name="textAreaBottom" fmla="*/ 311400 h 330480"/>
            </a:gdLst>
            <a:ahLst/>
            <a:rect l="textAreaLeft" t="textAreaTop" r="textAreaRight" b="textAreaBottom"/>
            <a:pathLst>
              <a:path w="21600" h="23916">
                <a:moveTo>
                  <a:pt x="0" y="0"/>
                </a:moveTo>
                <a:lnTo>
                  <a:pt x="21600" y="0"/>
                </a:lnTo>
                <a:lnTo>
                  <a:pt x="21600" y="23916"/>
                </a:lnTo>
                <a:lnTo>
                  <a:pt x="0" y="23916"/>
                </a:lnTo>
                <a:close/>
              </a:path>
              <a:path fill="lightenLess" w="21600" h="239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6">
                <a:moveTo>
                  <a:pt x="21600" y="0"/>
                </a:moveTo>
                <a:lnTo>
                  <a:pt x="21600" y="23916"/>
                </a:lnTo>
                <a:lnTo>
                  <a:pt x="20200" y="22516"/>
                </a:lnTo>
                <a:lnTo>
                  <a:pt x="20200" y="1400"/>
                </a:lnTo>
                <a:close/>
              </a:path>
              <a:path fill="darkenLess" w="21600" h="23916">
                <a:moveTo>
                  <a:pt x="21600" y="23916"/>
                </a:moveTo>
                <a:lnTo>
                  <a:pt x="0" y="23916"/>
                </a:lnTo>
                <a:lnTo>
                  <a:pt x="1400" y="22516"/>
                </a:lnTo>
                <a:lnTo>
                  <a:pt x="20200" y="22516"/>
                </a:lnTo>
                <a:close/>
              </a:path>
              <a:path fill="lighten" w="21600" h="23916">
                <a:moveTo>
                  <a:pt x="0" y="239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6"/>
                </a:lnTo>
                <a:close/>
              </a:path>
              <a:path fill="darken" w="21600" h="23916">
                <a:moveTo>
                  <a:pt x="3794" y="4952"/>
                </a:moveTo>
                <a:lnTo>
                  <a:pt x="17806" y="11958"/>
                </a:lnTo>
                <a:lnTo>
                  <a:pt x="3794" y="1896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03BC-DA2D-4B41-8672-853B457BFC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Flow Code I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740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IFC based on TOUG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-depend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o-phase flow in the near field and geosphere of a gas-generating nuclear waste repository system for SF / HLW / ILW located in a claystone host rock (Opalinus C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water and gas flow fields as input to subsequent radionuclide transport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erical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190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tion of the multiphase, multicomponent simulator TOUG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190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 modifications: (i) implementation of “accepted FEPs”;                 (ii) removal of processes and features that are not needed (speed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 repository system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mplified representation of the repository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utational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190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placement tunnels for SF / HLW / IL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190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gineered barriers (backfill, seals, plugs, etc.) &amp; other underground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-4190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ological structures (host rock, EDZ, confining units, local aquifers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9B8D-13E5-4AC5-87F6-7AC7723CCF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1191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C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97000" y="797040"/>
            <a:ext cx="854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25128" r="0" b="7694"/>
          <a:stretch/>
        </p:blipFill>
        <p:spPr>
          <a:xfrm>
            <a:off x="4707000" y="1154160"/>
            <a:ext cx="4124160" cy="2801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18400" y="847800"/>
            <a:ext cx="3118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quivalent conceptual repository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360" y="762120"/>
            <a:ext cx="2926080" cy="281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rcRect l="4524" t="16401" r="4524" b="18178"/>
          <a:stretch/>
        </p:blipFill>
        <p:spPr>
          <a:xfrm>
            <a:off x="4737240" y="4043520"/>
            <a:ext cx="4406760" cy="28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720" y="5154480"/>
            <a:ext cx="1171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C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comput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784680" y="2487600"/>
            <a:ext cx="59508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21560" y="3786120"/>
            <a:ext cx="324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679920"/>
            <a:ext cx="3402000" cy="3178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1680" y="6180120"/>
            <a:ext cx="86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ydro-ge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65440" y="3776400"/>
            <a:ext cx="997200" cy="1106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92560" y="6318360"/>
            <a:ext cx="16812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5" action="ppaction://hlinksldjump"/>
          </p:cNvPr>
          <p:cNvSpPr/>
          <p:nvPr/>
        </p:nvSpPr>
        <p:spPr>
          <a:xfrm>
            <a:off x="8604360" y="260280"/>
            <a:ext cx="298440" cy="33012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30120"/>
              <a:gd name="textAreaBottom" fmla="*/ 311040 h 330120"/>
            </a:gdLst>
            <a:ahLst/>
            <a:rect l="textAreaLeft" t="textAreaTop" r="textAreaRight" b="textAreaBottom"/>
            <a:pathLst>
              <a:path w="21600" h="23890">
                <a:moveTo>
                  <a:pt x="0" y="0"/>
                </a:moveTo>
                <a:lnTo>
                  <a:pt x="21600" y="0"/>
                </a:lnTo>
                <a:lnTo>
                  <a:pt x="21600" y="23890"/>
                </a:lnTo>
                <a:lnTo>
                  <a:pt x="0" y="23890"/>
                </a:lnTo>
                <a:close/>
              </a:path>
              <a:path fill="lightenLess" w="21600" h="23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90">
                <a:moveTo>
                  <a:pt x="21600" y="0"/>
                </a:moveTo>
                <a:lnTo>
                  <a:pt x="21600" y="23890"/>
                </a:lnTo>
                <a:lnTo>
                  <a:pt x="20200" y="22490"/>
                </a:lnTo>
                <a:lnTo>
                  <a:pt x="20200" y="1400"/>
                </a:lnTo>
                <a:close/>
              </a:path>
              <a:path fill="darkenLess" w="21600" h="23890">
                <a:moveTo>
                  <a:pt x="21600" y="23890"/>
                </a:moveTo>
                <a:lnTo>
                  <a:pt x="0" y="23890"/>
                </a:lnTo>
                <a:lnTo>
                  <a:pt x="1400" y="22490"/>
                </a:lnTo>
                <a:lnTo>
                  <a:pt x="20200" y="22490"/>
                </a:lnTo>
                <a:close/>
              </a:path>
              <a:path fill="lighten" w="21600" h="23890">
                <a:moveTo>
                  <a:pt x="0" y="23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90"/>
                </a:lnTo>
                <a:close/>
              </a:path>
              <a:path fill="darken" w="21600" h="23890">
                <a:moveTo>
                  <a:pt x="3794" y="4939"/>
                </a:moveTo>
                <a:lnTo>
                  <a:pt x="17806" y="11945"/>
                </a:lnTo>
                <a:lnTo>
                  <a:pt x="3794" y="1895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B034-44D7-4473-BA28-6AA6089B5D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C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3547" t="10087" r="7652" b="2976"/>
          <a:stretch/>
        </p:blipFill>
        <p:spPr>
          <a:xfrm>
            <a:off x="563400" y="1422360"/>
            <a:ext cx="5634360" cy="4892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300720" y="3860640"/>
            <a:ext cx="266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PU-time-intensive tas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ulating strong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rly times with ini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ansion of 2-phase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solving nonlinearitie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unteracting effects (early-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ime pressure increas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bined with tunnel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vergence; late-ti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nsient effects due to upli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5480" y="871560"/>
            <a:ext cx="507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PU time as a function of simula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824440" y="2001600"/>
            <a:ext cx="374760" cy="74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16560" y="1844640"/>
            <a:ext cx="26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FEP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2293920"/>
            <a:ext cx="266400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me FEPs exclud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thway d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Z self-s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unnel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l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ochemical s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508360" y="2565360"/>
            <a:ext cx="7189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BAFE-F214-4983-A6E0-1A2C6996D6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8680" y="983880"/>
            <a:ext cx="86263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41120"/>
            <a:ext cx="8064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2600" y="2147760"/>
            <a:ext cx="2660760" cy="2660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279600" y="215748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278400" y="2158920"/>
            <a:ext cx="2670480" cy="267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66960" y="930240"/>
            <a:ext cx="7011720" cy="609840"/>
          </a:xfrm>
          <a:prstGeom prst="rightArrow">
            <a:avLst>
              <a:gd name="adj1" fmla="val 50000"/>
              <a:gd name="adj2" fmla="val 2874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ccffff"/>
                </a:solidFill>
                <a:latin typeface="Arial"/>
              </a:rPr>
              <a:t>Successive model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39960" y="4967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333399"/>
                </a:solidFill>
                <a:latin typeface="Arial"/>
              </a:rPr>
              <a:t>Combined gas/water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72960" y="1598760"/>
            <a:ext cx="2375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The model to our b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geoscientific understa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080" y="1609560"/>
            <a:ext cx="2035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The model suitabl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PA calculations (“sim.“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899640" y="4428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Z Converter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6600" y="5567400"/>
            <a:ext cx="850248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mulate pressure &amp; flow with the CPM model – fit simplified homogeneous model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effective parameters (r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EDZ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, k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EDZ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rel. perm., cap. pr., 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643880" y="2478240"/>
            <a:ext cx="5302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04200" y="2309760"/>
            <a:ext cx="453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400" spc="-1" strike="noStrike" baseline="-25000">
                <a:solidFill>
                  <a:srgbClr val="000000"/>
                </a:solidFill>
                <a:latin typeface="Arial"/>
              </a:rPr>
              <a:t>ED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16640" y="4424400"/>
            <a:ext cx="453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D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738840" y="4032360"/>
            <a:ext cx="320760" cy="32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78520" y="1587600"/>
            <a:ext cx="2653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terogeneous contin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ous medium model (“CPM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9EEF-B7D3-41FD-9924-688C308AEF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9000" y="115920"/>
            <a:ext cx="77137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Z Converter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9" descr=""/>
          <p:cNvPicPr/>
          <p:nvPr/>
        </p:nvPicPr>
        <p:blipFill>
          <a:blip r:embed="rId1"/>
          <a:srcRect l="3204" t="2036" r="3204" b="2036"/>
          <a:stretch/>
        </p:blipFill>
        <p:spPr>
          <a:xfrm>
            <a:off x="495360" y="961920"/>
            <a:ext cx="7920000" cy="4629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941920" y="275904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9800" y="161928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s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080" y="5670720"/>
            <a:ext cx="7790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simulated responses (pressure and gas / water flow) from the CPM model 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be used to calibrate effective parameters for a simplified homogeneou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E6264-951D-4D46-996D-22B8041155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7407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modules: IRR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31760" y="866880"/>
            <a:ext cx="5442120" cy="5892840"/>
            <a:chOff x="131760" y="866880"/>
            <a:chExt cx="5442120" cy="5892840"/>
          </a:xfrm>
        </p:grpSpPr>
        <p:pic>
          <p:nvPicPr>
            <p:cNvPr id="174" name="PSA Release Code Rev" descr=""/>
            <p:cNvPicPr/>
            <p:nvPr/>
          </p:nvPicPr>
          <p:blipFill>
            <a:blip r:embed="rId1"/>
            <a:srcRect l="0" t="8086" r="9500" b="0"/>
            <a:stretch/>
          </p:blipFill>
          <p:spPr>
            <a:xfrm>
              <a:off x="131760" y="866880"/>
              <a:ext cx="5442120" cy="58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349280" y="4126680"/>
              <a:ext cx="919800" cy="2764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08080"/>
                  </a:solidFill>
                  <a:latin typeface="Arial"/>
                </a:rPr>
                <a:t>Part of IF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75520" y="6066360"/>
              <a:ext cx="1443960" cy="276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08080"/>
                  </a:solidFill>
                  <a:latin typeface="Arial"/>
                </a:rPr>
                <a:t>Part of PICNIC-T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8080" y="4324320"/>
              <a:ext cx="356400" cy="3466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46880" y="4026960"/>
              <a:ext cx="356040" cy="34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0520" y="4594680"/>
              <a:ext cx="356400" cy="34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23800" y="4988880"/>
              <a:ext cx="356040" cy="34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61400" y="3573360"/>
              <a:ext cx="356400" cy="34632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1120" y="868320"/>
            <a:ext cx="5438880" cy="5889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61000" y="919080"/>
            <a:ext cx="3483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AN-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CNIC-TD (with Gas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STMAN to PIC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STMAN to Ga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 IFC to PIC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IFC to S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IFC to Ga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60560" y="987480"/>
            <a:ext cx="814320" cy="338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5600" y="1276200"/>
            <a:ext cx="1473120" cy="338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0DEB-7D39-4B2D-A8B7-9A46647725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199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C–PICNIC linkage network (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6440" y="1050840"/>
            <a:ext cx="7772400" cy="5288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42120" y="743040"/>
            <a:ext cx="180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: horizonta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FC17-475C-4BAD-9CB6-CA6332966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C–PICNIC linkage network (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39480" y="797040"/>
            <a:ext cx="153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: vertica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4480" y="1146240"/>
            <a:ext cx="5395680" cy="515916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5667480" y="1603440"/>
            <a:ext cx="3340080" cy="2557080"/>
            <a:chOff x="5667480" y="1603440"/>
            <a:chExt cx="3340080" cy="2557080"/>
          </a:xfrm>
        </p:grpSpPr>
        <p:sp>
          <p:nvSpPr>
            <p:cNvPr id="193" name=""/>
            <p:cNvSpPr/>
            <p:nvPr/>
          </p:nvSpPr>
          <p:spPr>
            <a:xfrm>
              <a:off x="5667480" y="1603440"/>
              <a:ext cx="3340080" cy="2550240"/>
            </a:xfrm>
            <a:prstGeom prst="rect">
              <a:avLst/>
            </a:prstGeom>
            <a:solidFill>
              <a:srgbClr val="cfe7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5724360" y="1727280"/>
              <a:ext cx="2976840" cy="243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"/>
          <p:cNvSpPr/>
          <p:nvPr/>
        </p:nvSpPr>
        <p:spPr>
          <a:xfrm>
            <a:off x="5683320" y="1168560"/>
            <a:ext cx="318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 (example: Bio_W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02400" y="4678200"/>
            <a:ext cx="32716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se with 36 legs, 39 nuclides &amp; full IFC flow field (previously calculated): 40 M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MD from tunnels: 8 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flow in tunnels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~ 3 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(but results very similar)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5B152-9524-424C-99BD-D13F8D93DC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9640" y="902880"/>
            <a:ext cx="807408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: IRRC is up and running, but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imum version with all accepted FEPs included is relatively s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x. CPU time needed for IFC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45 h for 1 Ma with all accepted FE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t of IRRC calculations ~ 40 Min. with all radionuclide proces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umber of preliminary functionality tests complet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going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in further experience with running full IRR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ccessively reduce number of FEPs included and continuously monitor effect on calculated releases and on CPU tim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ild full PSA tool (GOLDSIM, TREET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 and test PSA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operational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 mesh (repository design has been modified in the meanti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 expert elicitation process to obtain required input (scenarios, conceptual models, data (PDFs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parallel: develop simple, modular PSA tools using the GOLDSIM probabilistic driver and established radionuclide release &amp; transport codes for SF / HLW / ILW / L/ILW for first applications (on-going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EB04-D157-46CE-B084-D7B6C844C8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83988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740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the new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 &amp;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8AFA-63EC-4F22-91C6-813D1CDFA5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0400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fully probabilistic approach started in 2006 is well  under way (on-going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FEP list and IRRC was more difficult &amp; time consuming than originally thought (involvement of large team of experts from many disciplines; recruited as required by progress of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-alone IR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tool fully incorporating 52 “accepted FEPs” derived in a systematic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seful tool “in its own righ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llent basis for further development (key part of “full” PSA too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c reduction of no. of FEPs included while monitoring effect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d 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 tim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chmarks obtained “for free” (“maximum version”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reduced versio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ersions of NF code and geosphere transport code developed “on the way” (STMAN-TD, PICNIC-TD) for time-dependent fl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ed modular PSA tools developed in parallel for first ap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68000" y="26352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1553E-F3C5-44D2-97DD-D98C51AF09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09840" y="3498840"/>
            <a:ext cx="44802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000" spc="-1" strike="noStrike">
                <a:solidFill>
                  <a:srgbClr val="03577c"/>
                </a:solidFill>
                <a:latin typeface="Arial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FEP List (Categ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870120"/>
            <a:ext cx="838368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F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-rel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aulic and ga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mical and microbi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influenced by Onsag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nuclide F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active inventory and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ment failure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nuclide mob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of dissolved (non-volatile) radio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of volatile radionuclides (14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nuclide pathways through host rock and confining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nuclide pathways through access tunne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nuclide transport influenced by Onsag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1" action="ppaction://hlinksldjump"/>
          </p:cNvPr>
          <p:cNvSpPr/>
          <p:nvPr/>
        </p:nvSpPr>
        <p:spPr>
          <a:xfrm>
            <a:off x="8726400" y="122400"/>
            <a:ext cx="304920" cy="3474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47400"/>
              <a:gd name="textAreaBottom" fmla="*/ 327960 h 347400"/>
            </a:gdLst>
            <a:ahLst/>
            <a:rect l="textAreaLeft" t="textAreaTop" r="textAreaRight" b="textAreaBottom"/>
            <a:pathLst>
              <a:path w="21600" h="24606">
                <a:moveTo>
                  <a:pt x="0" y="0"/>
                </a:moveTo>
                <a:lnTo>
                  <a:pt x="21600" y="0"/>
                </a:lnTo>
                <a:lnTo>
                  <a:pt x="21600" y="24606"/>
                </a:lnTo>
                <a:lnTo>
                  <a:pt x="0" y="24606"/>
                </a:lnTo>
                <a:close/>
              </a:path>
              <a:path fill="lightenLess" w="21600" h="24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06">
                <a:moveTo>
                  <a:pt x="21600" y="0"/>
                </a:moveTo>
                <a:lnTo>
                  <a:pt x="21600" y="24606"/>
                </a:lnTo>
                <a:lnTo>
                  <a:pt x="20200" y="23206"/>
                </a:lnTo>
                <a:lnTo>
                  <a:pt x="20200" y="1400"/>
                </a:lnTo>
                <a:close/>
              </a:path>
              <a:path fill="darkenLess" w="21600" h="24606">
                <a:moveTo>
                  <a:pt x="21600" y="24606"/>
                </a:moveTo>
                <a:lnTo>
                  <a:pt x="0" y="24606"/>
                </a:lnTo>
                <a:lnTo>
                  <a:pt x="1400" y="23206"/>
                </a:lnTo>
                <a:lnTo>
                  <a:pt x="20200" y="23206"/>
                </a:lnTo>
                <a:close/>
              </a:path>
              <a:path fill="lighten" w="21600" h="24606">
                <a:moveTo>
                  <a:pt x="0" y="24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06"/>
                </a:lnTo>
                <a:close/>
              </a:path>
              <a:path fill="darken" w="21600" h="24606">
                <a:moveTo>
                  <a:pt x="3794" y="8995"/>
                </a:moveTo>
                <a:lnTo>
                  <a:pt x="7301" y="8995"/>
                </a:lnTo>
                <a:lnTo>
                  <a:pt x="7301" y="14331"/>
                </a:lnTo>
                <a:cubicBezTo>
                  <a:pt x="7301" y="15253"/>
                  <a:pt x="8102" y="15984"/>
                  <a:pt x="9138" y="15984"/>
                </a:cubicBezTo>
                <a:lnTo>
                  <a:pt x="10800" y="15984"/>
                </a:lnTo>
                <a:cubicBezTo>
                  <a:pt x="11836" y="15984"/>
                  <a:pt x="12636" y="15253"/>
                  <a:pt x="12636" y="14331"/>
                </a:cubicBezTo>
                <a:lnTo>
                  <a:pt x="12636" y="8995"/>
                </a:lnTo>
                <a:lnTo>
                  <a:pt x="10800" y="8995"/>
                </a:lnTo>
                <a:lnTo>
                  <a:pt x="14308" y="5488"/>
                </a:lnTo>
                <a:lnTo>
                  <a:pt x="17981" y="8995"/>
                </a:lnTo>
                <a:lnTo>
                  <a:pt x="16144" y="8995"/>
                </a:lnTo>
                <a:lnTo>
                  <a:pt x="16144" y="14331"/>
                </a:lnTo>
                <a:cubicBezTo>
                  <a:pt x="16144" y="17099"/>
                  <a:pt x="13568" y="19657"/>
                  <a:pt x="10800" y="19657"/>
                </a:cubicBezTo>
                <a:lnTo>
                  <a:pt x="9138" y="19657"/>
                </a:lnTo>
                <a:cubicBezTo>
                  <a:pt x="6370" y="19657"/>
                  <a:pt x="3794" y="17099"/>
                  <a:pt x="3794" y="1433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A248-5F1A-416C-97FE-72B26AFC94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0" descr="PSA Flowchart Rev. 3 JPEG.jpg"/>
          <p:cNvPicPr/>
          <p:nvPr/>
        </p:nvPicPr>
        <p:blipFill>
          <a:blip r:embed="rId1"/>
          <a:stretch/>
        </p:blipFill>
        <p:spPr>
          <a:xfrm>
            <a:off x="538200" y="765000"/>
            <a:ext cx="6630840" cy="60501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321960" y="1751040"/>
            <a:ext cx="2449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R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gine” of the PSA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853240" y="5010120"/>
            <a:ext cx="318960" cy="8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36360" y="4300560"/>
            <a:ext cx="23324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EETO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ling of alternativ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tually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enarios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ptual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064120" y="2200320"/>
            <a:ext cx="108432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31320" y="3035160"/>
            <a:ext cx="1863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LDSI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babilistic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IR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445000" y="3457440"/>
            <a:ext cx="727200" cy="44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37080" y="941400"/>
            <a:ext cx="1639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SA To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nested 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8880" y="5280120"/>
            <a:ext cx="55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6880" y="6075360"/>
            <a:ext cx="123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3640" y="5883120"/>
            <a:ext cx="75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168680" y="6081840"/>
            <a:ext cx="576360" cy="16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8880" y="4224240"/>
            <a:ext cx="119160" cy="90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ED61-3F35-48C2-BB15-72F02F73FD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 - IR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Grafik 0" descr="PSA Release Code Rev.3 JPEG.jpg"/>
          <p:cNvPicPr/>
          <p:nvPr/>
        </p:nvPicPr>
        <p:blipFill>
          <a:blip r:embed="rId1"/>
          <a:stretch/>
        </p:blipFill>
        <p:spPr>
          <a:xfrm>
            <a:off x="538200" y="782640"/>
            <a:ext cx="5468760" cy="6004080"/>
          </a:xfrm>
          <a:prstGeom prst="rect">
            <a:avLst/>
          </a:prstGeom>
          <a:ln w="0">
            <a:noFill/>
          </a:ln>
        </p:spPr>
      </p:pic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8726400" y="122400"/>
            <a:ext cx="304920" cy="3474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47400"/>
              <a:gd name="textAreaBottom" fmla="*/ 327960 h 347400"/>
            </a:gdLst>
            <a:ahLst/>
            <a:rect l="textAreaLeft" t="textAreaTop" r="textAreaRight" b="textAreaBottom"/>
            <a:pathLst>
              <a:path w="21600" h="24606">
                <a:moveTo>
                  <a:pt x="0" y="0"/>
                </a:moveTo>
                <a:lnTo>
                  <a:pt x="21600" y="0"/>
                </a:lnTo>
                <a:lnTo>
                  <a:pt x="21600" y="24606"/>
                </a:lnTo>
                <a:lnTo>
                  <a:pt x="0" y="24606"/>
                </a:lnTo>
                <a:close/>
              </a:path>
              <a:path fill="lightenLess" w="21600" h="24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06">
                <a:moveTo>
                  <a:pt x="21600" y="0"/>
                </a:moveTo>
                <a:lnTo>
                  <a:pt x="21600" y="24606"/>
                </a:lnTo>
                <a:lnTo>
                  <a:pt x="20200" y="23206"/>
                </a:lnTo>
                <a:lnTo>
                  <a:pt x="20200" y="1400"/>
                </a:lnTo>
                <a:close/>
              </a:path>
              <a:path fill="darkenLess" w="21600" h="24606">
                <a:moveTo>
                  <a:pt x="21600" y="24606"/>
                </a:moveTo>
                <a:lnTo>
                  <a:pt x="0" y="24606"/>
                </a:lnTo>
                <a:lnTo>
                  <a:pt x="1400" y="23206"/>
                </a:lnTo>
                <a:lnTo>
                  <a:pt x="20200" y="23206"/>
                </a:lnTo>
                <a:close/>
              </a:path>
              <a:path fill="lighten" w="21600" h="24606">
                <a:moveTo>
                  <a:pt x="0" y="24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06"/>
                </a:lnTo>
                <a:close/>
              </a:path>
              <a:path fill="darken" w="21600" h="24606">
                <a:moveTo>
                  <a:pt x="3794" y="8995"/>
                </a:moveTo>
                <a:lnTo>
                  <a:pt x="7301" y="8995"/>
                </a:lnTo>
                <a:lnTo>
                  <a:pt x="7301" y="14331"/>
                </a:lnTo>
                <a:cubicBezTo>
                  <a:pt x="7301" y="15253"/>
                  <a:pt x="8102" y="15984"/>
                  <a:pt x="9138" y="15984"/>
                </a:cubicBezTo>
                <a:lnTo>
                  <a:pt x="10800" y="15984"/>
                </a:lnTo>
                <a:cubicBezTo>
                  <a:pt x="11836" y="15984"/>
                  <a:pt x="12636" y="15253"/>
                  <a:pt x="12636" y="14331"/>
                </a:cubicBezTo>
                <a:lnTo>
                  <a:pt x="12636" y="8995"/>
                </a:lnTo>
                <a:lnTo>
                  <a:pt x="10800" y="8995"/>
                </a:lnTo>
                <a:lnTo>
                  <a:pt x="14308" y="5488"/>
                </a:lnTo>
                <a:lnTo>
                  <a:pt x="17981" y="8995"/>
                </a:lnTo>
                <a:lnTo>
                  <a:pt x="16144" y="8995"/>
                </a:lnTo>
                <a:lnTo>
                  <a:pt x="16144" y="14331"/>
                </a:lnTo>
                <a:cubicBezTo>
                  <a:pt x="16144" y="17099"/>
                  <a:pt x="13568" y="19657"/>
                  <a:pt x="10800" y="19657"/>
                </a:cubicBezTo>
                <a:lnTo>
                  <a:pt x="9138" y="19657"/>
                </a:lnTo>
                <a:cubicBezTo>
                  <a:pt x="6370" y="19657"/>
                  <a:pt x="3794" y="17099"/>
                  <a:pt x="3794" y="1433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CE4A-999F-4633-8FA9-68CF3E51AD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C M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61760"/>
            <a:ext cx="83836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’000 gri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’000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quations per grid block (water / gas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72’000 non-linear equations to be solved per grid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~ 10’000 time steps for 1 Ma (automatically adjus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726400" y="122400"/>
            <a:ext cx="304920" cy="3474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47400"/>
              <a:gd name="textAreaBottom" fmla="*/ 327960 h 347400"/>
            </a:gdLst>
            <a:ahLst/>
            <a:rect l="textAreaLeft" t="textAreaTop" r="textAreaRight" b="textAreaBottom"/>
            <a:pathLst>
              <a:path w="21600" h="24606">
                <a:moveTo>
                  <a:pt x="0" y="0"/>
                </a:moveTo>
                <a:lnTo>
                  <a:pt x="21600" y="0"/>
                </a:lnTo>
                <a:lnTo>
                  <a:pt x="21600" y="24606"/>
                </a:lnTo>
                <a:lnTo>
                  <a:pt x="0" y="24606"/>
                </a:lnTo>
                <a:close/>
              </a:path>
              <a:path fill="lightenLess" w="21600" h="24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06">
                <a:moveTo>
                  <a:pt x="21600" y="0"/>
                </a:moveTo>
                <a:lnTo>
                  <a:pt x="21600" y="24606"/>
                </a:lnTo>
                <a:lnTo>
                  <a:pt x="20200" y="23206"/>
                </a:lnTo>
                <a:lnTo>
                  <a:pt x="20200" y="1400"/>
                </a:lnTo>
                <a:close/>
              </a:path>
              <a:path fill="darkenLess" w="21600" h="24606">
                <a:moveTo>
                  <a:pt x="21600" y="24606"/>
                </a:moveTo>
                <a:lnTo>
                  <a:pt x="0" y="24606"/>
                </a:lnTo>
                <a:lnTo>
                  <a:pt x="1400" y="23206"/>
                </a:lnTo>
                <a:lnTo>
                  <a:pt x="20200" y="23206"/>
                </a:lnTo>
                <a:close/>
              </a:path>
              <a:path fill="lighten" w="21600" h="24606">
                <a:moveTo>
                  <a:pt x="0" y="24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06"/>
                </a:lnTo>
                <a:close/>
              </a:path>
              <a:path fill="darken" w="21600" h="24606">
                <a:moveTo>
                  <a:pt x="3794" y="8995"/>
                </a:moveTo>
                <a:lnTo>
                  <a:pt x="7301" y="8995"/>
                </a:lnTo>
                <a:lnTo>
                  <a:pt x="7301" y="14331"/>
                </a:lnTo>
                <a:cubicBezTo>
                  <a:pt x="7301" y="15253"/>
                  <a:pt x="8102" y="15984"/>
                  <a:pt x="9138" y="15984"/>
                </a:cubicBezTo>
                <a:lnTo>
                  <a:pt x="10800" y="15984"/>
                </a:lnTo>
                <a:cubicBezTo>
                  <a:pt x="11836" y="15984"/>
                  <a:pt x="12636" y="15253"/>
                  <a:pt x="12636" y="14331"/>
                </a:cubicBezTo>
                <a:lnTo>
                  <a:pt x="12636" y="8995"/>
                </a:lnTo>
                <a:lnTo>
                  <a:pt x="10800" y="8995"/>
                </a:lnTo>
                <a:lnTo>
                  <a:pt x="14308" y="5488"/>
                </a:lnTo>
                <a:lnTo>
                  <a:pt x="17981" y="8995"/>
                </a:lnTo>
                <a:lnTo>
                  <a:pt x="16144" y="8995"/>
                </a:lnTo>
                <a:lnTo>
                  <a:pt x="16144" y="14331"/>
                </a:lnTo>
                <a:cubicBezTo>
                  <a:pt x="16144" y="17099"/>
                  <a:pt x="13568" y="19657"/>
                  <a:pt x="10800" y="19657"/>
                </a:cubicBezTo>
                <a:lnTo>
                  <a:pt x="9138" y="19657"/>
                </a:lnTo>
                <a:cubicBezTo>
                  <a:pt x="6370" y="19657"/>
                  <a:pt x="3794" y="17099"/>
                  <a:pt x="3794" y="14331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251D-9E74-40BC-83B0-AD8F59CDD1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11916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640" y="1650600"/>
            <a:ext cx="807408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 of disposal feasibility for SF, HLW and IL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a site in northern Switzerland (Zürcher Weinl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 to assess radionuclide release and transport:                     A combination of deterministic and probabilistic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stic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 of analyses results in spectrum of con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easy to understand and easy to explain (esp. to non-specialis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unfavourable combinations of parameter values may be  overlo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stic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 take into account combined effects o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ssurance that no unfavourable combinations of parameter values exist that can compromise safe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040" y="803160"/>
            <a:ext cx="77655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77c"/>
                </a:solidFill>
                <a:latin typeface="Arial"/>
              </a:rPr>
              <a:t>Starting point: Safety Case for Project Opalinus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77c"/>
                </a:solidFill>
                <a:latin typeface="Arial"/>
              </a:rPr>
              <a:t>(Entsorgungsnachweis) </a:t>
            </a:r>
            <a:r>
              <a:rPr b="1" lang="en-US" sz="1400" spc="-1" strike="noStrike">
                <a:solidFill>
                  <a:srgbClr val="03577c"/>
                </a:solidFill>
                <a:latin typeface="Wingdings"/>
                <a:ea typeface="Wingdings"/>
              </a:rPr>
              <a:t></a:t>
            </a:r>
            <a:r>
              <a:rPr b="1" lang="en-US" sz="1400" spc="-1" strike="noStrike">
                <a:solidFill>
                  <a:srgbClr val="03577c"/>
                </a:solidFill>
                <a:latin typeface="Arial"/>
              </a:rPr>
              <a:t> Nagra reports NTB 02-05, 02-06, 02-23 (www.nagra.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5C7B-EC71-41A0-896F-CBA98B34D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5160"/>
            <a:ext cx="86043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rministic and Probabilistic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37960" y="752400"/>
            <a:ext cx="3679920" cy="556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77160" y="1219320"/>
            <a:ext cx="75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77160" y="3009960"/>
            <a:ext cx="914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L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5080" y="4838760"/>
            <a:ext cx="87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L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965400" y="752400"/>
            <a:ext cx="3843360" cy="559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262D-EC79-42BC-B245-A62981A47D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65160"/>
            <a:ext cx="72723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A (distributed evolution of dose, CCD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4280" y="762120"/>
            <a:ext cx="3835440" cy="558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77160" y="1219320"/>
            <a:ext cx="75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77160" y="3009960"/>
            <a:ext cx="914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HL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85080" y="4838760"/>
            <a:ext cx="87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LW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114800" y="795240"/>
            <a:ext cx="3692520" cy="556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E86D6-839C-4B18-813B-3DA78936D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740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Project Opalinus Clay (Entsorgungsnachweis):                     Decision to strengthen PSA approach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rt of a PSA development project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1: Pilot Study (see next 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ded in Jul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ions of approach used in Pilot Study: simultaneous and parallel modelling of all relevant phenomena is no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2: Development of a probabilistic approach considering all potentially relevant phenomena (esp. role of g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in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gra participation in PAMINA with this project under the motto      “sharing experie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(starting) point: establish a process to derive a comprehensive list of relevant phenomena to be included in PSA t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: develop and apply PSA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30B01-0A11-47B6-B319-B53FC93A3F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32000" y="1228680"/>
            <a:ext cx="3744720" cy="301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898560"/>
            <a:ext cx="807408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evelop the PSA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manage &amp; run the PSA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the broad range of uncertainties is adequately captured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the scientists directly involved in a clearly 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such a process to derive a comprehensive list of relevant  phenomena to be included in PSA tool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st of “accepted FEPs” for P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tool capable of simultaneously modelling all accepted FEPs and their interactions (ambitious ta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from the start that such a tool may (initially) not run sufficiently fast for large numbers of probabilistic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: if that should turn out to be the case, then the tool could be successively simplified until it runs fast enough for PSA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such an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” benchmarks on the way from “more detailed” to “more simp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effects of simplifications can be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ready running the tool deterministically will yield insights into the effects of simultaneous consideration of all relevant F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8000" y="26352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3809-A715-43A7-82B8-EB06BBEF7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76824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the new tool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507680"/>
            <a:ext cx="860436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77c"/>
                </a:solidFill>
                <a:latin typeface="Arial"/>
              </a:rPr>
              <a:t>Development of a comprehensive list of relevant FEPs to be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ment of a working group for this task (August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ists included experts in safety analysis, radionuclide         transport modelling, gas transport modelling, waste characteristics, geochemistry, geoscienc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identified FEP required special attention, new sub-groups with additional experts were formed to address this FEP, in some cases supported by complementary process modelling (example: FEPs No. 1.5.4: High-pH plume: sealing effect in host rock; No. 1.5.11: High-pH plume: tunnel backfill sealing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expert meetings were held overall (documented in internal n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documented in FEP Screening Report NAB 07-38            (PAMINA RTDC2 Milestone Report M2.2.E.2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89AAD-5A6A-4906-937F-834C32DA7B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79520"/>
            <a:ext cx="82184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for the new too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836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77c"/>
                </a:solidFill>
                <a:latin typeface="Arial"/>
              </a:rPr>
              <a:t>Development of FEP list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wis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 of a broad list of potentially safety-relevant FEPs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6 potentially safety-relevant FE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the potentially safety-relevant FEPs with respect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vance with regard to Swiss repository types &amp; potential host r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 of the effect of the F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dgement whether or not an individual FEP should be included in the list of accepted FEP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2 accepted FEPs to be included in the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77c"/>
                </a:solidFill>
                <a:latin typeface="Arial"/>
              </a:rPr>
              <a:t>Oth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module in the suite of codes three types of requirements were defined before the start of developmen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requirements (related to the accepted F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 requirements (related to data transfer between modu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requirements (related to module perform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934400" y="1908000"/>
            <a:ext cx="298440" cy="330480"/>
          </a:xfrm>
          <a:custGeom>
            <a:avLst/>
            <a:gdLst>
              <a:gd name="textAreaLeft" fmla="*/ 19080 w 298440"/>
              <a:gd name="textAreaRight" fmla="*/ 279360 w 298440"/>
              <a:gd name="textAreaTop" fmla="*/ 19080 h 330480"/>
              <a:gd name="textAreaBottom" fmla="*/ 311400 h 330480"/>
            </a:gdLst>
            <a:ahLst/>
            <a:rect l="textAreaLeft" t="textAreaTop" r="textAreaRight" b="textAreaBottom"/>
            <a:pathLst>
              <a:path w="21600" h="23916">
                <a:moveTo>
                  <a:pt x="0" y="0"/>
                </a:moveTo>
                <a:lnTo>
                  <a:pt x="21600" y="0"/>
                </a:lnTo>
                <a:lnTo>
                  <a:pt x="21600" y="23916"/>
                </a:lnTo>
                <a:lnTo>
                  <a:pt x="0" y="23916"/>
                </a:lnTo>
                <a:close/>
              </a:path>
              <a:path fill="lightenLess" w="21600" h="239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6">
                <a:moveTo>
                  <a:pt x="21600" y="0"/>
                </a:moveTo>
                <a:lnTo>
                  <a:pt x="21600" y="23916"/>
                </a:lnTo>
                <a:lnTo>
                  <a:pt x="20200" y="22516"/>
                </a:lnTo>
                <a:lnTo>
                  <a:pt x="20200" y="1400"/>
                </a:lnTo>
                <a:close/>
              </a:path>
              <a:path fill="darkenLess" w="21600" h="23916">
                <a:moveTo>
                  <a:pt x="21600" y="23916"/>
                </a:moveTo>
                <a:lnTo>
                  <a:pt x="0" y="23916"/>
                </a:lnTo>
                <a:lnTo>
                  <a:pt x="1400" y="22516"/>
                </a:lnTo>
                <a:lnTo>
                  <a:pt x="20200" y="22516"/>
                </a:lnTo>
                <a:close/>
              </a:path>
              <a:path fill="lighten" w="21600" h="23916">
                <a:moveTo>
                  <a:pt x="0" y="239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6"/>
                </a:lnTo>
                <a:close/>
              </a:path>
              <a:path fill="darken" w="21600" h="23916">
                <a:moveTo>
                  <a:pt x="3794" y="4952"/>
                </a:moveTo>
                <a:lnTo>
                  <a:pt x="17806" y="11958"/>
                </a:lnTo>
                <a:lnTo>
                  <a:pt x="3794" y="1896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4202-C4C1-4581-9E39-B9676695D0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Bearbeiter 1</cp:lastModifiedBy>
  <dcterms:modified xsi:type="dcterms:W3CDTF">2009-09-30T06:08:27Z</dcterms:modified>
  <cp:revision>133</cp:revision>
  <dc:subject/>
  <dc:title>Folie 1</dc:title>
</cp:coreProperties>
</file>