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B818E-953E-4BAE-A759-7AEA35E1A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863E1-3690-4EB7-82A4-055F55328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FF05C-1C26-40C0-B313-8D6DBE688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A868-FD15-4718-9689-F2C4DA7A3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F763-9C39-443E-902F-3C7097202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FA374-1822-4917-BD05-4F832A7D84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15ED-280A-4595-8A5C-D25A6A7FE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5DBE7-35A4-4801-8423-C85A841B4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D4284-3E32-4B4D-809D-1C8A4DEA7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5F6D-2785-4D39-B5DE-37F66E265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8D13C-0600-4433-822F-E4FEC6310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7C0CB-4FDA-4B06-BE7C-F3C8A2BE7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17C7-F6CB-4763-9321-D31D6343C6B7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08360" y="2781360"/>
            <a:ext cx="201600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835280" y="2781360"/>
            <a:ext cx="1765080" cy="126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50920" y="1486080"/>
            <a:ext cx="633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b4cce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MINA</a:t>
            </a:r>
            <a:endParaRPr b="0" lang="en-US" sz="1800" spc="1" strike="noStrike">
              <a:ln w="28440">
                <a:solidFill>
                  <a:srgbClr val="b4cce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50920" y="4389480"/>
            <a:ext cx="8353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abilistic Safet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PSA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78120" y="5727600"/>
            <a:ext cx="56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sé Luis Cormenzana (Enresa)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880" y="533520"/>
            <a:ext cx="84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Workshop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henkammer (Germany) 28-30 September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 per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volvement of ENRESA in PAMINA Task 2.2.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a simplified PSA of the Swiss disposal concept in clay,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oldSim to create the model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df´s provided by Nagra/Cole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ison with the results obtained by Nagra (GoldSim/Toolb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ve different wastes are consider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nt Fuel (S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gema HL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NFL HL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L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LW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D and 1D models are used and the results comp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FF96-69C5-4180-80CC-6F56D76214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D transport model in the simplified P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06880" y="1197000"/>
            <a:ext cx="5317920" cy="5413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9640" y="2276640"/>
            <a:ext cx="295272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ntonite and clay are discret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97 “mixing cells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cesses consider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r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ion ex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ioactive decay/ingrow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4E8D4-F235-43C6-BF01-2BCDF9393B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s for all the w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812000" cy="48560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ak doses are controlled by 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ortant contribution of ILW1 at early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F0E3-8135-4C9A-9A53-2BB906D0B4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ison with Nagra/Colenco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532320" y="1103400"/>
            <a:ext cx="4902120" cy="3041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554280" y="3787920"/>
            <a:ext cx="4680000" cy="3055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34560" y="450864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mplified P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20240" y="1762200"/>
            <a:ext cx="199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gra/Colenco P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3429000"/>
            <a:ext cx="28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milar results are obtain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both models (1000 runs each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1102-7AA7-4EF2-A9FD-A9A3763CD7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F, effect of the number of 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080480" cy="4400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different calculations with 1000 runs (case 1 to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same model is used - only the parameter sampling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ses are nearly overlappe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→ 1000 runs are en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38F70-14E5-41D9-805F-62BB513C51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F, correlation with the peak d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relation coefficients obtained in the Simplified PSA are similar to those obtained in Nagra/Colenco 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616200"/>
            <a:ext cx="41306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00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Darcy velocity in 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Instant Release Fraction of Io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Sorption Coefficient of Io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Diffusion coefficient of Opalinus 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Transport path length in Opali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3280" y="2708280"/>
            <a:ext cx="261936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483680" y="316404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0.5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83680" y="37926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0.3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408080" y="44226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-0.3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83680" y="50529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0.3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08080" y="56833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-0.1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65880" y="227664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mpl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2880" y="2492280"/>
            <a:ext cx="22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gra/Colenco P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A287-8412-4A59-8CE4-476904AC72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s with 1D and 2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 with 1D and 2D models are sim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D model leads to earlier releases and slightly higher peak d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7731360" cy="480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46393-6AC0-443A-A506-D1C7E1CFC7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agreement between the results of the GoldSim/Toolbox model and the simplified GoldSim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ulated doses are sim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ame input parameters are identified as relevant for the peak d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00 runs are enough to obtain the time evolution of the mean dose with pr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ntime is about 4 hours in a powerful PC (4 c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D and 2D simplified models produce simila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D model is conservative (earlier releases and higher peak do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B5707-5B92-40E9-A67A-7945859A5C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1:56:47Z</dcterms:created>
  <dc:creator>Jörg Mönig</dc:creator>
  <dc:description/>
  <dc:language>en-US</dc:language>
  <cp:lastModifiedBy>JCOL</cp:lastModifiedBy>
  <dcterms:modified xsi:type="dcterms:W3CDTF">2009-09-25T09:29:47Z</dcterms:modified>
  <cp:revision>122</cp:revision>
  <dc:subject/>
  <dc:title>Folie 1</dc:title>
</cp:coreProperties>
</file>