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3D5A-0804-406F-B59A-72D2D9BD9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58AA-5EEA-43DD-BE60-5E452A50D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7C41-2FA8-401E-AA36-6B6688372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C78D-1A29-4B63-8FBC-BC13753D4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9E40-CC75-4A97-9F62-A55E1DC92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024D-F7F2-410A-AF7E-0ADA9605E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1E77-9F10-4DFA-BEE4-1DABD50C4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0F3C-2B36-490B-BFAA-44DB9A685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E965-38B4-4BBB-A629-ED4514DAE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DDB1-BB2F-40F7-8E95-C06D86987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50B1-D22B-4BD4-BCD1-D583EEE79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9613-17B5-4F9D-9551-B53C25A1A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MINA Final Workshop (Hohenkammer, September 20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F4F-6F51-4BA3-BD1D-D12F2922473B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4419360"/>
            <a:ext cx="777744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unicating Safety –  Experience from EC (and National) Pro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niel Galson and Phil Richard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lson Sciences Ltd (GS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MINA Final Workshop (Hohenkammer, September 200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proaches Used in 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volving Stakeholders In Designing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arch themes identified by the NS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ffected communities and sustainable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ucturing local communities and development of local democr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-term issues for sustainable governance of radwaste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8000"/>
                </a:solidFill>
                <a:latin typeface="Arial"/>
              </a:rPr>
              <a:t>The research topics have dealt with (inter alia) socio-economic issues, retrievability, and decision-making processes… little consideration of environmental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8000"/>
                </a:solidFill>
                <a:latin typeface="Arial"/>
              </a:rPr>
              <a:t>Stakeholder involvement in designing research and discussing results has developed NSG understanding of governance issu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8000"/>
                </a:solidFill>
                <a:latin typeface="Arial"/>
              </a:rPr>
              <a:t>Involvement of developers and regulators in the NSGs has helped develop mutual trust and confi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5038-3B8B-4D51-B629-5365F3662F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Discussion: Public Concer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PAMINA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at are the short-term impact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at happens if something goes wro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n you go back in and recover the wast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you know if the geology is saf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can you have confidence in long-term modelli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can you predict long-term climate chang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CIP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ns for monitoring and retrievabil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ucture of community benefit plan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at is an affected commun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public mind, safety is often about what WILL affect me, my family, my neighbo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port, construction, operational imp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ss about what MIGHT impact society in the far fu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7C61-9149-4FB6-B868-CC03BC4C7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should be “Communicated to” Publi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builds trus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s of “soft” mess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ern-driven risk management (versus “risk-informed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tening cul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ty involvement in defining research program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wise programme development - processes of concern are slow – we will monitor and there is time to act if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ong and independent regulator acting on behalf of the public, and deciding based on application of well-justified regulatory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be limited interest in long-term safety assessment and calculated do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DD2C-59A3-46F9-811C-081271C4F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unicating Safety to Lay Audi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mall group one-on-one discussions, as opposed to larger, more impersonal public meetings …or written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y not be read and unlikely to fundamentally change pre-existing 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messenger (= an individual) is trusted, the message is more likely to be accepted, even if the institution is not fully tru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int fact-finding or information-gathering panels involving developer and community personnel –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fluence an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635D-AACF-4CE7-B057-567394F573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Com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ng safety and demonstrating safety are totally differ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 projects are helping to improve communication processe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must take account of national cultural background – which influences levels of trust in institutions an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olvement of stakeholders in identifying and addressing issues of concern helps develop mutual trust and understanding… and aids decision-ma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y safety messages should be tested using several formats, including relative measures of safety / risk and analog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ocuments prepared for regulators are unlikely to aid public understand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es tested in EC projects offer promise in developing trust - an important foundation to effective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GONA reports late 2009; CIP reports earl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ference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Richardson PJ and Galson DA (2009). How to communicate safety? Som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reflections from European project studies. In: Proceedings of VALDOR 09,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tockholm, Sweden, 9-11 June 2009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4348-2CD3-4BF1-8E49-0AF9DC77CF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 and issues to be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 projects consid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M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GO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roaches an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 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298E-EF09-41F5-99E9-43487C412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have some attempts to site facilities fail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of Decide-Announce-Defend leads to NIMBY, with local communities uncertain and ill-inform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movement towards openness, transpar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ent EC-supported projects have examined issues of governance, decision-making, and community invol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in several EC projects has helped to explore different approaches to communicating about safe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s paper introduces some of these projects, and gives results and wider thou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 here is on communication with lay audi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AC8C-63AD-4273-8FAA-69FDF2063E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the concept of safety assessment itself misunderstood?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e safety assessments just used to legitimise unacceptable risk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certainty – taken to mean “insufficient knowledge”, whereas the developer knows it will always be there and can be “managed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public are unable to understand the technology or the assessment process that has been applied, the tendency is not to trust the resu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an organisation is not trusted, then the legitimacy of the whole process will be questioned, and public may object that real risks are not being consid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at should be communicat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public feel that safety assessments do not address their real concerns, then what are these, and how should they be address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w should it be communicated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can the safety assessment process, and inherent uncertainties be communicated in a way that will engender public confidenc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w can trust be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ch of the concern expressed by public stakeholders is associated with a lack of trust in both the technology and the organisations invol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y is this the case and how can it be overco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76F9-5E9F-47FD-8612-F8C8F83FF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MINA (Task 2.1.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ipants: GSL, JRC and NDA (lea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into the effectiveness of different methods for communicating PA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carried out inclu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on of approaches for communicating about confidence and uncertainty in PA via a stakeholder workshop and a suite of broch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Lucy Bailey (NDA) - Communicating to Lay Aud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of approaches for communicating PA information to technical aud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Ricardo Bolado (JRC) - Communicating to Technical Aud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DAF2-91C9-4111-A6AA-A093F6ABB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GONA (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nas for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k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G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er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N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ipants: GSL, JRC, plus other partners from Belgium, Czech Republic, Norway, Finland, Slovakia, Sweden, U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ms to demonstrate how transparency and public participation can be achieved in radioactive waste management programmes as part of a process of effective risk gover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programme inclu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on of methods for communicating the results of safety assessments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- considers lessons from PAMINA</a:t>
            </a:r>
            <a:r>
              <a:rPr b="1" i="1" lang="en-GB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Task 2.1.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on of approaches to risk communication through interviews and focus group discu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E7AC-E1A4-4157-8B33-926C66ABE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P (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wam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cti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assist participating countries to make progress in the national governance of radioactive waste management, and to increase societal awareness of, and accountability for, radioactive wast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‘Methodological Task Force’ (MTF) prepares research briefs on issues identified by National Stakeholder Groups (NSG) in France, Romania, Slovenia, Spain and the 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earch briefs are presented to the relevant NSGs for discussion and iterative lea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The NSGs were involved in assessing the PAMINA brochures on communicating about safe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9D2E-FF88-466D-BAA3-0CFB78A35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proaches and Results - ARGO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mmunicating about Safety and Uncertain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imilar approach to PAMINA, presenting PA results in different ways to international groups of experts and other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Information should be made available at different levels of detail depending on the target aud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68440" y="3846600"/>
            <a:ext cx="4436640" cy="2633760"/>
            <a:chOff x="4168440" y="3846600"/>
            <a:chExt cx="4436640" cy="2633760"/>
          </a:xfrm>
        </p:grpSpPr>
        <p:sp>
          <p:nvSpPr>
            <p:cNvPr id="101" name=""/>
            <p:cNvSpPr/>
            <p:nvPr/>
          </p:nvSpPr>
          <p:spPr>
            <a:xfrm>
              <a:off x="4516920" y="3899160"/>
              <a:ext cx="4083840" cy="2066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16920" y="566964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6920" y="537516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6920" y="507924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6920" y="478368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920" y="448884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6920" y="419328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6920" y="389916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16920" y="3899160"/>
              <a:ext cx="4083840" cy="206640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62000" y="5521680"/>
              <a:ext cx="291240" cy="44388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45920" y="5448240"/>
              <a:ext cx="291240" cy="51696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8760" y="5596560"/>
              <a:ext cx="291240" cy="36900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13040" y="4046760"/>
              <a:ext cx="291240" cy="19184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95880" y="5360400"/>
              <a:ext cx="291240" cy="60516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80160" y="5920920"/>
              <a:ext cx="291240" cy="446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16920" y="3899160"/>
              <a:ext cx="0" cy="206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8480" y="59655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88480" y="566964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88480" y="53751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88480" y="507924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8480" y="478368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88480" y="448884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88480" y="419328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88480" y="38991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6920" y="5965560"/>
              <a:ext cx="4083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51692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9976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68404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26688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85080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43400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01792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00760" y="5965200"/>
              <a:ext cx="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98840" y="5913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25760" y="56174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5760" y="5322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5760" y="50270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5760" y="47325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98840" y="44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5760" y="41425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5760" y="38466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9760" y="604296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smi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99000" y="6155280"/>
              <a:ext cx="42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adi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3520" y="6262920"/>
              <a:ext cx="45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Sunshine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29360" y="6042960"/>
              <a:ext cx="32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6155280"/>
              <a:ext cx="42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adi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7880" y="6262920"/>
              <a:ext cx="43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Ground &amp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9680" y="6373440"/>
              <a:ext cx="42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uilding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7880" y="604296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na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5400" y="61552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Food a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48920" y="6262920"/>
              <a:ext cx="25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rink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23480" y="60429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ad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0320" y="6042960"/>
              <a:ext cx="34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edica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0760" y="61552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X-ray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24720" y="6042960"/>
              <a:ext cx="40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ir Trav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3761280" y="4856760"/>
              <a:ext cx="93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ual Dose (mSv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5120" y="5925240"/>
              <a:ext cx="4089960" cy="2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86360" y="5311080"/>
              <a:ext cx="79920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2160" y="5363280"/>
              <a:ext cx="72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egulatory Dos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53480" y="54738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rge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1920" y="5626440"/>
              <a:ext cx="37080" cy="294480"/>
            </a:xfrm>
            <a:custGeom>
              <a:avLst/>
              <a:gdLst/>
              <a:ahLst/>
              <a:rect l="l" t="t" r="r" b="b"/>
              <a:pathLst>
                <a:path w="25" h="197">
                  <a:moveTo>
                    <a:pt x="16" y="0"/>
                  </a:moveTo>
                  <a:lnTo>
                    <a:pt x="16" y="176"/>
                  </a:lnTo>
                  <a:lnTo>
                    <a:pt x="9" y="176"/>
                  </a:lnTo>
                  <a:lnTo>
                    <a:pt x="9" y="0"/>
                  </a:lnTo>
                  <a:lnTo>
                    <a:pt x="16" y="0"/>
                  </a:lnTo>
                  <a:close/>
                  <a:moveTo>
                    <a:pt x="25" y="172"/>
                  </a:moveTo>
                  <a:lnTo>
                    <a:pt x="13" y="197"/>
                  </a:lnTo>
                  <a:lnTo>
                    <a:pt x="0" y="172"/>
                  </a:lnTo>
                  <a:lnTo>
                    <a:pt x="25" y="1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55640" y="3933720"/>
            <a:ext cx="3456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270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Relative safety and risk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measures are helpful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in presenting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uncertainty and risk to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lay aud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7F31-55D6-4EF6-B634-EF5FEF1AA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pproaches and Results - ARGO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veloping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views and group discussions with regulators, implementers, local authorities and NGOs in a range of European countries – explored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les in communicating risk and reassuring the public regarding safe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der roles within the national waste management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ach organisations ability to influence existing and plann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national history and cultural setting affects public trust in national organis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8000"/>
                </a:solidFill>
                <a:latin typeface="Arial"/>
              </a:rPr>
              <a:t>There are significant variations between countrie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risk communication processes could be improved in order to increase trust in organisations and understanding amongst the publ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Consensus (in the UK at least) on the value of face-to-face interactions in developing trust in individuals and organis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7658-6F7D-462A-BD34-1958C28CF0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0:12:27Z</dcterms:created>
  <dc:creator>Dr. Daniel A. Galson</dc:creator>
  <dc:description/>
  <dc:language>en-US</dc:language>
  <cp:lastModifiedBy>Daniel A Galson</cp:lastModifiedBy>
  <dcterms:modified xsi:type="dcterms:W3CDTF">2009-09-28T22:18:59Z</dcterms:modified>
  <cp:revision>135</cp:revision>
  <dc:subject/>
  <dc:title>RTDC-2 status Sept. 2008</dc:title>
</cp:coreProperties>
</file>