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92913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480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668160" y="755640"/>
            <a:ext cx="5462640" cy="37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6480" y="4789440"/>
            <a:ext cx="498168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577080"/>
            <a:ext cx="294480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49840" y="9577080"/>
            <a:ext cx="2944800" cy="5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CD9C03-75AA-4C7E-B1E1-2C8A11D1613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668160" y="755640"/>
            <a:ext cx="5462640" cy="3782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89440"/>
            <a:ext cx="498168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LACE, DATE AND EVEN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1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ess the slide-set place, date and event name text box beneath the JRC logo from the Slide Mas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o not change the size nor the position of that text b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Replace the mock-up texts for the place (“Place”), the date (“dd Month YYYY”) and the event name (“Event Name”) with your own tex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4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it in MetaPlus Book Roman, if you own the typeface. Otherwise, keep the original typeface – Ari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5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lush-left justific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6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ont colour (white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Keep the original font body size (7 pt) and the text on one single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SLID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1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lide number on the banner’s lower right-hand side is automatically genera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LI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uplicate the first slide as need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o not change the size nor the position of the slide’s text b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3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ry not to place more text on each slide than will fit in the given text b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4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place the mock-up heading text (“Joint Research Centre (JRC)”) with your own text head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5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it in Eurostile Bold Extended Two or in Helvetica Rounded Bold Condensed, if you own one of these typefaces. Otherwise, keep the original typeface – Ari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6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lush-left justific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7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ont colour (100c 80m 0y 0k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8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Keep the original font body size (28 pt) and the heading on one single line whenever possible. Reduce the font body size if need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9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place the mock-up text (“The European Commission’s Research-Based Policy Support Organisation)”) with your own tex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0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it in MetaPlus Book Roman, if you own the typeface. Otherwise, keep the original typeface – Ari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1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lush-left justific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2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ont colour (100c 80m 0y 0k). Use black if you need a second colou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3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Keep the original font body size (22 pt) or reduce it if unavoid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4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place the EU-27 map mock-up illustration with your own illustration(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3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ry to keep your illustration(s) right- and top- or bottom-aligned with the main text box whenever possi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317600" cy="550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1440" y="760320"/>
            <a:ext cx="9905760" cy="149400"/>
          </a:xfrm>
          <a:prstGeom prst="rect">
            <a:avLst/>
          </a:prstGeom>
          <a:solidFill>
            <a:srgbClr val="0f3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4560" y="776160"/>
            <a:ext cx="719784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henkammer, September 28</a:t>
            </a:r>
            <a:r>
              <a:rPr b="0" lang="en-US" sz="7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th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– 30</a:t>
            </a:r>
            <a:r>
              <a:rPr b="0" lang="en-US" sz="7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th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, 2009 – PAMINA final workshop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31160" y="784080"/>
            <a:ext cx="1325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737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2D7937A4-61A7-409E-99B5-09859779F044}" type="slidenum">
              <a:rPr b="0" lang="en-US" sz="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144000" y="9036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5" name="pamina-logo" descr=""/>
          <p:cNvPicPr/>
          <p:nvPr/>
        </p:nvPicPr>
        <p:blipFill>
          <a:blip r:embed="rId4"/>
          <a:stretch/>
        </p:blipFill>
        <p:spPr>
          <a:xfrm>
            <a:off x="7543800" y="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30040">
              <a:spcBef>
                <a:spcPts val="476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52320" y="1305000"/>
            <a:ext cx="85996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3600" spc="-1" strike="noStrike">
                <a:solidFill>
                  <a:srgbClr val="0f3277"/>
                </a:solidFill>
                <a:latin typeface="Arial"/>
                <a:ea typeface="Times New Roman"/>
              </a:rPr>
              <a:t>Recommendations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3600" spc="-1" strike="noStrike">
                <a:solidFill>
                  <a:srgbClr val="0f3277"/>
                </a:solidFill>
                <a:latin typeface="Arial"/>
                <a:ea typeface="Times New Roman"/>
              </a:rPr>
              <a:t>communicating abo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3600" spc="-1" strike="noStrike">
                <a:solidFill>
                  <a:srgbClr val="0f3277"/>
                </a:solidFill>
                <a:latin typeface="Arial"/>
                <a:ea typeface="Times New Roman"/>
              </a:rPr>
              <a:t>uncertainties to 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3600" spc="-1" strike="noStrike">
                <a:solidFill>
                  <a:srgbClr val="0f3277"/>
                </a:solidFill>
                <a:latin typeface="Arial"/>
                <a:ea typeface="Times New Roman"/>
              </a:rPr>
              <a:t>commu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800" spc="-1" strike="noStrike">
                <a:solidFill>
                  <a:srgbClr val="0f3277"/>
                </a:solidFill>
                <a:latin typeface="Arial"/>
                <a:ea typeface="Times New Roman"/>
              </a:rPr>
              <a:t>R. Bolado &amp; A. Ba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800" spc="-1" strike="noStrike">
                <a:solidFill>
                  <a:srgbClr val="0f3277"/>
                </a:solidFill>
                <a:latin typeface="Arial"/>
                <a:ea typeface="Times New Roman"/>
              </a:rPr>
              <a:t>JRC-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i="1" lang="en-US" sz="1800" spc="-1" strike="noStrike">
                <a:solidFill>
                  <a:srgbClr val="0f3277"/>
                </a:solidFill>
                <a:latin typeface="Arial"/>
                <a:ea typeface="Times New Roman"/>
              </a:rPr>
              <a:t>http://www.jrc.n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8440" y="1305000"/>
            <a:ext cx="1933560" cy="195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209240" y="0"/>
            <a:ext cx="3352680" cy="5932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LACE, DATE AND EVENT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1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ess the slide-set place, date and event name text box beneath the JRC logo from the Slide Mas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o not change the size nor the position of that text b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Replace the mock-up texts for the place (“Place”), the date (“dd Month YYYY”) and the event name (“Event Name”) with your own tex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4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it in MetaPlus Book Roman, if you own the typeface. Otherwise, keep the original typeface – Ari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5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lush-left justific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6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ont colour (white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Keep the original font body size (7 pt) and the text on one single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SLID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1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lide number on the banner’s lower right-hand side is automatically genera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LI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uplicate the first slide as need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o not change the size nor the position of the slide’s text b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3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ry not to place more text on each slide than will fit in the given text b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4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place the mock-up heading text (“Joint Research Centre (JRC)”) with your own text head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5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it in Eurostile Bold Extended Two or in Helvetica Rounded Bold Condensed, if you own one of these typefaces. Otherwise, keep the original typeface – Ari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6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lush-left justific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7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ont colour (100c 80m 0y 0k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8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Keep the original font body size (28 pt) and the heading on one single line whenever possible. Reduce the font body size if need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9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place the mock-up text (“The European Commission’s Research-Based Policy Support Organisation)”) with your own tex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0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it in MetaPlus Book Roman, if you own the typeface. Otherwise, keep the original typeface – Ari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1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lush-left justific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2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the original font colour (100c 80m 0y 0k). Use black if you need a second colou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3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Keep the original font body size (22 pt) or reduce it if unavoid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4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place the EU-27 map mock-up illustration with your own illustration(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3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ry to keep your illustration(s) right- and top- or bottom-aligned with the main text box whenever possi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2914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Non-time dependent variables (S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868680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Non-time dependent variables (S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SM_timetopeak" descr=""/>
          <p:cNvPicPr/>
          <p:nvPr/>
        </p:nvPicPr>
        <p:blipFill>
          <a:blip r:embed="rId1"/>
          <a:stretch/>
        </p:blipFill>
        <p:spPr>
          <a:xfrm>
            <a:off x="1143000" y="965160"/>
            <a:ext cx="78487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Time dependent variables (U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evol_unc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Time dependent variables (U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evol_quan" descr=""/>
          <p:cNvPicPr/>
          <p:nvPr/>
        </p:nvPicPr>
        <p:blipFill>
          <a:blip r:embed="rId1"/>
          <a:stretch/>
        </p:blipFill>
        <p:spPr>
          <a:xfrm>
            <a:off x="685800" y="965160"/>
            <a:ext cx="78487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Time dependent variables (U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evol_skew" descr=""/>
          <p:cNvPicPr/>
          <p:nvPr/>
        </p:nvPicPr>
        <p:blipFill>
          <a:blip r:embed="rId1"/>
          <a:stretch/>
        </p:blipFill>
        <p:spPr>
          <a:xfrm>
            <a:off x="0" y="914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48160" y="23716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evol_kurtosis" descr=""/>
          <p:cNvPicPr/>
          <p:nvPr/>
        </p:nvPicPr>
        <p:blipFill>
          <a:blip r:embed="rId2"/>
          <a:stretch/>
        </p:blipFill>
        <p:spPr>
          <a:xfrm>
            <a:off x="4495680" y="2787480"/>
            <a:ext cx="54104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Time dependent variables (U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unc_seistiempos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Time dependent variables (U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xplot_seistiempos" descr=""/>
          <p:cNvPicPr/>
          <p:nvPr/>
        </p:nvPicPr>
        <p:blipFill>
          <a:blip r:embed="rId1"/>
          <a:stretch/>
        </p:blipFill>
        <p:spPr>
          <a:xfrm>
            <a:off x="990720" y="965160"/>
            <a:ext cx="78483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Time dependent variables (U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2026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Time dependent variables (S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regtime-linear" descr=""/>
          <p:cNvPicPr/>
          <p:nvPr/>
        </p:nvPicPr>
        <p:blipFill>
          <a:blip r:embed="rId1"/>
          <a:stretch/>
        </p:blipFill>
        <p:spPr>
          <a:xfrm>
            <a:off x="0" y="9144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regtime-rank" descr=""/>
          <p:cNvPicPr/>
          <p:nvPr/>
        </p:nvPicPr>
        <p:blipFill>
          <a:blip r:embed="rId2"/>
          <a:stretch/>
        </p:blipFill>
        <p:spPr>
          <a:xfrm>
            <a:off x="4572000" y="2852640"/>
            <a:ext cx="5334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Time dependent variables (S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09960" y="1971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evol_cr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937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 Narrow"/>
              </a:rPr>
              <a:t>Target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: generate a template to communicate results obtained from the UA and SA for time-dependent and non time-dependent output varib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lection of UA statistics and SA techniq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he idea is to generate sytematically this information for all relevant output variables. It will help getting further infomation via focused UA and SA analysis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281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Case stud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049640" y="609480"/>
          <a:ext cx="58564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9640" y="609480"/>
                    <a:ext cx="58564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panish reference concept in granit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Dose rates due to </a:t>
            </a:r>
            <a:r>
              <a:rPr b="0" lang="es-ES_tradnl" sz="2600" spc="-1" strike="noStrike" baseline="30000">
                <a:solidFill>
                  <a:srgbClr val="000000"/>
                </a:solidFill>
                <a:latin typeface="Arial Narrow"/>
              </a:rPr>
              <a:t>129</a:t>
            </a: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352520" indent="-43812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52520" indent="-43812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eak do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52520" indent="-43812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Time to peak do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Non-time dependent variables (UA)_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62120" y="990720"/>
          <a:ext cx="8076960" cy="164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7696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eak_ecdf" descr=""/>
          <p:cNvPicPr/>
          <p:nvPr/>
        </p:nvPicPr>
        <p:blipFill>
          <a:blip r:embed="rId3"/>
          <a:stretch/>
        </p:blipFill>
        <p:spPr>
          <a:xfrm>
            <a:off x="0" y="30862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imetopeak_ecdf" descr=""/>
          <p:cNvPicPr/>
          <p:nvPr/>
        </p:nvPicPr>
        <p:blipFill>
          <a:blip r:embed="rId4"/>
          <a:stretch/>
        </p:blipFill>
        <p:spPr>
          <a:xfrm>
            <a:off x="4876920" y="3081240"/>
            <a:ext cx="5029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Non-time dependent variables (UA)_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eak_timetopeak" descr=""/>
          <p:cNvPicPr/>
          <p:nvPr/>
        </p:nvPicPr>
        <p:blipFill>
          <a:blip r:embed="rId1"/>
          <a:stretch/>
        </p:blipFill>
        <p:spPr>
          <a:xfrm>
            <a:off x="990720" y="928800"/>
            <a:ext cx="79246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Non-time dependent variables (S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965160"/>
          <a:ext cx="87328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65160"/>
                    <a:ext cx="87328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Non-time dependent variables (S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obweb_peak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3277"/>
                </a:solidFill>
                <a:latin typeface="Arial Narrow"/>
              </a:rPr>
              <a:t>Non-time dependent variables (SA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SM_PEAK" descr=""/>
          <p:cNvPicPr/>
          <p:nvPr/>
        </p:nvPicPr>
        <p:blipFill>
          <a:blip r:embed="rId1"/>
          <a:stretch/>
        </p:blipFill>
        <p:spPr>
          <a:xfrm>
            <a:off x="914400" y="907920"/>
            <a:ext cx="79246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 Narrow"/>
              </a:rPr>
              <a:t>Peak annual dos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24400" y="2357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3844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7160" bIns="-47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28800" y="974880"/>
            <a:ext cx="670572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9:39:28Z</dcterms:created>
  <dc:creator>European Commission - Joint Research Centre - IEC Unit</dc:creator>
  <dc:description>© European Communities, 2007</dc:description>
  <dc:language>en-US</dc:language>
  <cp:lastModifiedBy>Boladri</cp:lastModifiedBy>
  <cp:lastPrinted>2003-10-28T09:05:55Z</cp:lastPrinted>
  <dcterms:modified xsi:type="dcterms:W3CDTF">2009-09-30T11:10:50Z</dcterms:modified>
  <cp:revision>248</cp:revision>
  <dc:subject>JRC Corporate Image Toolkit</dc:subject>
  <dc:title>Slide_template_IE.ppt</dc:title>
</cp:coreProperties>
</file>